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60C3DF6-67F8-4CF7-B585-83273A24A3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letten, poffen, wal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DAMAY, LATEN WE DEZE BV MEETELLEN ALS 10 PUNTEN VOOR EEN TO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5AB-E583-4CB6-9A82-B87EA440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489-AB29-42C4-B84F-34261D4C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F7C-AAF4-4C32-8DF4-BA1D88F1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F4B-AC71-4C5F-92F1-423CAE5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D8E-45A2-4428-B96E-DEC6513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307-70AB-4440-9CD3-415CEBA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BBD-423B-4507-A465-3B7D79E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21D-698B-4183-9288-EF37B99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0FB-7E79-45B9-BC32-DAE1F76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DC5-E7EE-4E87-8502-10BC03B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4C3-E43D-474F-9851-974921F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CDA-9276-4D1E-9F9C-0074212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EEE-297B-432E-B5FC-825613240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4 Soorten 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Kracht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en meng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anvulling op ruw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ijk de samenstelling op het et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1125360"/>
            <a:ext cx="247680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1871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Ingrediënten worden behandeld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 om ze beter verteerbaar te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er verteerb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doorlopen zetmeel naar dikke darm hoefbevangenheid en koliek vermi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te dood schimmels, bacteriën en gaat vervuiling t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ken voorkomen uitzo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r lang kauwen dus minder speeksel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en, mineralen en eiwitten door verhitting aanget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tiketten en Analyse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chtvoer heeft een et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wvoer moet je laten analy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Opdrach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opdracht 2.2 (blz. 37) m.b.v. je meegenomen etik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 deze opdracht de volgende l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12:01:19Z</dcterms:modified>
  <cp:revision>41</cp:revision>
  <dc:subject/>
  <dc:title>PowerPoint-presentatie</dc:title>
</cp:coreProperties>
</file>