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D689C89-04B7-4BC9-AD38-CFCEE0A646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rte intensief, snel energie nodig, di gebeurd zonder zuurstof.  = melkz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mplexe kh en vetten = ruwvoer en beetje olieirijk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R UFC en Engeland en DUI Mega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tering, wat wordt waar afgebroken en opgen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Wpa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de gift mag naar boven of naar bene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ximaal 15 procent afwijken van de behoef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ls een paard een goede lichaamsconditie he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n goed werkt, is een grotere afwijking geen probl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meeste rantsoenberekeningen w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daan om een probleem op te lossen. Zoals 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rder gezien hebt zijn de hoeveelheid structuur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en zetmeel belangrij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de Ewpa balans. Overweeg m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 te geven als dit boven de behoeft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VREp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houd er rekening mee dat de eiwitt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 gemakkelijker beschikbaar zijn v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paard dan die in ruwvoer als de waarde b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behoefte zit. Een paard kan hoge wa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l goed aan. Als de waarde meer dan 20 pro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der de behoefte zit, moet je meer eiwit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er ge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Mineral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als er te weinig calcium (Ca), fosfor (P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gnesium (Mg) en natrium (Na) is, dus m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20 procent onder de behoefte, moet je 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upplement bijvoeren. Voor werkende en groei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en moet er voldoende koper (Cu) en z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Zn) in het voer zitten. De hoeveelheid zink m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oit meer zijn dan 20 procent boven de behoef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 veulens moet je op z’n minst 100 pro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n de koperbehoefte geven. Controlee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houding tussen calcium en fosfor. Deze ho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geveer 2:1 te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mid 2 % = eigenlijk tussen 1,6 en 2,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2/84 is voor % weg te werke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2/ 0.84 kan 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nalyseren voor mineralen, vitamin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9DA-1440-439D-90ED-C60F860D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BA3-9960-4D9C-AA73-8091D1E3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B0E-8207-4B2A-B6CD-D7C208A1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95E-5007-4A56-9D07-A5F275B1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C46-1EDA-4F26-B0D2-0AFAAD0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B7A-54B8-42BC-A646-8452ACA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3CC-D7EF-47B7-95A4-D43A483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1DB-B800-4B8D-8BB4-AE55961D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8E4-1D6E-4E02-A52F-BB336DB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E16-C2A5-489B-86A9-A391D131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364-58CB-4D71-8FAE-6A366C1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69D-0ECE-4BCD-979B-C81A0F3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7755-ED24-4514-9F61-3E7F774B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7 Voeren in de Prakt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 in spier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beweging is energie no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rgie voor korte intensieve inspanning = Zetmeel, suikers (K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rgie voor langdureige arbeid = complexe koolhydraten en ve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Rantsoen samenstellen?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moet je allemaal we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ergiebehoefte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ergieaanbod in 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voor werk het paard d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lk ruwvoer en welk krachtvoer het paard nodig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ingsbehoefte wordt uitgedrukt in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rantso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palen energie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oefte energie is niet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ining   gr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ragende mer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lkproductie mer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195640" y="378900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860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45880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sbehoef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goed alle energie in het voer wordt gebruikt hangt af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ype vo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ring van het pa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L eenheid EWpa (Energie Waarde Pa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L eenheid VREp (verteerbaar ruweiwit pa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1 VREp = 0.013 EW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5518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Hoeveel kg moet het paard eten?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rd moet een bepaalde hoeveel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 / dag eten = goed voor verteringstelsel +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uw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% van LG aan DS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: Paard van 500 kg = 500*0.02 = 10 Kg DS /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Droog voer, vochtig voer en nat voer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51080" y="1981080"/>
            <a:ext cx="644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orbeeld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 = 6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i van 84% 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 moet ik g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*0.02 = 12 kg DS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/84)*100 = 14.3 Kg hooi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Onderhoud 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wvo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ft voldoende energie voor onderh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 laten analy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winter niet voldo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w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droog (&gt; 60%DS) + gras van goede kwaliteit voorziet de behoe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s KV bij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5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08:16:19Z</dcterms:modified>
  <cp:revision>50</cp:revision>
  <dc:subject/>
  <dc:title>PowerPoint-presentatie</dc:title>
</cp:coreProperties>
</file>