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67EF9BD9-100D-48EF-8975-A5B6011408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er = en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ltijd afvragen  Hoe groot is de energienehoefte van mijn paard.  (afhankelijk van gewicht, prestatie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foerageerged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elen domesticatie = gedragsprobl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roeger en 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uisvesting stro bedekking, beweging, soicaal contact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D3F-071E-455F-A4F3-DE817141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F58-49B5-4FE2-AA47-3A7F0EBB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182-91B4-4EA7-84C9-91FC5E28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137-D8E8-4395-B48E-E7D8FAB7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57E-9AE1-4B0A-9708-9D99C19B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9D0-AB3A-4D83-B0A0-B08EDB9E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460-DC7C-4668-BC62-B7AE4DBF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930-4682-4B53-BB3B-DDE1E61A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21C-866B-4B74-B72F-D3D3681C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0BC-4EA8-415F-A227-618D2519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C11-207A-4F08-8137-C22F5A2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927-78C2-42FD-97AE-7ED78ADC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88DA-AB31-4103-8A18-D8A937F7D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23640" y="836640"/>
            <a:ext cx="5543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8c"/>
                </a:solidFill>
                <a:latin typeface="Arial"/>
              </a:rPr>
              <a:t>Voeding</a:t>
            </a:r>
            <a:endParaRPr b="0" lang="en-US" sz="11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Waarom is voeding belangrijk?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zondheid, levensduur, prestatie en wel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is van de eisen en behoe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urlijk gedrag en voerbehoe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36320" y="333000"/>
            <a:ext cx="690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De natuur van het paard</a:t>
            </a: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8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komen paarden vand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rd wordt gedomest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madische voedselzoe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rie leert veulen wat wel en niet eetbaa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324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c"/>
                </a:solidFill>
                <a:latin typeface="Arial"/>
              </a:rPr>
              <a:t>Wat betekend dat voor het voeren?</a:t>
            </a:r>
            <a:endParaRPr b="0" lang="en-US" sz="32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arden eten vaak en in kleine hoeveel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eten dag en n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arden zoeken structuurrijk ruw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blijven dooreten, ook bij voldoende energie op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besteden 60% van hun tijd aan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bewegen veel tijdens het 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er moeten wij rekening mee houd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Dag besteding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loed huisvesting op gedrag en vo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drags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035520" cy="338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040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8c"/>
                </a:solidFill>
                <a:latin typeface="Arial"/>
              </a:rPr>
              <a:t>Leefwijze vroeger &amp; nu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94020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304812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o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we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16 u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6 u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tg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ije keu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perkte keu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tso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 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rij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ed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urrijk ruwvo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er structu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. co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dde g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ele huisv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47640" y="6922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c"/>
                </a:solidFill>
                <a:latin typeface="Arial"/>
              </a:rPr>
              <a:t>Vrag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403960" cy="367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Noëlla van de Sande</cp:lastModifiedBy>
  <dcterms:modified xsi:type="dcterms:W3CDTF">2011-02-03T08:46:45Z</dcterms:modified>
  <cp:revision>33</cp:revision>
  <dc:subject/>
  <dc:title>PowerPoint-presentatie</dc:title>
</cp:coreProperties>
</file>