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7A70FBF-37F1-406A-BE26-15F91A774C3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urhoudende stoffen = complexe koolhydraten = vez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kauwbewe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der gras goed voor spijsver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wit weetj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zond paard is te veel eiwit geen probleem. De nieren scheiden de N uit, waardoor het paard vaker plast en meer gaat drin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el eiwit voeren geeft niet altijd extra waarde want een groot deel blijft onbruikbaar voor het pa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arden krijgen geen dikke benen van eiwit, maar soms wel van te veel suiker en zetmeel in het voer. En natuurlijk van te weinig bewe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g bladrijk gras (lichtgroen van kleur) bevat veel eiwit en s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nduranc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t is pure energie, maar veel tijd nodig om het naar bruikbare energie om te zet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 laten wennen aan vet vo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nvorm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gen in vele kronkels in bu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jsverteringssappen toegevoegd aan voedselbri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edingstoffen worden door darmvlokken opgen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oli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oit meer dan 200 gram suiker per 100 kg lichaamsgewicht per maaltij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s op met mais uiteindelijk zetmeel omgezet in suik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D2F-137B-4D68-91A9-5AC9A288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12E-05D3-4AA4-8F88-C14A4C7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A7D-1BCC-442D-A9C8-27211BCD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839-3C51-4861-975B-E533C7F0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D8B-F707-466B-9608-8EBDCC3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0BB-1FFE-40C4-A244-0F2EF36E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217-6F9A-493A-AFE8-3C9B1B7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B8A-FADF-4E70-92B6-33C66C9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4ED-B5B0-442C-9C4B-5DDD5487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405-E266-45EB-A4B0-026807C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32F-8034-4FC0-B892-76F1C03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A86-439E-4C82-9B22-233F56B8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A68-2EAB-468B-B076-C91AA41FB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6 Van mond tot m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Complexe Koolhydra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dere planten meer structuurhoudend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ke darm breken bacteriën deze stoffen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uchtige vetzuren opgenomen in bl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tsoen min. 50% hieruit op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el structuurrijk v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armen blijven in 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er KB = meer speek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iet dik of ‘heet’ ma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ed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rkt verveling t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2000" y="3716280"/>
            <a:ext cx="2143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Eiwit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hele maagdarmkanaal afgebroken tot aminozuren (AZ) en stikstof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Z alleen in dunne darm opgen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ikke darm benutten alleen bacteriën de 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essentiële aminozuren worden door de bacteriën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e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braak en opname: vooral in maag en dunne d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t ve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dan 3 uur trainen veel v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itamines en mineral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ig v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groei (Ca ,P, 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pnam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unctioneren enzymen en horm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69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Totaal overzich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103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 Black"/>
              </a:rPr>
              <a:t>Maag-darmkanaa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486108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Maa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houding kl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rd 600 kg niet meer dan 3 kg krachtvoer per maalti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aagvulling bepaald de maagle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348000" cy="2136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19640" y="4659480"/>
            <a:ext cx="3456000" cy="20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unne darm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e: 15 tot 26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n breken de voedingstoffen af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ffen direct in de bloedb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 alle vet, zetmeel, suiker en eiwit wordt vert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angrijkste deel krachtvoer in dunne darm vert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169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00720" y="5157720"/>
            <a:ext cx="230508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ikke darm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geveer 4 m 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eft een inhoud van 8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at vocht wordt op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t scherpe boch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edarm = fer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3097080" cy="2146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313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Endeldarm en rectum 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del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Laatste deel dikk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ook voor vocht op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Mestballen worden gevor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ste stukje van de dar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ingspier sluit het rectum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64000" y="981000"/>
            <a:ext cx="3384720" cy="209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84292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oorloop snelheid van 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0040" y="1562040"/>
            <a:ext cx="69883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Bouwstenen in het 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1197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1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205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rgan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22050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norgan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148428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3500280"/>
            <a:ext cx="295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olhydraten (suik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3357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537372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oplosbare 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544500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e koolhydra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ez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916000" y="486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797360"/>
            <a:ext cx="86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195280" y="155736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Oplosbare koolhydraten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ker en zetm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gebroken door enzymen in maag en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el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adelijke voor dikke da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terië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skoliek &amp; hoefbevangen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59640" y="4508640"/>
            <a:ext cx="21002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13:19:49Z</dcterms:modified>
  <cp:revision>50</cp:revision>
  <dc:subject/>
  <dc:title>PowerPoint-presentatie</dc:title>
</cp:coreProperties>
</file>