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A57EE93-26C7-4F98-97E6-EDD574F7ADA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(2 – 2,4 % = of zo’n 2 kg per 100 kg lichaamsgewicht). Droog voer is voer met meer dan 80 procent droge stof, zoals hooi, stro, granen, krachtvoer brok, droog voordroogkuil en mues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reef naar 1,5 procent (1,5 kg per 100 kg lichaamsgewich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zig? Leg hooi op het water in de e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t langer dan 8 uur zonder vo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per dag voeren is idea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lz 113 en verder staan overzicht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AEF-424A-4D1F-A572-9CF7A942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61B-C9D8-4E90-AB03-38EFF155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F7B-971B-465D-A423-F90464B3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299-43C1-4666-A731-2E3E4B40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A29-B29B-40B4-A0F0-B7EC5719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F33-71AE-4453-ABB1-A1207C81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887-026E-428D-87A6-30D6386C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CFF-C8B9-47CD-8827-40A891F5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D1D-6408-4C66-A30E-DDCCC611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266-0825-42EE-BDC5-C928780F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80B-2124-4461-A490-381DB2C1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EAF-AAF5-41FF-B1F1-7DCFD46A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6732-E286-4F8A-A2DD-5BC9FBF0C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12: Afsluiting &amp; voorbere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Samenvatt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erbehoef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 2 tot 2,4 procent van het LG per dag als droogvo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 minimaal 1,2 procent van het lichaamsgewicht per dag als structuurrijk ruwvoer. (1,5 = streef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 je paard in een goede lichaamscondi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er in lijn met de 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Samenvatt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doende schoo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gulzig laten drinken na 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wvoer en kracht 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 voldoende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er kw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 zo veel mogelijk vast aan een soort KV en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V verdelen over de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 zo min mogelijk KV, en meer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Samenvatt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ertijdsti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te tijden en alle paarden teg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te lang zonder vo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cht met training na voeren (1-3 u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direct na training vo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04000" y="3789360"/>
            <a:ext cx="19051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Samenvatt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er en gezon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f dagelijkse uitloop of weide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te veel jong gras in één 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anderingen rustig doorvo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ker en minder vo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worm regelma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7196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Voederwaar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907920"/>
            <a:ext cx="9144000" cy="5949720"/>
            <a:chOff x="0" y="907920"/>
            <a:chExt cx="9144000" cy="594972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 rot="5400000">
              <a:off x="1596960" y="-689040"/>
              <a:ext cx="5949720" cy="914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5403960" cy="3676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35280" y="5445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c"/>
                </a:solidFill>
                <a:latin typeface="Arial Black"/>
              </a:rPr>
              <a:t>Succes met de toet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10T11:33:00Z</dcterms:modified>
  <cp:revision>37</cp:revision>
  <dc:subject/>
  <dc:title>PowerPoint-presentatie</dc:title>
</cp:coreProperties>
</file>