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A679E05-EE45-43D5-A220-1C2E761258F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rontrijnigingen (bermhooi , andere giftige planten (j.kruid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uwvoeder (gras, hooi, voordroogkuil en luzer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rachtvoer: (brokken, muesli en hav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ras is meest natuurlijke vo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oede wei is belagrijk voor het kwaliteit van het ruwvoe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rasplantje dat langer wordt maakt meer structuurrijke vezels aan. Het deel waar de energie inzit wordty kle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e ouder het gras hoe stengeliger het wordt = meer vezels = moeilijker te verteren dan jong gras maar voorziet wel in de behoefte aan ruwvoe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tipgrazen: steeds maar een klein stuk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ntegras bevat voldoende energie voor zogende merries en veu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omt beter overeen met natuurlijk gedrag (fouranger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et je: dat Koe graast met tong dus laat gras langer en paard met tanden dus gras k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ge stof maat waar mee gemeten wordt door product te wegen in oven te drogen al het water eruit en dan wat overblijft is droge st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walitei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t op met klaver in de wei. Er mag niet meer dan 30% klaver in de wei staan ivm eiwit overschot (fo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eveelheid paarden: 1 ha grasland is voor 1 jaar voldoende energie voor 3 grote paarden, hou ook gedrag in de gaten (rangorde,etc) voor het beoordelen of bijvoeren noodzakelijk is. ( kijk naar de lichaamsconditi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udbaarheid 1,5 ja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anaf de grond ivm stof en za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odra je paard verkouden is nat hooi voeren dan ontwikkelen ze een stof aller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a gras het beste voedermid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aard eet ze nu wel op terwijl in de wei hij deze laat sta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s dat is wat je werkelijk vo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uilgras : vers g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ordroogkuil: gras dat enkele dagen op land heeft gele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chimmelvoering + rottingsbac bij opening gestar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ordroog bevat meer energie dan hooi, maar heeft niet altijd de hoeveelheid structuurrijke vezels die een paard nodig he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ordeel kuil = stofvri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s 55-65% is ideaal = voordroogkuil genoe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uilgras is relatief energierij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ef geen koeien kuil: &lt;45% ds, en teweinig structuur (geeft koliek , maagzweren. Min 50% moet hij hebben uit ku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oed bewaard en lucht dicht kan 2 jaar bewaard blij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F5AE-46BD-4F7A-8B15-A0E045CA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1290-BCBC-41DC-9051-BEE281F4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D3E-8CAC-4A29-94A4-5AD49950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B37C-7464-41B7-8F12-C102FE57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052-F256-4133-9200-5E5A03CD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BA7A-DB59-465E-808C-8A37F24F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7B1-D442-4513-94B4-33FA38CC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5A1-9FE1-46C0-87B8-AF0DCDEA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EF0C-9084-4F42-9741-EC848F23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645D-5A48-41A3-B0E5-05FCE4F6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43A-A7F5-41DF-AD97-800AA969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0EB3-D4C5-423F-A083-AD1B8C27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7E3E-C23E-4FE3-A357-0A5441D21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3640" y="836640"/>
            <a:ext cx="5543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8c"/>
                </a:solidFill>
                <a:latin typeface="Arial"/>
              </a:rPr>
              <a:t>Voeding</a:t>
            </a:r>
            <a:endParaRPr b="0" lang="en-US" sz="11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2 Soorten Vo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ontrole van hooi en kuil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s alert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mm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ul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tig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ontreinigin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76720" y="981000"/>
            <a:ext cx="3610080" cy="2411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076720" y="3429000"/>
            <a:ext cx="35276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47640" y="6922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Vrag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619280" y="2637000"/>
            <a:ext cx="5403960" cy="36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4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Soorten voer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bivoor = planten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chtvoer vs Ruwv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chtv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wvo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ntsoen aanvullen met verse groenten, olie e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Gras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ge grasplant veel energie (suik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el blad en weinig steng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 langer dan structuurrijke vez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nig blad en veel steng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ngel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lexe koolhydraten (ruwe celstof = vez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4191120"/>
            <a:ext cx="30477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arom gewens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e conta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as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16002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beperkt grasland kan dus ook teveel energie leveren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22720" cy="3887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10080" y="45720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ide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Droge Stof (DS)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328428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0" y="1989000"/>
            <a:ext cx="43927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ge stof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 na drogen overblij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ie uit     =   Energie ui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uur grazen       2 kg hooi of 1 kg K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39640" y="188640"/>
            <a:ext cx="611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Grasland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waliteit gras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p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land gezond hou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w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t verwij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p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724360" y="981000"/>
            <a:ext cx="30387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Hooi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te drogen langer houd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i goed vo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jd giftige 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2521080" cy="1895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236000" y="404640"/>
            <a:ext cx="1765080" cy="4824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835280" y="458136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003640" y="5445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kobskruiskr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Gras, hooi en DS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09120" cy="3152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472428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het voeren kijk je naar de DS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5067360"/>
            <a:ext cx="9144000" cy="1790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Kuilgras en Voordroogkuil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uilg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droogku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gesloten geen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lkzuurbacteriën verlagen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as wordt zuurder= rottingsbacteriën krijgen geen k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nnen 3 tot 5 dagen opvo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Noëlla van de Sande</cp:lastModifiedBy>
  <dcterms:modified xsi:type="dcterms:W3CDTF">2011-02-03T09:30:02Z</dcterms:modified>
  <cp:revision>37</cp:revision>
  <dc:subject/>
  <dc:title>PowerPoint-presentatie</dc:title>
</cp:coreProperties>
</file>