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png" ContentType="image/png"/>
  <Override PartName="/ppt/media/image10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32B1058-67CC-43A8-9058-E642B04E5F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meeste paarden gaan giftige planten uit de weg. Een van deze giftige planten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00" spc="-1" strike="noStrike">
                <a:solidFill>
                  <a:srgbClr val="000000"/>
                </a:solidFill>
                <a:latin typeface="Times New Roman"/>
              </a:rPr>
              <a:t>jakobskruiskruid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. Dit kruid komt het meest voor in weilanden, wegbermen 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natuurlijk grasland. Paarden eten jakobskruiskruid wel in gedroogde vorm, dus h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00" spc="-1" strike="noStrike">
                <a:solidFill>
                  <a:srgbClr val="000000"/>
                </a:solidFill>
                <a:latin typeface="Times New Roman"/>
              </a:rPr>
              <a:t>Fig. 5.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Times New Roman"/>
              </a:rPr>
              <a:t>Een gezond paard herken 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Times New Roman"/>
              </a:rPr>
              <a:t>aan de volgende zake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Goed geb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t ontwormingsschem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vacht is glanzend e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gen zijn helder, de o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aler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t tandvlees is zalmroz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temperatuur is 37-38°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artslag: 38-40 slagen 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inuut in rust (te voe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aan de binnenkant va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nderkaak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Ademhaling: ongeveer 12-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ademhalingen per minuut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ru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mest is van de jui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samenstell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t paard drinkt voldoen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stalbodem is niet ongewo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verhoop gehaald of na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00" spc="-1" strike="noStrike">
                <a:solidFill>
                  <a:srgbClr val="000000"/>
                </a:solidFill>
                <a:latin typeface="Times New Roman"/>
              </a:rPr>
              <a:t>Fig. 5.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Ga Jakobskruiskruid te lij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Neem bij het verwijderen van Jakobskruiskru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geen halve maatregelen. Trek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planten uit de grond en graaf de worte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p en verbrand deze. Gebruik handschoene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want het gif is ook schadelijk v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ensen en kan door je huid binnendringen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Neem het land in de lente onder hande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want dan staat het kruid nog niet in bloei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In hooi kan de rode stengel aangeven d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t om Jakobskruiskruid gaat. Let op: 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je op zeer jonge leeftijd maait is de steng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nog niet rood. Je kunt dus niet altij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zien dat paarden het eten na maaien. De vieze smaak is er dan wel af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aar het gif blijft werken en verspreidt zich zelfs door het hele hooikuilgra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meeste zekerheid krijg je door monsters te laten neme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e weide te kennen waar het ruwvoer vandaan kom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104 ❑ PAARD EN VO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ag niet in het hooi terechtkomen. Goedkoop hooi dat van de bermen komt, wor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daarom afgeraden voor paarden. Je herkent het effect van een vergiftiging vaak nie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mdat het gif zich ophoopt in de lever van het paard. Verschijnselen openbaren z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pas als de ophoping van gif een niveau bereikt waarbij de lever beschadigd raakt. D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kan jaren duren en uiteindelijk de dood tot gevolg hebbe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Ook boterbloemen zijn giftig als ze in grote hoeveelheden worden gegete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Vergiftigingsverschijnselen zijn: overproductie van speeksel, diarree en koliek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komen deze verschijnselen zelden voor. Boterbloemen komen veel voor in nat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gebieden. Een goede drainage en bemesting kunnen de groei van boterbloe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vermindere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Mijd ook taxus- of buxusplanten. Ze zijn eveneens giftig. Eikels zijn ook giftig, ma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paarden eten ze zelden. Eikels kunnen verstopping veroorzaken, gevolgd door diarr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en, op langere termijn, leveraandoeningen. Als je paard toch eikels eet, kun je 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verzamelen of het gedeelte rondom de boom afzetten. De bomen zelf zijn overig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Times New Roman"/>
              </a:rPr>
              <a:t>heel nuttig als bescherming tegen zon en wi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=Boterb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=Tax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= Jakobskruiskr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=Bux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n de figuren geeft een wedstrijdpaard aan en welke een recreatie paard en waa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links = recreat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iet meer dan 8 uur zonder eten staa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lle buik werken ze niet gra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voer: balanceren is werken! Langer dan 3 uur rijden?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an pauzeren met water en (nat) hooi  zorg dat je optijd bent (min 30 min) voor de wed om het paard te laten her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lycogeen = reserve energiebron (opgeslagen suik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lucose dip: laag gehalte glucose: slecht voor intensieve presta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tzuren: zijn belangrijk voor werk van lange duur (endurance, gemengde competitie heel de dag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V tot voor een uur van de training / 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i / hooi, vocht etc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ibbebijten, weven, schrapen, slaan, dekenbijten, luchtzuigen, tongspelen, flankbijten, hout eten, rondjes draaien, overmatig drink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moeden bestaat dat het erfelijk aangelegd is, maar huisvesting en andere omstandigheden waaronder we paarden houden spelen sterk mee (kunnen natuurlijk gedrag niet verton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komen: sociaal contact, voldoende rv, weidegang in groepen, verbeter leefonstandigheden! Soms vermindering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ag pijn door verzuring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te weinig RV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maagzw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iemen, weefrek helpen niet, ze halen het niet kunnen tonen later wel weer in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 tijd’ voeren: is op bepaalde vaste tijdsti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: gesneden vezels (stro, hooi, gras) en muslie geven in plaats van brok, of liksteen, stenen in voerbak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tegen snel e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ress: kan leiden tot slecht eten..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pas werkschema aan of kijk of die wel gezond is. Maak het voer lekker (mint) stroop, appels worte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uur voer : koeienku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ard met maagzweer: rusteloos, kauwen, luchtzuigen, verminderde conditie,, rondjes draaien, koliek (verschijnsel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onys gevoeliger dan pa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bruik kv dat goed verteerbaar is. Gebruik een kale weide en geef structuurrijk ruwvo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cute klachten: geef slobberpap van zemelen om de gifstoffen te binden geen vers gras geve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oege veulens: blijven langer op stal en gaan sneller kv mee e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et ze liefst op een kalere wei, laat ze niet meeeten met de moeder. Geef supplement Lysine voor de gezonde botgro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DFA-A1EF-45FA-AD70-D3A2190A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9E9-3F20-4B6B-B494-98BEAD8D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B90-7BBB-4F7A-BE63-B7014CDD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D29-FFD6-447B-932A-C51851DB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750-98D8-419A-9C63-F7E6DAC1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963-5ED0-43C4-9F40-1B169F38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C23-D70F-4EB1-82DC-845528F7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EFA-1D94-4FEE-AD7E-7EC84BEC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119-6607-4477-AD56-A84DB6A6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04F-3DD1-4A4C-B530-7E9A2A33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043-BC97-4719-8BCC-2628428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EEE-0156-4DEC-9F53-9A06F31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6519-080A-4747-8F2E-0FB91ADAF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11 voermanagement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Giftige plan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p giftige plan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obskrui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er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us-buxus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Giftige plan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2054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484360" y="3789360"/>
            <a:ext cx="2027160" cy="2822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659640" y="3789360"/>
            <a:ext cx="2058840" cy="2878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24000" y="1268280"/>
            <a:ext cx="2116080" cy="252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3860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328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Voermanagemen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voeren goed afstemmen op het pa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rdere maaltijden per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vond veel RV voor de n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uur tussen voer en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 rekening met vervoer en 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4010040"/>
            <a:ext cx="2592360" cy="2575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76720" y="4508640"/>
            <a:ext cx="1771560" cy="1276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9640" y="4005360"/>
            <a:ext cx="254808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Voeren voor het werk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er binnen 3 uur voor wed. geen KV omd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5 min na voer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ikers opgenomen als 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lucose wordt opgeslagen als glycog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 2 uur: glucose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ote hoeveelheid K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vrije vetzuren in het bl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eine hoeveelheden RV voor de wed. kan 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nachts RV / in de wei is gew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84720" y="328464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577404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c"/>
                </a:solidFill>
                <a:latin typeface="Arial"/>
              </a:rPr>
              <a:t>Stereotiep gedrag rondom voeding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iep gedrag = stalondeu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felij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is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af te 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rden kopiëren ni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2582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Stalondeugden en vo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g pij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ucht zuigen &amp; kribbebij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tijd’ voeren + weinig R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 snel eten &amp; voern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weinig R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en stalbodem &amp; dippen aa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weinig mineral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ut eten &amp; metaal l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76720" y="4560840"/>
            <a:ext cx="3792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Maagzweren en vo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veel maag zuu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agzw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rzak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 lange periodes zonder 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 veel zetmeel en sui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voldoende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eren zuur vo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ress en zenuw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Hoefbevangenheid en vo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9898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e mogelijke 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suikers en zetmeel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alles opgenomen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ikke darm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fermenta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otselinge dood Bac. in darm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ifstoff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o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3657600"/>
            <a:ext cx="26938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164360" y="3716280"/>
            <a:ext cx="1636920" cy="2211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234936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 dus juiste voeding en laat ze niet te dik word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Koliek, O.C. en vo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voedingsregels van belang bij k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chillende vormen en 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eochondrose (O.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vorming begint al vroe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rrie goe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fst ‘latere’ veule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weging + minder snel KV 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619600" y="4724280"/>
            <a:ext cx="35244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10T11:33:32Z</dcterms:modified>
  <cp:revision>63</cp:revision>
  <dc:subject/>
  <dc:title>PowerPoint-presentatie</dc:title>
</cp:coreProperties>
</file>