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0F801A1D-ACC6-48A4-A1EB-A657CF1A9B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letten, poffen, wal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DAMAY, LATEN WE DEZE BV MEETELLEN ALS 10 PUNTEN VOOR EEN TO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E0E-195B-40DF-BD72-D6D31C94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BD7-6DCD-4851-BA1A-A1EFBEC6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D9D-E686-4EF1-9C04-D1C86BA4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8C2-6D0A-42F6-9228-232EAD22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3C6-73D3-47A2-B079-BFEEF8F9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FE6-AA31-418D-AD7C-6E005B57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367-3C32-4445-8348-ECAB801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1BA-9AD1-47C2-96FC-97201AE3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38C-0991-4079-8B7E-869EBCD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E96-ADE0-4468-B79E-03C3977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77C-3BDC-4BB2-98D3-1F0E677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2A3-3E4B-498E-9CE5-34A54ED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2A5-9BDB-4CE4-AC37-EB74FEC9E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4 Soorten 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Kracht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en meng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anvulling op ruw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ijk de samenstelling op het et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84720" y="1125360"/>
            <a:ext cx="247680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1871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Ingrediënten worden behandeld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t om ze beter verteerbaar te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er verteerb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doorlopen zetmeel naar dikke darm hoefbevangenheid en koliek vermi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te dood schimmels, bacteriën en gaat vervuiling t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kken voorkomen uitzo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r lang kauwen dus minder speeksel 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minen, mineralen en eiwitten door verhitting aanget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Etiketten en Analyse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chtvoer heeft een et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wvoer moet je laten analy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Opdrach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opdracht 2.2 (blz. 37) m.b.v. je meegenomen etike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 deze opdracht de volgende l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0600" y="184320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12:01:19Z</dcterms:modified>
  <cp:revision>41</cp:revision>
  <dc:subject/>
  <dc:title>PowerPoint-presentatie</dc:title>
</cp:coreProperties>
</file>