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BB3030D-E4EE-47FD-A860-8CF37C6CADA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orte intensief, snel energie nodig, di gebeurd zonder zuurstof.  = melkzu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mplexe kh en vetten = ruwvoer en beetje olieirijk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R UFC en Engeland en DUI Mega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tering, wat wordt waar afgebroken en opgen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Wpa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de gift mag naar boven of naar bene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ximaal 15 procent afwijken van de behoef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ls een paard een goede lichaamsconditie he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n goed werkt, is een grotere afwijking geen probl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meeste rantsoenberekeningen wo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daan om een probleem op te lossen. Zoals 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rder gezien hebt zijn de hoeveelheid structuurr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r en zetmeel belangrij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 de Ewpa balans. Overweeg m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achtvoer te geven als dit boven de behoeft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VREp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houd er rekening mee dat de eiwitt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achtvoer gemakkelijker beschikbaar zijn v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paard dan die in ruwvoer als de waarde b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behoefte zit. Een paard kan hoge wa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el goed aan. Als de waarde meer dan 20 pro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der de behoefte zit, moet je meer eiwitr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er ge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Mineral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: als er te weinig calcium (Ca), fosfor (P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gnesium (Mg) en natrium (Na) is, dus m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an 20 procent onder de behoefte, moet je 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upplement bijvoeren. Voor werkende en groei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en moet er voldoende koper (Cu) en z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Zn) in het voer zitten. De hoeveelheid zink m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oit meer zijn dan 20 procent boven de behoef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n veulens moet je op z’n minst 100 pro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an de koperbehoefte geven. Controleer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houding tussen calcium en fosfor. Deze ho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geveer 2:1 te zij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mid 2 % = eigenlijk tussen 1,6 en 2,4 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2/84 is voor % weg te werken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2/ 0.84 kan 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nalyseren voor mineralen, vitamin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2E1-5F97-40F6-A1AE-8D7DE250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634-D7A0-4D04-A6AF-CD61057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C0F-35BC-4BE2-8FC2-92692AC6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E14-C2AB-4DF7-A30A-DDC7439F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E08-B401-4E91-8180-A51CC12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656-BFC5-4ED8-900A-46DF1764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A1F-C81B-4B63-9A4C-5EE02548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0D3-FF62-4835-84B8-52317D1E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052-B945-4A87-A279-5E8F257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F3D-2166-4D22-92D1-F33EFA2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D2C-7674-440D-9289-E7F8E19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F0B-A81A-4F6E-BE7A-999BB8C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8B78-0FF7-432B-9538-51306AC66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7 Voeren in de Prakti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ergie in spier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beweging is energie no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rgie voor korte intensieve inspanning = Zetmeel, suikers (K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rgie voor langdureige arbeid = complexe koolhydraten en ve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Rantsoen samenstellen?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moet je allemaal we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ergiebehoefte p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ergieaanbod in 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at voor werk het paard do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lk ruwvoer en welk krachtvoer het paard nodig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ingsbehoefte wordt uitgedrukt in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stellen rantsoe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palen energie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oefte energie is niet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raining   gra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ragende mer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elkproductie mer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195640" y="378900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860640"/>
            <a:ext cx="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3500280"/>
            <a:ext cx="245880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-360"/>
            <a:ext cx="48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sbehoef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goed alle energie in het voer wordt gebruikt hangt af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ype vo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ring van het pa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L eenheid EWpa (Energie Waarde Pa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L eenheid VREp (verteerbaar ruweiwit pa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1 VREp = 0.013 EW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5518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c"/>
                </a:solidFill>
                <a:latin typeface="Arial"/>
              </a:rPr>
              <a:t>Hoeveel kg moet het paard eten?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rd moet een bepaalde hoeveel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 / dag eten = goed voor verteringstelsel +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uwbehoe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% van LG aan DS /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: Paard van 500 kg = 500*0.02 = 10 Kg DS /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c"/>
                </a:solidFill>
                <a:latin typeface="Arial"/>
              </a:rPr>
              <a:t>Droog voer, vochtig voer en nat voer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51080" y="1981080"/>
            <a:ext cx="644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Voorbeeld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rd = 6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i van 84% 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 moet ik ge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0*0.02 = 12 kg DS /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/84)*100 = 14.3 Kg hooi /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Onderhoud energi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wvo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ft voldoende energie voor onderh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 laten analy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winter niet voldo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w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droog (&gt; 60%DS) + gras van goede kwaliteit voorziet de behoe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s KV bij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0355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10T08:16:19Z</dcterms:modified>
  <cp:revision>50</cp:revision>
  <dc:subject/>
  <dc:title>PowerPoint-presentatie</dc:title>
</cp:coreProperties>
</file>