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oefbevangenhe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evol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ndlederhuid grijpt niet meer in de hoornplaatjes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efbeen komt (gedeeltelijk) los van de hoefwand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efbeen zakt of kantelt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rand hoefbeen drukt tegen de z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vergang acuut – chronisch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s het hoefbeen zakt of kantelt verandert er iets in de hoef, dat niet of pas na langere tijd gene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der ver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ls de gehele wandlederhuid is aangetast: ontschoening of zakken hoefb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7" descr="bevangen oekr4 11-9-09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der ver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s alleen de voorzijde van de wandlederhuid is aangetast: onderrand hoefbeen drukt tegen de zool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ool wordt bol en de witte lijn verbreed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oollederhuid wordt gekneusd en produceert geen hoorn meer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rand hoefbeen slijt door de zool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oolbre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6 jarige merrie, bijderzijds voor hoefbevan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Rechtsvoor zoolbreu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bevangen paard 3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aarom zoolbreuk aan één zijd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latte voet belast achterzijde ho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teile voet belast t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bevangen paard 2"/>
          <p:cNvPicPr/>
          <p:nvPr/>
        </p:nvPicPr>
        <p:blipFill>
          <a:blip r:embed="rId1"/>
          <a:stretch/>
        </p:blipFill>
        <p:spPr>
          <a:xfrm>
            <a:off x="4267080" y="232416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oolbreuk en doorbraak in kroonr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and in toon dun ras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bevangen paard 4"/>
          <p:cNvPicPr/>
          <p:nvPr/>
        </p:nvPicPr>
        <p:blipFill>
          <a:blip r:embed="rId1"/>
          <a:stretch/>
        </p:blipFill>
        <p:spPr>
          <a:xfrm>
            <a:off x="3886200" y="203832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oolbreuk en doorbraak in kroonr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and in toon dun ras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ndersteuning achterste hoefhel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7" descr="bevangen paard 9"/>
          <p:cNvPicPr/>
          <p:nvPr/>
        </p:nvPicPr>
        <p:blipFill>
          <a:blip r:embed="rId1"/>
          <a:stretch/>
        </p:blipFill>
        <p:spPr>
          <a:xfrm>
            <a:off x="3733920" y="2152800"/>
            <a:ext cx="5410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oolbreuk en doorbraak in kroonr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and in toon dun ras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ndersteuning achterste hoefhel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bevangen paard 7"/>
          <p:cNvPicPr/>
          <p:nvPr/>
        </p:nvPicPr>
        <p:blipFill>
          <a:blip r:embed="rId1"/>
          <a:stretch/>
        </p:blipFill>
        <p:spPr>
          <a:xfrm>
            <a:off x="3886200" y="203832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at is hoefbevangenheid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aseptische wandlederhuidontste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lastic hoefschoen met straalondersteu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bevangen paard 14"/>
          <p:cNvPicPr/>
          <p:nvPr/>
        </p:nvPicPr>
        <p:blipFill>
          <a:blip r:embed="rId1"/>
          <a:stretch/>
        </p:blipFill>
        <p:spPr>
          <a:xfrm>
            <a:off x="3029040" y="198108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lastic hoefschoen met straalondersteu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bevangen paard 154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on ras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Nieuwe wand groeit naar voren: Bolle rand wegras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6" descr="bevangen paard 16"/>
          <p:cNvPicPr/>
          <p:nvPr/>
        </p:nvPicPr>
        <p:blipFill>
          <a:blip r:embed="rId1"/>
          <a:stretch/>
        </p:blipFill>
        <p:spPr>
          <a:xfrm>
            <a:off x="4419720" y="24382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Na 8 we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lastic hoefschoen eraf, Oude randen waaieren uit en de hoef is te la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bevangen paard 18"/>
          <p:cNvPicPr/>
          <p:nvPr/>
        </p:nvPicPr>
        <p:blipFill>
          <a:blip r:embed="rId1"/>
          <a:stretch/>
        </p:blipFill>
        <p:spPr>
          <a:xfrm>
            <a:off x="4343400" y="238140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Na 8 we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lastic hoefschoen eraf, Oude randen waaieren uit en de hoef is te la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bevangen paard 19"/>
          <p:cNvPicPr/>
          <p:nvPr/>
        </p:nvPicPr>
        <p:blipFill>
          <a:blip r:embed="rId1"/>
          <a:stretch/>
        </p:blipFill>
        <p:spPr>
          <a:xfrm>
            <a:off x="4343400" y="238140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raagrand inkorten en straal schoonm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bevangen paard 21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and strak m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bevangen paard 20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volg behan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tte hoef kort bekap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eine hoef beslaan met zool om verschil in grootte op te vangen en de hoornzool te bescher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hronische bevangenhe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oonwand groeit naar voren en krult 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hele hoef groeit er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zenen komen omho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bevangen ponie achter"/>
          <p:cNvPicPr/>
          <p:nvPr/>
        </p:nvPicPr>
        <p:blipFill>
          <a:blip r:embed="rId2"/>
          <a:stretch/>
        </p:blipFill>
        <p:spPr>
          <a:xfrm>
            <a:off x="4211640" y="1898640"/>
            <a:ext cx="493236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hronische hoefbevangenhe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itte lijn in hoef erg verbr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9" descr="bevangen ponie voor derde keer 3"/>
          <p:cNvPicPr/>
          <p:nvPr/>
        </p:nvPicPr>
        <p:blipFill>
          <a:blip r:embed="rId1"/>
          <a:stretch/>
        </p:blipFill>
        <p:spPr>
          <a:xfrm>
            <a:off x="4572000" y="388764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bevangen ponie voor2"/>
          <p:cNvPicPr/>
          <p:nvPr/>
        </p:nvPicPr>
        <p:blipFill>
          <a:blip r:embed="rId2"/>
          <a:stretch/>
        </p:blipFill>
        <p:spPr>
          <a:xfrm>
            <a:off x="5597640" y="907920"/>
            <a:ext cx="2214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septis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nt veroorzaakt door gifstoffen elders uit het lich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ptisch =&gt; van bu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han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innenzijde van de hoef schoonmaken, maar zool in toon spa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and in toon inkorten en recht ras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zenen inkort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bevangen ponie voor"/>
          <p:cNvPicPr/>
          <p:nvPr/>
        </p:nvPicPr>
        <p:blipFill>
          <a:blip r:embed="rId1"/>
          <a:stretch/>
        </p:blipFill>
        <p:spPr>
          <a:xfrm>
            <a:off x="4356000" y="2128680"/>
            <a:ext cx="47880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gn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itte lijn wordt beter, maar hoeven blijven explosief groeie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at zit hier ach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bevangen ponie 2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aar komen die gifstoffen vanda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oorzaakt door problemen met de gezondhe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 van hoefbevangenhe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root overschot aan sui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angdurige overvo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oli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aarmoederontsteking door aan de nageboorte blijven sta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re overbelasting ho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rm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ekte van Cus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loop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ifstoffen in het bloed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 stroomt door de wandlederhuid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ifstoffen worden in basaal membraan uitgefilterd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gehoopte gifstoffen veroorzaken ontsteking wandlederhu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elke hoev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estal voorho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oms alle 4 de ho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el zelden alleen de achterho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speciaal geval aan één ho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schijns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u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g kreup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bijna) niet aan het lopen te krij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el lig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hterbenen ver onder het lichaam, voorbenen laten steunen op de verz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schijns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ronis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 kortere, afwijkende gang. Zolen laten zi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even groeien harder dan norma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oon naar voren, verzenen ho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09:20:31Z</dcterms:created>
  <dc:creator>Chris Oomen</dc:creator>
  <dc:description/>
  <dc:language>en-US</dc:language>
  <cp:lastModifiedBy>Chris Oomen</cp:lastModifiedBy>
  <dcterms:modified xsi:type="dcterms:W3CDTF">2013-07-01T06:21:34Z</dcterms:modified>
  <cp:revision>9</cp:revision>
  <dc:subject/>
  <dc:title>Hoefbevangenheid</dc:title>
</cp:coreProperties>
</file>