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74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uren in de paardenho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ris O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lange hoeven te veel druk op de verzenen van de platte ho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Dressuurpaard UA met kwartierscheur 5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keerde correctie nog meer druk op de kroonrand in het buitenkwar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Dressuurpaard UA met kwartierscheur 3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lans terugbrengen in de hoe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f ink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nnenzijde laten za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f strak ra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Dressuurpaard UA met kwartierscheur 7"/>
          <p:cNvPicPr/>
          <p:nvPr/>
        </p:nvPicPr>
        <p:blipFill>
          <a:blip r:embed="rId1"/>
          <a:stretch/>
        </p:blipFill>
        <p:spPr>
          <a:xfrm>
            <a:off x="4140360" y="2173320"/>
            <a:ext cx="50036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dat de scheur in de kroonrand op het moment dicht is 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openen en randen verdunn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lijke hoeven corrig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tte hoef steiler en str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ile hoef verzenen wat laten zakken en de wand in de toon str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Dressuurpaard UA met kwartierscheur 5"/>
          <p:cNvPicPr/>
          <p:nvPr/>
        </p:nvPicPr>
        <p:blipFill>
          <a:blip r:embed="rId1"/>
          <a:stretch/>
        </p:blipFill>
        <p:spPr>
          <a:xfrm>
            <a:off x="5521320" y="981000"/>
            <a:ext cx="1876320" cy="280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ressuurpaard UA met kwartierscheur 6"/>
          <p:cNvPicPr/>
          <p:nvPr/>
        </p:nvPicPr>
        <p:blipFill>
          <a:blip r:embed="rId2"/>
          <a:stretch/>
        </p:blipFill>
        <p:spPr>
          <a:xfrm>
            <a:off x="5030640" y="3938760"/>
            <a:ext cx="32720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onrandbetrapping met kalkoen van de andere hoe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eren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onrand op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mlaag he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ukver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 hoorn af laten groe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der be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onrandscheur wordt vaak doorlopende sche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lopende scheur wordt vaak een perforerende sche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rforerende 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t hoefmechanisme wordt de scheur steeds opengedrukt en gesloten.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dlederhuid wordt steeds gekeusd.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ekingen en na verloop van tijd hoornzu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rnsche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oorzaak, de hoef niet in balans, niet kan worden opgelost, zal de hoorscheur erg hardnekkig z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rn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rst in de hoefwand in de richting van de hoornpijpjes (groeirich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paratie sche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maal lapmiddelen met weinig kans op werkelijk suc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rnsche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cheid na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: Draagrandscheur of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: Toonscheur of kwartiersch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epte: Oppervlakkige scheur of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erende sch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aag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 draagrandsche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waarlozing hoefverzo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regelmatige belasting van de ho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epende 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se wand of hoornz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Scheur paula2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Scheur paula1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kroonrandsche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regelmatige belasting van de ho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onding aan de kroon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rnsche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mene be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 kort mogelijk bek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hoef zo gelijkmatig mogelijk laten bel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hoefwand strak ras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aag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en de scheur in driehoekv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u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de scheur hoog doorloopt, hoefijzer met zijlipp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648320" y="2039760"/>
            <a:ext cx="403848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regelmatige belasting te herstell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en de scheur half cirkelvorm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u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2332080"/>
            <a:ext cx="40384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ot dressuurpaard met relatief kleine en 2 verschillende voorho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ressuurpaard UA met kwartierscheur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16:55Z</dcterms:created>
  <dc:creator>Chris Oomen</dc:creator>
  <dc:description/>
  <dc:language>en-US</dc:language>
  <cp:lastModifiedBy>Chris Oomen</cp:lastModifiedBy>
  <dcterms:modified xsi:type="dcterms:W3CDTF">2013-07-01T08:52:51Z</dcterms:modified>
  <cp:revision>7</cp:revision>
  <dc:subject/>
  <dc:title>Scheuren in de paardenhoef</dc:title>
</cp:coreProperties>
</file>