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rnschoen niet te ver openen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 voor hoeflederhuidpro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lokalis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en hoornscho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m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ven afwach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rn rond defect verdu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fijzer met lederen z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betrapping dordt 14"/>
          <p:cNvPicPr/>
          <p:nvPr/>
        </p:nvPicPr>
        <p:blipFill>
          <a:blip r:embed="rId1"/>
          <a:stretch/>
        </p:blipFill>
        <p:spPr>
          <a:xfrm>
            <a:off x="4667400" y="152388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de ontsteking niet wordt ontde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s breekt door in de kroonrand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te tijd geen hoornvorming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rnkl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30" descr="hoornkloof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ard na enkele dagen weer regelmat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kreupelheid terugkee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eemd object in ho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fbeen beschadi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epe middelste straalgro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oven en groeven in de st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ondermijnde stukken ho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lden kreup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Rotstraal 2"/>
          <p:cNvPicPr/>
          <p:nvPr/>
        </p:nvPicPr>
        <p:blipFill>
          <a:blip r:embed="rId1"/>
          <a:stretch/>
        </p:blipFill>
        <p:spPr>
          <a:xfrm>
            <a:off x="4809960" y="1600200"/>
            <a:ext cx="371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erobe bacterie tast het hoorn van de straal aan, ten gevolg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ile 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hoefverzor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gevoe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 weg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 losse hoorn van de straal wegsnij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 maken rond de stra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insmer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ckholmer t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ndp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Rotstraal 3"/>
          <p:cNvPicPr/>
          <p:nvPr/>
        </p:nvPicPr>
        <p:blipFill>
          <a:blip r:embed="rId1"/>
          <a:stretch/>
        </p:blipFill>
        <p:spPr>
          <a:xfrm>
            <a:off x="4805280" y="1600200"/>
            <a:ext cx="3722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oorzaken niet aangepakt worden is rotstraal heel hardnekk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verwaarlozing kan straalkanker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aalka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allederhuid zwaar geïrriteerd door rotstraal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allederhuid gaat woekeren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cht, vuilwit hoorn/lederh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Straalkanker haiti 3"/>
          <p:cNvPicPr/>
          <p:nvPr/>
        </p:nvPicPr>
        <p:blipFill>
          <a:blip r:embed="rId1"/>
          <a:stretch/>
        </p:blipFill>
        <p:spPr>
          <a:xfrm>
            <a:off x="4381560" y="144792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aalka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gint meestal in middelste straalgro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n gehele straal en 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ook de gehele z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chterhoef met gezwel onderzijde links"/>
          <p:cNvPicPr/>
          <p:nvPr/>
        </p:nvPicPr>
        <p:blipFill>
          <a:blip r:embed="rId1"/>
          <a:stretch/>
        </p:blipFill>
        <p:spPr>
          <a:xfrm>
            <a:off x="4552920" y="13716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ziek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am en 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han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aalkanker =&gt; Dieren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f bloedledig met rubberen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getaste kiemlaag wegsnij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send medicijn 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ukver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matig control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sse wand/White line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e tussen de hoornwand en de zool op de plaats van de witte l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sse wand/White line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erobe bacterie/schimmel tast hoornplaatjes aan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hoefbeen – hoornwand gaat gedeeltelijk verl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sse wand/White line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veel druk in de toon door lange toon bij steile h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rn vatbaarder door strooien met houtm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rnzu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fbevang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sse wand/White line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 losse hoorn verwij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nden gezond hoorn verd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fijzer met zool gebruiken om hoornzool te bescher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osse wand 5"/>
          <p:cNvPicPr/>
          <p:nvPr/>
        </p:nvPicPr>
        <p:blipFill>
          <a:blip r:embed="rId1"/>
          <a:stretch/>
        </p:blipFill>
        <p:spPr>
          <a:xfrm>
            <a:off x="4038480" y="2355840"/>
            <a:ext cx="4953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sse wand/White line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dienen te worden aangepakt, anders komt het steeds teru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zu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rnwoekering tussen de hoefwand en het hoefb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lindrisch, meestal in de t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t en uitgewaai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oornzuil hoeveneind 290708"/>
          <p:cNvPicPr/>
          <p:nvPr/>
        </p:nvPicPr>
        <p:blipFill>
          <a:blip r:embed="rId1"/>
          <a:stretch/>
        </p:blipFill>
        <p:spPr>
          <a:xfrm>
            <a:off x="4343400" y="2381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zu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ak cylinder: Irritatie van de kiemlaag van de hoornplaatjes door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haald doorbreken van ontsteking in kroon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oonrandsc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vullen deuk hoefbe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648320" y="2523960"/>
            <a:ext cx="3809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zu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ak waa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rritatie wandlederhuid door losse w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zu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ing Dierenarts + Hoefsm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f bloedle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d over de hoornzuil dun ras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nzuil met aangetaste kiemlaag wegsn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fijzer met zijlippen en lederen z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ukver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neuzing hoeflederh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de plek in het ho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kneuzing hoeflederhuid"/>
          <p:cNvPicPr/>
          <p:nvPr/>
        </p:nvPicPr>
        <p:blipFill>
          <a:blip r:embed="rId1"/>
          <a:stretch/>
        </p:blipFill>
        <p:spPr>
          <a:xfrm>
            <a:off x="4627440" y="1143000"/>
            <a:ext cx="3737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rnzu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 gemakkelijk terug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neuzing hoeflederh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geweld van buiten worden enkele cellen en haarvaten in de lederhuid kapot gedru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neuzing hoeflederh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rode plek zichtbaar is, is de kneuzing zelf meestal al gen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neuzing hoeflederh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val van ernstige kneuzing of een zich steeds herhalende kneuzing  kan een hoeflederhuid - ontsteking ont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erg kreu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oppende p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zwelling aan kroon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nstige of herhaalde kneu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gelt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a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fbevang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flederhuidontste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lokal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en hoornsch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m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balbetrapping dordt 14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01:22Z</dcterms:created>
  <dc:creator>Systeembeheer</dc:creator>
  <dc:description/>
  <dc:language>en-US</dc:language>
  <cp:lastModifiedBy>Chris Oomen</cp:lastModifiedBy>
  <dcterms:modified xsi:type="dcterms:W3CDTF">2013-07-01T06:23:49Z</dcterms:modified>
  <cp:revision>24</cp:revision>
  <dc:subject/>
  <dc:title>Hoefziekten</dc:title>
</cp:coreProperties>
</file>