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118-1C99-4208-950C-D98292C4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211-2D5B-44C9-B2AE-33F71CD4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C67-B218-453B-BFF7-C7556972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DAE-D2B5-43CF-B8CE-4D5C9E94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17D-3DC1-4200-BE49-5268DFB2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993-E6D9-406D-9B97-761D3E27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1CD-C0A3-4C30-9BC8-3FEAF1CE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964-2479-4369-A117-3B438CC7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5C6-6FD2-4FFF-A1E3-0CB27DEA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56B-74FA-41CB-ABD2-D00AA28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172-76BD-4BB4-AFDD-851B9901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C02-451A-4DFE-8E87-28C1D22F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709-20F3-4D37-BBD5-E883AD766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oorbereiden excur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rsie naar 4 verschillende land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ren (vervoer, datum, tij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undigen (in excursie opnemen) raadp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ds/route samen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pen leren ke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kundig/ge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/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sontwerp/ beheer 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 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en vormen (4 deelnemers per gro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aanpak opstellen (waaraan moeten we de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lopige planning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en vor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rijf voor jezelf! 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ke landschap heeft mijn voork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wil ik accent aan g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ursie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aan anderen o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zelf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met zoveel mogelijk anderen, wissel ideeën uit en zoek na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ijkgestem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vullers. (15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achtspunten voor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van plan met docent (voor go/n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2:47:39Z</dcterms:created>
  <dc:creator>Willy</dc:creator>
  <dc:description/>
  <dc:language>en-US</dc:language>
  <cp:lastModifiedBy>Willy</cp:lastModifiedBy>
  <dcterms:modified xsi:type="dcterms:W3CDTF">2013-02-18T23:06:07Z</dcterms:modified>
  <cp:revision>3</cp:revision>
  <dc:subject/>
  <dc:title>Project voorbereiden excursie</dc:title>
</cp:coreProperties>
</file>