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829-2268-4F8E-81DF-A3E953E4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4D8-5852-4396-A228-A8DB76BA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B72-07CF-4575-BD85-2449E22B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117-5B26-45D4-BC47-32CBE7BC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1886-BB4F-4915-BC45-6E13740A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9B4-6F3C-428F-A208-CAA310C1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6E1-60AE-458B-84E2-3CA8D73E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272-86C7-4EB1-AD84-E4BB6B71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7FB-3E10-4096-9CCF-42F79646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342-4E25-42C1-85F1-ED063669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066-24FE-4765-9555-B46A63F9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405-E2C6-4625-9BE0-B00AFC38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D70E-23E2-4ED9-AA8F-9D9F143AF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voorbereiden excur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rsie naar 4 verschillende landsc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eren (vervoer, datum, tij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undigen (in excursie opnemen) raadpl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ds/route samen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ppen leren ke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mkundig/geolog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log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e/fa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psontwerp/ beheer 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 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pen vormen (4 deelnemers per gro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aanpak opstellen (waaraan moeten we den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lopige planning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pen vor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rijf voor jezelf! 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ke landschap heeft mijn voorke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wil ik accent aan ge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ursie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wil ik graag aan anderen overl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wil ik graag zelf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leg met zoveel mogelijk anderen, wissel ideeën uit en zoek na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ijkgestem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vullers. (15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dachtspunten voor l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leg van plan met docent (voor go/no 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22:47:39Z</dcterms:created>
  <dc:creator>Willy</dc:creator>
  <dc:description/>
  <dc:language>en-US</dc:language>
  <cp:lastModifiedBy>Willy</cp:lastModifiedBy>
  <dcterms:modified xsi:type="dcterms:W3CDTF">2013-02-18T23:06:07Z</dcterms:modified>
  <cp:revision>3</cp:revision>
  <dc:subject/>
  <dc:title>Project voorbereiden excursie</dc:title>
</cp:coreProperties>
</file>