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AEF3-501A-4F6A-BA49-BC238457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44CD-1F3F-4137-BAF7-4145C793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F2B-85C6-46DF-A8AC-20276997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F7F-DD87-46F0-99B3-782C780A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FB1-23DD-4D5A-BFB0-17EB2029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1F9-406D-4B50-BBC7-3AA95BF8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2AD-45A1-4D41-97B7-19A419B8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3AD-B0EA-4EC9-A425-585C9186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4DD-569D-4678-A8CD-F3327F98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C1C-AFC7-44D6-86F4-C9C3E57B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F3EC-3218-41AB-9214-D9B808FA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B25A-A2FD-41E2-881C-296D64CA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8B6E-326C-4CAA-97D6-19476E725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voorbereiden excur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ursie naar 4 verschillende landsc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n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eren (vervoer, datum, tij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undigen (in excursie opnemen) raadpl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ds/route samens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pen leren ke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kundig/ge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log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/fa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im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chapsontwerp/ beheer bespr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 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pen vormen (4 deelnemers per gro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van aanpak opstellen (waaraan moeten we den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lopige planning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pen vor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chrijf voor jezelf! o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ke landschap heeft mijn voorke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wil ik accent aan ge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g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we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ursie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undige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aan anderen o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 wil ik graag zelf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met zoveel mogelijk anderen, wissel ideeën uit en zoek na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lijkgestem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vullers. (15m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dachtspunten voor l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leg van plan met docent (voor go/no 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2:47:39Z</dcterms:created>
  <dc:creator>Willy</dc:creator>
  <dc:description/>
  <dc:language>en-US</dc:language>
  <cp:lastModifiedBy>Willy</cp:lastModifiedBy>
  <dcterms:modified xsi:type="dcterms:W3CDTF">2013-02-18T23:06:07Z</dcterms:modified>
  <cp:revision>3</cp:revision>
  <dc:subject/>
  <dc:title>Project voorbereiden excursie</dc:title>
</cp:coreProperties>
</file>