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0667-ED39-4179-9F84-939A9EAA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94B-1D9D-47D5-B88E-0425E828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21E-C8BF-451C-91E0-CB05BE4A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606-4DD4-4E72-9606-5143B537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4C85-CF64-4CE3-AA26-15455BA8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75BB-C140-4DD3-84AC-2DF2ED10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EDC-41AA-4122-A2BD-424A96C1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FBD-02D2-45DE-A096-C205EE2F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1A2F-651E-47E3-AA80-6EBFCF4D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4E15-4EC6-47B1-87E8-BADD5386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D0A-83FA-4307-84AE-48402374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FF7-563F-43C6-8CD3-C3B85A83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652F-A6E2-42DB-85A9-DE8E35856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voorbereiden excur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ursie naar 4 verschillende landsc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eren (vervoer, datum, tij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undigen (in excursie opnemen) raadpl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ds/route samen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happen leren ke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emkundig/geolog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log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e/fa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hapsontwerp/ beheer besp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 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pen vormen (4 deelnemers per gro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van aanpak opstellen (waaraan moeten we den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lopige planning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pen vor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hrijf voor jezelf! 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ke landschap heeft mijn voorke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wil ik accent aan gev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w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ursie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e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wil ik graag aan anderen overl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wil ik graag zelf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leg met zoveel mogelijk anderen, wissel ideeën uit en zoek na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ijkgestem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vullers. (15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dachtspunten voor l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leg van plan met docent (voor go/no 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22:47:39Z</dcterms:created>
  <dc:creator>Willy</dc:creator>
  <dc:description/>
  <dc:language>en-US</dc:language>
  <cp:lastModifiedBy>Willy</cp:lastModifiedBy>
  <dcterms:modified xsi:type="dcterms:W3CDTF">2013-02-18T23:06:07Z</dcterms:modified>
  <cp:revision>3</cp:revision>
  <dc:subject/>
  <dc:title>Project voorbereiden excursie</dc:title>
</cp:coreProperties>
</file>