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2A2-6517-4493-BDA8-2B49CF8E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576-8787-4291-80B6-B64AFE94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F25-8E13-4AC4-8426-E802A429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AE1-949E-474C-8AFF-E73772E3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D51-EBA0-407C-9D64-7334735E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D29-DC99-40CA-BFB8-0F807194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D42-7F56-44B2-9451-CA41D4D4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772-4BE7-47AE-8134-D8E87504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7D8-9DFC-45BE-88A4-24351544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268-146B-42CC-A3EE-DB42D38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416-E412-4820-8EFD-BE5862F6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4AB-2DEA-409D-AC05-A8A00BA9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B572-7778-456D-825C-B6FFD5DA5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voorbereiden excur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rsie naar 4 verschillende landsc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eren (vervoer, datum, tij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undigen (in excursie opnemen) raadpl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ds/route samen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pen leren ke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kundig/ge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/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sontwerp/ beheer 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 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pen vormen (4 deelnemers per gro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aanpak opstellen (waaraan moeten we den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lopige planning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pen vor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rijf voor jezelf! 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ke landschap heeft mijn voorke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wil ik accent aan ge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ursie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aan anderen o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zelf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met zoveel mogelijk anderen, wissel ideeën uit en zoek na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ijkgestem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vullers. (15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achtspunten voor l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van plan met docent (voor go/no 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2:47:39Z</dcterms:created>
  <dc:creator>Willy</dc:creator>
  <dc:description/>
  <dc:language>en-US</dc:language>
  <cp:lastModifiedBy>Willy</cp:lastModifiedBy>
  <dcterms:modified xsi:type="dcterms:W3CDTF">2013-02-18T23:06:07Z</dcterms:modified>
  <cp:revision>3</cp:revision>
  <dc:subject/>
  <dc:title>Project voorbereiden excursie</dc:title>
</cp:coreProperties>
</file>