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F4C9-5718-40D9-9A27-C8F8227C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F27-1CBA-43D8-8B00-AE28C719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1E2-8B7D-4920-B489-9E037FE0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65D6-DF34-40FE-8E75-CF39CE49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BC79-2E25-4E5D-9AAB-DC95F751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337-BC09-4729-A150-5559951E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1590-F3D1-49D3-BB8E-77D17578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739F-1B10-4B64-B4BC-D31C10A1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0C4-7B86-465B-9A1C-9C4B5E08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9D6B-4D31-4B26-AD1F-35367DDA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F316-6EA9-44E7-AF5C-1B00F4D8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CC0-89A0-4B5F-82EC-08FBA448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11BE-F18E-4473-91C9-126E8320C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voorbereiden excur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ursie naar 4 verschillende landsc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n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eren (vervoer, datum, tij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undigen (in excursie opnemen) raadpl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ds/route samen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chappen leren ke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emkundig/geolog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log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e/fa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chapsontwerp/ beheer besp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 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pen vormen (4 deelnemers per gro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van aanpak opstellen (waaraan moeten we den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lopige planning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pen vor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hrijf voor jezelf! 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ke landschap heeft mijn voorke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wil ik accent aan gev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w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ursie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e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wil ik graag aan anderen overl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wil ik graag zelf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leg met zoveel mogelijk anderen, wissel ideeën uit en zoek na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ijkgestem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vullers. (15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dachtspunten voor l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leg van plan met docent (voor go/no 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22:47:39Z</dcterms:created>
  <dc:creator>Willy</dc:creator>
  <dc:description/>
  <dc:language>en-US</dc:language>
  <cp:lastModifiedBy>Willy</cp:lastModifiedBy>
  <dcterms:modified xsi:type="dcterms:W3CDTF">2013-02-18T23:06:07Z</dcterms:modified>
  <cp:revision>3</cp:revision>
  <dc:subject/>
  <dc:title>Project voorbereiden excursie</dc:title>
</cp:coreProperties>
</file>