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F28-3C5F-4483-807E-5F60AEF62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FB48-C119-4077-A8F8-7ED57C452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E7313-84E4-4A86-B388-FDB0FB2E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DA3-1A55-4085-B219-8E2A4333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9DCB-E21A-4D91-AFF3-88ED581D5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569E-29D5-469E-A7B3-A017DDD06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5053-CB8E-441D-BE61-A4AC4483C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2052-8878-4426-974E-7FF89B70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2CC19-CD2A-4CFB-85CC-3F0F9118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DEA9-B0B7-4A98-83F9-30744FD3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CB2B-4E1E-4533-86A4-442612BD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52BD-2EE8-459C-B406-CEA4B2E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ABA4-15EA-41E8-9535-4624A1BD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234B-3F43-42BD-994E-8700E2E2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DD5A-0378-4399-8A35-9A6CE1A7D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8F92-375F-47F3-8E4F-EC59BD249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3420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541480" y="388620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7272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3420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541480" y="4802040"/>
            <a:ext cx="18158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6D10-5481-4277-8B6E-19600792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D34F-FD56-434A-ABA8-68EE69C3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174-7074-4C10-967D-F37BBA22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CF28-F98F-41CC-BF00-67D86121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685800" y="1369800"/>
            <a:ext cx="6966000" cy="95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5EA6-630D-47BC-A3B1-08D8C7ED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C82-DE29-4AEB-8DCB-E2D0DD8B2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17360" y="480204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45B1-D9C9-4267-9DA2-3F22C4ED5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2728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17360" y="3886200"/>
            <a:ext cx="27522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727280" y="4802040"/>
            <a:ext cx="56404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77D-D6A8-49B4-BAB5-5BD45012C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5C25-D7AD-47FF-99B4-71CB088856EF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A40D-E779-448B-B282-8855ECE5E8D9}" type="slidenum">
              <a:rPr b="0" lang="nl-NL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404640"/>
            <a:ext cx="7129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f1311"/>
                </a:solidFill>
                <a:latin typeface="Calibri"/>
              </a:rPr>
              <a:t>Certificaat voor vacht en voeding</a:t>
            </a:r>
            <a:endParaRPr b="0" lang="en-US" sz="3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1125360"/>
            <a:ext cx="5472000" cy="27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Uitgereikt op 29 mei 2013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Naam :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Klas :</a:t>
            </a:r>
            <a:r>
              <a:rPr b="0" lang="en-US" sz="18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95280" y="4941720"/>
            <a:ext cx="68407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Heeft deelgenomen aan de test om voeding, vacht bij verschillende dieren te kunnen herkennen mede mogelijk gemaakt door Citaverde college te Heerlen en Kasteelpark Born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588000" y="220500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364000" y="3346560"/>
            <a:ext cx="1073160" cy="925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508720" y="1125360"/>
            <a:ext cx="100008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588000" y="4365720"/>
            <a:ext cx="1073160" cy="92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8:55:36Z</dcterms:created>
  <dc:creator>hp</dc:creator>
  <dc:description/>
  <dc:language>en-US</dc:language>
  <cp:lastModifiedBy>hp</cp:lastModifiedBy>
  <dcterms:modified xsi:type="dcterms:W3CDTF">2013-04-23T09:13:15Z</dcterms:modified>
  <cp:revision>2</cp:revision>
  <dc:subject/>
  <dc:title>Slide 1</dc:title>
</cp:coreProperties>
</file>