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53D-8AB4-450E-9A15-FC71A5A5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23A-254A-44A3-AB2B-24756DC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181-EB48-426B-98D0-144ED84C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D0F-5F26-44F1-A5E7-175F68E3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331E-A333-4EE5-AA6C-A521DB8C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7CA7-DC71-444F-ACBF-5F01FEE8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6F36-2FEE-400D-ABCB-1D8B09DE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D2A9-122D-41FC-9440-35229C80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B1E7-110B-47C9-8784-9E8D4A87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0520-A974-497C-BA9C-C11ED504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2BE9-620E-4E96-A525-FFF60514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5B5-C7F5-4221-9206-14237A16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10E3-3719-45EA-91A8-BD290308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BCF1-F3B8-4D4D-BED1-553A9C4A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08A4-A7C1-4DC3-8A39-AD16E51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56ED-588E-4CC8-A558-F575654E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9D5A-65B1-4E0C-96AB-1EB7360D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6B4-54C1-4D4C-968D-9E0D98F0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530-4D72-4077-BC57-E23545C1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ACF-7029-448E-A1EE-3B63FD39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8B3-454A-421E-8B9E-97040BAD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FA2-A3B2-470E-84D2-4B51FB04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768-E05A-4468-A60B-FF8531E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E52-C9D7-4AF0-BE4B-4EBF0AF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50A1-1933-4837-BA7C-C93DF81263F7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CD7-175B-42E5-9BF4-9D07AB33BDE3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alibri"/>
              </a:rPr>
              <a:t>Certificaat voor vacht en voed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125360"/>
            <a:ext cx="547200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itgereikt op 29 mei 201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aam 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las 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941720"/>
            <a:ext cx="68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eft deelgenomen aan de test om voeding, vacht bij verschillende dieren te kunnen herkennen mede mogelijk gemaakt door Citaverde college te Heerlen en Kasteelpark Bor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64000" y="334656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100008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1073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8:55:36Z</dcterms:created>
  <dc:creator>hp</dc:creator>
  <dc:description/>
  <dc:language>en-US</dc:language>
  <cp:lastModifiedBy>hp</cp:lastModifiedBy>
  <dcterms:modified xsi:type="dcterms:W3CDTF">2013-04-23T09:13:15Z</dcterms:modified>
  <cp:revision>2</cp:revision>
  <dc:subject/>
  <dc:title>Slide 1</dc:title>
</cp:coreProperties>
</file>