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FF3B-787A-4B2A-8E05-84D41AC87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0F6B-142D-499D-A989-6074FC83E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6E45-06E0-42FA-8EDB-EDD6D8F3D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08C0-A7A8-4DFA-9929-9E91071BC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88E1-0C5D-49B4-B712-1BBA2807E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1872-8808-493E-8C09-A59B5A4B9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523F-B0B1-4574-9D68-A47B22E47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FD83-4E2C-491C-8822-8D945D504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17A4-A3A6-46DA-9ECA-343529B1A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F8E6-32B2-4C9C-A9AE-2D95B16BD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3DC6-5912-444F-A64B-435EB8A91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6DF4-FBB6-4F7F-896B-F6BBCDEDA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14468-A43F-453A-A242-369B52A0C1AA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youtube.com/watch?feature=player_embedded&amp;v=THKRGa8erFQ" TargetMode="External"/><Relationship Id="rId2" Type="http://schemas.openxmlformats.org/officeDocument/2006/relationships/hyperlink" Target="http://www.youtube.com/watch?v=7raHK4mXHUc" TargetMode="External"/><Relationship Id="rId3" Type="http://schemas.openxmlformats.org/officeDocument/2006/relationships/hyperlink" Target="http://www.voetafdruk.nl/" TargetMode="External"/><Relationship Id="rId4" Type="http://schemas.openxmlformats.org/officeDocument/2006/relationships/hyperlink" Target="http://www.voetafdruk.nl/" TargetMode="External"/><Relationship Id="rId5" Type="http://schemas.openxmlformats.org/officeDocument/2006/relationships/hyperlink" Target="http://www.voetafdruk.nl/" TargetMode="External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ESCO-PROJECT KLAS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6019560"/>
            <a:ext cx="457200" cy="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160" bIns="29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614760" y="259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stretching" descr=""/>
          <p:cNvPicPr/>
          <p:nvPr/>
        </p:nvPicPr>
        <p:blipFill>
          <a:blip r:embed="rId1"/>
          <a:stretch/>
        </p:blipFill>
        <p:spPr>
          <a:xfrm>
            <a:off x="304920" y="914400"/>
            <a:ext cx="1914480" cy="16668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905280" y="296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CCNV" descr=""/>
          <p:cNvPicPr/>
          <p:nvPr/>
        </p:nvPicPr>
        <p:blipFill>
          <a:blip r:embed="rId2"/>
          <a:stretch/>
        </p:blipFill>
        <p:spPr>
          <a:xfrm>
            <a:off x="3581280" y="1371600"/>
            <a:ext cx="1333800" cy="9334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757680" y="24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unesco23" descr=""/>
          <p:cNvPicPr/>
          <p:nvPr/>
        </p:nvPicPr>
        <p:blipFill>
          <a:blip r:embed="rId3"/>
          <a:stretch/>
        </p:blipFill>
        <p:spPr>
          <a:xfrm>
            <a:off x="6934320" y="533520"/>
            <a:ext cx="1628640" cy="20192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36232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millenniumdoelen" descr=""/>
          <p:cNvPicPr/>
          <p:nvPr/>
        </p:nvPicPr>
        <p:blipFill>
          <a:blip r:embed="rId4"/>
          <a:stretch/>
        </p:blipFill>
        <p:spPr>
          <a:xfrm>
            <a:off x="1981080" y="2514600"/>
            <a:ext cx="4600800" cy="22604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429000" y="2581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ecologischevoetafdruk" descr=""/>
          <p:cNvPicPr/>
          <p:nvPr/>
        </p:nvPicPr>
        <p:blipFill>
          <a:blip r:embed="rId5"/>
          <a:stretch/>
        </p:blipFill>
        <p:spPr>
          <a:xfrm>
            <a:off x="304920" y="5029200"/>
            <a:ext cx="2286000" cy="16956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876840" y="244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images" descr=""/>
          <p:cNvPicPr/>
          <p:nvPr/>
        </p:nvPicPr>
        <p:blipFill>
          <a:blip r:embed="rId6"/>
          <a:stretch/>
        </p:blipFill>
        <p:spPr>
          <a:xfrm>
            <a:off x="3886200" y="4952880"/>
            <a:ext cx="1182600" cy="16765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809880" y="26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stretch" descr=""/>
          <p:cNvPicPr/>
          <p:nvPr/>
        </p:nvPicPr>
        <p:blipFill>
          <a:blip r:embed="rId7"/>
          <a:stretch/>
        </p:blipFill>
        <p:spPr>
          <a:xfrm>
            <a:off x="7162920" y="4648320"/>
            <a:ext cx="154296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yperlink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1. Idealen en uitgangspunten van UNESC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youtube.com/watch?feature=player_embedded&amp;v=THKRGa8erFQ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2. Ecologische voetafdru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www.youtube.com/watch?v=7raHK4mXHUc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3. Meet je ecologische voetafdru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www</a:t>
            </a:r>
            <a:r>
              <a:rPr b="0" lang="nl-NL" sz="16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.voetafdruk.</a:t>
            </a:r>
            <a:r>
              <a:rPr b="0" lang="nl-NL" sz="16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nl</a:t>
            </a: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2T08:30:39Z</dcterms:created>
  <dc:creator>Hogeveen</dc:creator>
  <dc:description/>
  <dc:language>en-US</dc:language>
  <cp:lastModifiedBy>Tjeerd Hogeveen</cp:lastModifiedBy>
  <dcterms:modified xsi:type="dcterms:W3CDTF">2013-03-31T20:30:00Z</dcterms:modified>
  <cp:revision>4</cp:revision>
  <dc:subject/>
  <dc:title>UNESCO-PROJECT KLAS 1</dc:title>
</cp:coreProperties>
</file>