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4D69-55FE-47B1-90C4-AF6B76B0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A980-2033-40EC-B6ED-35FAE4D14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958-D0FC-48FE-B424-158C20E3B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BA1-CD98-4BB7-B720-8BFABB84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8F37-BD7C-4572-8F11-D2952647D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406B-919A-4AA7-824E-0FF037836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07F2-1DAB-4929-8648-FD236E38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3FB0-688E-45C4-8608-4CBFC8E0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3BBE-10EB-4938-8FA9-5A1256D87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77E-7050-4D46-8F97-8DCC1E5AD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453A-EE13-49FC-A3B0-94086CDCD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25446-075D-4B2D-ACC6-55058D692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E504-3DA9-478C-8866-7B6C1D321E6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outube.com/watch?feature=player_embedded&amp;v=THKRGa8erFQ" TargetMode="External"/><Relationship Id="rId2" Type="http://schemas.openxmlformats.org/officeDocument/2006/relationships/hyperlink" Target="http://www.youtube.com/watch?v=7raHK4mXHUc" TargetMode="External"/><Relationship Id="rId3" Type="http://schemas.openxmlformats.org/officeDocument/2006/relationships/hyperlink" Target="http://www.voetafdruk.nl/" TargetMode="External"/><Relationship Id="rId4" Type="http://schemas.openxmlformats.org/officeDocument/2006/relationships/hyperlink" Target="http://www.voetafdruk.nl/" TargetMode="External"/><Relationship Id="rId5" Type="http://schemas.openxmlformats.org/officeDocument/2006/relationships/hyperlink" Target="http://www.voetafdruk.nl/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SCO-PROJECT KLA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6019560"/>
            <a:ext cx="457200" cy="7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29160" bIns="291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614760" y="259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stretching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1914480" cy="1666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905280" y="296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CNV" descr=""/>
          <p:cNvPicPr/>
          <p:nvPr/>
        </p:nvPicPr>
        <p:blipFill>
          <a:blip r:embed="rId2"/>
          <a:stretch/>
        </p:blipFill>
        <p:spPr>
          <a:xfrm>
            <a:off x="3581280" y="1371600"/>
            <a:ext cx="1333800" cy="933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757680" y="2419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unesco23" descr=""/>
          <p:cNvPicPr/>
          <p:nvPr/>
        </p:nvPicPr>
        <p:blipFill>
          <a:blip r:embed="rId3"/>
          <a:stretch/>
        </p:blipFill>
        <p:spPr>
          <a:xfrm>
            <a:off x="6934320" y="533520"/>
            <a:ext cx="1628640" cy="2019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36232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millenniumdoelen" descr=""/>
          <p:cNvPicPr/>
          <p:nvPr/>
        </p:nvPicPr>
        <p:blipFill>
          <a:blip r:embed="rId4"/>
          <a:stretch/>
        </p:blipFill>
        <p:spPr>
          <a:xfrm>
            <a:off x="1981080" y="2514600"/>
            <a:ext cx="4600800" cy="2260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42900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ecologischevoetafdruk" descr=""/>
          <p:cNvPicPr/>
          <p:nvPr/>
        </p:nvPicPr>
        <p:blipFill>
          <a:blip r:embed="rId5"/>
          <a:stretch/>
        </p:blipFill>
        <p:spPr>
          <a:xfrm>
            <a:off x="304920" y="5029200"/>
            <a:ext cx="2286000" cy="16956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387684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images" descr=""/>
          <p:cNvPicPr/>
          <p:nvPr/>
        </p:nvPicPr>
        <p:blipFill>
          <a:blip r:embed="rId6"/>
          <a:stretch/>
        </p:blipFill>
        <p:spPr>
          <a:xfrm>
            <a:off x="3886200" y="4952880"/>
            <a:ext cx="1182600" cy="16765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9880" y="2666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tretch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54296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yperlink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imes New Roman"/>
              </a:rPr>
              <a:t>1. Idealen en uitgangspunten van UNESC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youtube.com/watch?feature=player_embedded&amp;v=THKRGa8erFQ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2. Ecologische voetafdru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youtube.com/watch?v=7raHK4mXHUc</a:t>
            </a: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3. Meet je ecologische voetafdru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ww</a:t>
            </a: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voetafdruk.</a:t>
            </a:r>
            <a:r>
              <a:rPr b="0" lang="nl-NL" sz="16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nl</a:t>
            </a:r>
            <a:r>
              <a:rPr b="0" lang="nl-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2T08:30:39Z</dcterms:created>
  <dc:creator>Hogeveen</dc:creator>
  <dc:description/>
  <dc:language>en-US</dc:language>
  <cp:lastModifiedBy>Tjeerd Hogeveen</cp:lastModifiedBy>
  <dcterms:modified xsi:type="dcterms:W3CDTF">2013-03-31T20:30:00Z</dcterms:modified>
  <cp:revision>4</cp:revision>
  <dc:subject/>
  <dc:title>UNESCO-PROJECT KLAS 1</dc:title>
</cp:coreProperties>
</file>