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08E-54DF-4B09-BD76-EC3FCE05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1E8-E80B-4B64-88C7-E363B387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4C4-9472-49F2-A9CC-9C8F195C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DEC-6A58-412F-9D2A-0246D70C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646-47CB-4BB3-8FC8-FB6C3C1D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BAE-BA7B-477E-B87D-C8B024E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83D-0F03-4BBC-8338-3D570317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28F-27F0-4EFF-A543-859BC53B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9AC-383D-45E3-B5E2-73EC5D5D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060-B9EF-40B4-A475-053BB88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9FE-6B55-4F81-AC55-790B1634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FCF-3208-4000-8B25-BE9784A7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A8C3-2840-47D6-96A2-D678F05996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THKRGa8erFQ" TargetMode="External"/><Relationship Id="rId2" Type="http://schemas.openxmlformats.org/officeDocument/2006/relationships/hyperlink" Target="http://www.youtube.com/watch?v=7raHK4mXHUc" TargetMode="External"/><Relationship Id="rId3" Type="http://schemas.openxmlformats.org/officeDocument/2006/relationships/hyperlink" Target="http://www.voetafdruk.nl/" TargetMode="External"/><Relationship Id="rId4" Type="http://schemas.openxmlformats.org/officeDocument/2006/relationships/hyperlink" Target="http://www.voetafdruk.nl/" TargetMode="External"/><Relationship Id="rId5" Type="http://schemas.openxmlformats.org/officeDocument/2006/relationships/hyperlink" Target="http://www.voetafdruk.nl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SCO-PROJECT KLA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4572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14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retching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914480" cy="166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52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CNV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133380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576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esco23" descr=""/>
          <p:cNvPicPr/>
          <p:nvPr/>
        </p:nvPicPr>
        <p:blipFill>
          <a:blip r:embed="rId3"/>
          <a:stretch/>
        </p:blipFill>
        <p:spPr>
          <a:xfrm>
            <a:off x="6934320" y="533520"/>
            <a:ext cx="162864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illenniumdoelen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4600800" cy="226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cologischevoetafdruk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2286000" cy="169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76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6"/>
          <a:stretch/>
        </p:blipFill>
        <p:spPr>
          <a:xfrm>
            <a:off x="3886200" y="4952880"/>
            <a:ext cx="1182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tretch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5429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 Idealen en uitgangspunten van UNES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feature=player_embedded&amp;v=THKRGa8erFQ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.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youtube.com/watch?v=7raHK4mXHU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3. Meet je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voetafdruk.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nl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30:39Z</dcterms:created>
  <dc:creator>Hogeveen</dc:creator>
  <dc:description/>
  <dc:language>en-US</dc:language>
  <cp:lastModifiedBy>Tjeerd Hogeveen</cp:lastModifiedBy>
  <dcterms:modified xsi:type="dcterms:W3CDTF">2013-03-31T20:30:00Z</dcterms:modified>
  <cp:revision>4</cp:revision>
  <dc:subject/>
  <dc:title>UNESCO-PROJECT KLAS 1</dc:title>
</cp:coreProperties>
</file>