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DA6-0DD8-4E95-808D-6ECAF468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775-C68B-42C6-8EA9-ADEF8CD6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A56-5B49-4119-BA1F-498CE572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F73-55E6-4225-9A3C-18A1F3E6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42A-2927-4473-8C23-41B3017B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9A1-2279-48C6-8B61-744AE392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C2A-25CE-413A-8F37-03B3F3C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F4B-2844-4CBB-9764-E8EFC96B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0CD-C72F-4ACC-BA55-5E9B9CE9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CDB-C021-403B-B904-212C8F31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2B1-B7A3-4F2D-878C-1F7829D9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C43-0013-4735-BCFD-28BC0F8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DB35-2688-44F3-B2C6-D1A2C403ACB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player_embedded&amp;v=THKRGa8erFQ" TargetMode="External"/><Relationship Id="rId2" Type="http://schemas.openxmlformats.org/officeDocument/2006/relationships/hyperlink" Target="http://www.youtube.com/watch?v=7raHK4mXHUc" TargetMode="External"/><Relationship Id="rId3" Type="http://schemas.openxmlformats.org/officeDocument/2006/relationships/hyperlink" Target="http://www.voetafdruk.nl/" TargetMode="External"/><Relationship Id="rId4" Type="http://schemas.openxmlformats.org/officeDocument/2006/relationships/hyperlink" Target="http://www.voetafdruk.nl/" TargetMode="External"/><Relationship Id="rId5" Type="http://schemas.openxmlformats.org/officeDocument/2006/relationships/hyperlink" Target="http://www.voetafdruk.nl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SCO-PROJECT KLA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6019560"/>
            <a:ext cx="4572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14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tretching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1914480" cy="166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528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CNV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133380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576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nesco23" descr=""/>
          <p:cNvPicPr/>
          <p:nvPr/>
        </p:nvPicPr>
        <p:blipFill>
          <a:blip r:embed="rId3"/>
          <a:stretch/>
        </p:blipFill>
        <p:spPr>
          <a:xfrm>
            <a:off x="6934320" y="533520"/>
            <a:ext cx="162864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23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illenniumdoelen" descr=""/>
          <p:cNvPicPr/>
          <p:nvPr/>
        </p:nvPicPr>
        <p:blipFill>
          <a:blip r:embed="rId4"/>
          <a:stretch/>
        </p:blipFill>
        <p:spPr>
          <a:xfrm>
            <a:off x="1981080" y="2514600"/>
            <a:ext cx="4600800" cy="2260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900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cologischevoetafdruk" descr=""/>
          <p:cNvPicPr/>
          <p:nvPr/>
        </p:nvPicPr>
        <p:blipFill>
          <a:blip r:embed="rId5"/>
          <a:stretch/>
        </p:blipFill>
        <p:spPr>
          <a:xfrm>
            <a:off x="304920" y="5029200"/>
            <a:ext cx="2286000" cy="1695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76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s" descr=""/>
          <p:cNvPicPr/>
          <p:nvPr/>
        </p:nvPicPr>
        <p:blipFill>
          <a:blip r:embed="rId6"/>
          <a:stretch/>
        </p:blipFill>
        <p:spPr>
          <a:xfrm>
            <a:off x="3886200" y="4952880"/>
            <a:ext cx="118260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tretch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5429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1. Idealen en uitgangspunten van UNES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feature=player_embedded&amp;v=THKRGa8erFQ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2. Ecologische voetafdru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youtube.com/watch?v=7raHK4mXHU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3. Meet je ecologische voetafdru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voetafdruk.</a:t>
            </a: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nl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30:39Z</dcterms:created>
  <dc:creator>Hogeveen</dc:creator>
  <dc:description/>
  <dc:language>en-US</dc:language>
  <cp:lastModifiedBy>Tjeerd Hogeveen</cp:lastModifiedBy>
  <dcterms:modified xsi:type="dcterms:W3CDTF">2013-03-31T20:30:00Z</dcterms:modified>
  <cp:revision>4</cp:revision>
  <dc:subject/>
  <dc:title>UNESCO-PROJECT KLAS 1</dc:title>
</cp:coreProperties>
</file>