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FB5F-8401-409E-AAE1-8D582340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E4CC-16DF-4263-8D05-5C90B648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EDED-396F-45FC-8C3A-D3CF6D60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7176-2B6D-4F3D-AB2D-65399C77A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257-6037-4669-B260-D9200EB6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7DE-BCAA-4319-BC78-D12339D1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7803-EF8A-4B4F-BEF8-759800EF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EA2-64EA-4979-9157-D131ADD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61F3-D857-4954-A361-576793AD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E6B4-D799-45DC-A043-804F4720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550-AD59-4D49-A215-6E59FCA4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E5E8-E945-4E57-82D6-D587B0C5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8B6F-E11F-4CA1-9F7C-7F8490DD571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THKRGa8erFQ" TargetMode="External"/><Relationship Id="rId2" Type="http://schemas.openxmlformats.org/officeDocument/2006/relationships/hyperlink" Target="http://www.youtube.com/watch?v=7raHK4mXHUc" TargetMode="External"/><Relationship Id="rId3" Type="http://schemas.openxmlformats.org/officeDocument/2006/relationships/hyperlink" Target="http://www.voetafdruk.nl/" TargetMode="External"/><Relationship Id="rId4" Type="http://schemas.openxmlformats.org/officeDocument/2006/relationships/hyperlink" Target="http://www.voetafdruk.nl/" TargetMode="External"/><Relationship Id="rId5" Type="http://schemas.openxmlformats.org/officeDocument/2006/relationships/hyperlink" Target="http://www.voetafdruk.nl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SCO-PROJECT KL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4572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etching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914480" cy="166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5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CNV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33380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7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esco23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2864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llenniumdoelen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4600800" cy="226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cologischevoetafdruk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228600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76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1182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etch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54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 Idealen en uitgangspunten van UNES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feature=player_embedded&amp;v=THKRGa8erFQ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.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youtube.com/watch?v=7raHK4mXHU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. Meet je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voetafdruk.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l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30:39Z</dcterms:created>
  <dc:creator>Hogeveen</dc:creator>
  <dc:description/>
  <dc:language>en-US</dc:language>
  <cp:lastModifiedBy>Tjeerd Hogeveen</cp:lastModifiedBy>
  <dcterms:modified xsi:type="dcterms:W3CDTF">2013-03-31T20:30:00Z</dcterms:modified>
  <cp:revision>4</cp:revision>
  <dc:subject/>
  <dc:title>UNESCO-PROJECT KLAS 1</dc:title>
</cp:coreProperties>
</file>