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D3531-D43F-467C-85C9-B390AC26F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32F9A-01DC-44B2-AFD5-55B84ED61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3F536-7DFB-4A03-8C96-2BB278DC7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21986-AFE2-4AEF-9223-723C90F13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99CDC-4264-4D03-8239-05990DAB7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B5709-2B1C-40B9-9E17-AE2EA2AD8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3EF8E-1E31-4BBD-8D6C-535B4086C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27285-C576-429B-BD35-4EE78C262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37256-A5C8-4A89-AA4B-7F8612395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4586C-EF28-4D9A-B1F3-F80BE10B6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D128F-4608-4901-A6CC-2FEBA5289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81D27-46F9-4EE3-B121-BE27E4003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B61C1-22B5-452D-A49F-083A6AA4B9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n deze workshop de volgende 3 onderdele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Calibri"/>
              </a:rPr>
              <a:t>1.Nazorg van een evenemen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Calibri"/>
              </a:rPr>
              <a:t>2.Evaluatie van een evenemen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Calibri"/>
              </a:rPr>
              <a:t>3.Vergunnin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Calibri"/>
              </a:rPr>
              <a:t>2. EVALUATIE VAN EEN EVENEMENT:</a:t>
            </a:r>
            <a:endParaRPr b="0" lang="en-US" sz="4400" spc="-1" strike="noStrike">
              <a:solidFill>
                <a:srgbClr val="000000"/>
              </a:solidFill>
              <a:latin typeface="Calibri"/>
            </a:endParaRPr>
          </a:p>
        </p:txBody>
      </p:sp>
      <p:sp>
        <p:nvSpPr>
          <p:cNvPr id="61" name=""/>
          <p:cNvSpPr txBox="1"/>
          <p:nvPr/>
        </p:nvSpPr>
        <p:spPr>
          <a:xfrm>
            <a:off x="456840" y="1599840"/>
            <a:ext cx="8435880" cy="4924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oor een evaluatie wordt het succes van je evenement bepaalt. Je krijgt meteen een overzicht van wat er goed en fout is gegaan, en daaruit kan je dan leren voor de toekomst. Maar hoe begin je nu aan zo een evaluati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rschillende soorten evaluat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Inter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xter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60"/>
            <a:ext cx="82296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INTERNE EVALUATIE</a:t>
            </a:r>
            <a:endParaRPr b="0" lang="en-US" sz="4000" spc="-1" strike="noStrike">
              <a:solidFill>
                <a:srgbClr val="000000"/>
              </a:solidFill>
              <a:latin typeface="Calibri"/>
            </a:endParaRPr>
          </a:p>
        </p:txBody>
      </p:sp>
      <p:sp>
        <p:nvSpPr>
          <p:cNvPr id="63" name=""/>
          <p:cNvSpPr txBox="1"/>
          <p:nvPr/>
        </p:nvSpPr>
        <p:spPr>
          <a:xfrm>
            <a:off x="0" y="475920"/>
            <a:ext cx="9144000" cy="63817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 hebben jouw collega’s en de medewerkers het evenement ervaren, inclusief de voorbereiding en de nazorg?</a:t>
            </a:r>
            <a:br>
              <a:rPr sz="1600"/>
            </a:br>
            <a:r>
              <a:rPr b="1" lang="nl-NL" sz="1600" spc="-1" strike="noStrike">
                <a:solidFill>
                  <a:srgbClr val="000000"/>
                </a:solidFill>
                <a:latin typeface="Calibri"/>
              </a:rPr>
              <a:t>Enkele vragen die je kan stelle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er voldoende tijd voor de organisatie en is deze op een goede manier verlope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het organiserende team goed? En wat vond je van de taakverdeling voor en tijdens het evenemen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ad je het gevoel dat er een bepaalde soort persoon (denker, doener, etc.) aanwezig had kunnen zij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het verloop zoals verwach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t kan er volgende keer eventueel efficiënter of beter?</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de briefing van de interne opdrachtgever volledig en duidelijk?</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 verliep de tussentijdse communicatie en terugkoppeling?</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 verliep het uitnodigingstrajec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de interne samenwerking goed om tot het juiste bestand van de genodigden te kome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veel gasten waren er uiteindelijk op het evenement? Wat was het no-show percentage? Was dit meer of minder dan verwach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het draaiboek volledig en duidelijk?</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Op welk moment werden eventueel fouten gemaakt of zaken vergeten? Zou je achteraf bepaalde punten anders in het draaiboek hebben opgenomen? Als dit het geval is, verander de betreffende punten alsnog zodat een juiste versie in het dossier achterblijft. Als bij een volgend evenement hetzelfde draaiboek of dossier wordt gebruikt, zullen dezelfde fouten zich niet meer herhale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t vonden jij en je team van het entertainment, de locatie, de catering, enz.? Zou je in de toekomst nogmaals met deze leveranciers samenwerke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EXTERNE EVALUATI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Stel jezelf de vraag of je het evenement wil evalueren door de deelnemers? Jouw beslissing zal afhangen van 3 factore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Het repetitieve karakter van het evenement</a:t>
            </a:r>
            <a:br>
              <a:rPr sz="2200"/>
            </a:br>
            <a:r>
              <a:rPr b="0" lang="nl-NL" sz="2200" spc="-1" strike="noStrike">
                <a:solidFill>
                  <a:srgbClr val="000000"/>
                </a:solidFill>
                <a:latin typeface="Calibri"/>
              </a:rPr>
              <a:t>Als het evenement bijvoorbeeld jaarlijks wordt georganiseerd, is het aangewezen om een evaluatie te doen. Al is het maar om constructieve feedback te ontvangen.</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Het soort evenement </a:t>
            </a:r>
            <a:br>
              <a:rPr sz="2200"/>
            </a:br>
            <a:r>
              <a:rPr b="0" lang="nl-NL" sz="2200" spc="-1" strike="noStrike">
                <a:solidFill>
                  <a:srgbClr val="000000"/>
                </a:solidFill>
                <a:latin typeface="Calibri"/>
              </a:rPr>
              <a:t>Bij kleine evenementen zal minder vaak een officieel evaluatiedocument worden overhandigd.</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Betaalde deelname of gratis deelname</a:t>
            </a:r>
            <a:br>
              <a:rPr sz="2200"/>
            </a:br>
            <a:r>
              <a:rPr b="0" lang="nl-NL" sz="2200" spc="-1" strike="noStrike">
                <a:solidFill>
                  <a:srgbClr val="000000"/>
                </a:solidFill>
                <a:latin typeface="Calibri"/>
              </a:rPr>
              <a:t>Hebben de deelnemers moeten betalen voor de activiteit, dan komen ze naar het evenement met bepaalde verwachtingen ten opzichte van de kwaliteit. Het is dan ook erg aan te raden achteraf na te gaan of die verwachtingen werden ingelost.</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VERSCHILLENDE MANIEREN OM TE EVALUEREN</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ondeling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chriftelijk (schriftelijke enquête)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ondeling </a:t>
            </a:r>
            <a:r>
              <a:rPr b="0" lang="nl-NL" sz="3200" spc="-1" strike="noStrike">
                <a:solidFill>
                  <a:srgbClr val="000000"/>
                </a:solidFill>
                <a:latin typeface="Wingdings"/>
                <a:ea typeface="Wingdings"/>
              </a:rPr>
              <a:t></a:t>
            </a:r>
            <a:r>
              <a:rPr b="0" lang="nl-NL" sz="3200" spc="-1" strike="noStrike">
                <a:solidFill>
                  <a:srgbClr val="000000"/>
                </a:solidFill>
                <a:latin typeface="Calibri"/>
              </a:rPr>
              <a:t> kan zowel formeel of informe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Calibri"/>
              </a:rPr>
              <a:t>3. Vergunningen</a:t>
            </a:r>
            <a:endParaRPr b="0" lang="en-US" sz="4400" spc="-1" strike="noStrike">
              <a:solidFill>
                <a:srgbClr val="000000"/>
              </a:solidFill>
              <a:latin typeface="Calibri"/>
            </a:endParaRPr>
          </a:p>
        </p:txBody>
      </p:sp>
      <p:sp>
        <p:nvSpPr>
          <p:cNvPr id="69" name=""/>
          <p:cNvSpPr txBox="1"/>
          <p:nvPr/>
        </p:nvSpPr>
        <p:spPr>
          <a:xfrm>
            <a:off x="457200" y="1599840"/>
            <a:ext cx="8229600" cy="146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Uitleg van doc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pdracht voor in het portfolio</a:t>
            </a:r>
            <a:endParaRPr b="0" lang="en-US" sz="3200" spc="-1" strike="noStrike">
              <a:solidFill>
                <a:srgbClr val="000000"/>
              </a:solidFill>
              <a:latin typeface="Calibri"/>
            </a:endParaRPr>
          </a:p>
        </p:txBody>
      </p:sp>
      <p:pic>
        <p:nvPicPr>
          <p:cNvPr id="70" name="Afbeelding 3" descr=""/>
          <p:cNvPicPr/>
          <p:nvPr/>
        </p:nvPicPr>
        <p:blipFill>
          <a:blip r:embed="rId1"/>
          <a:stretch/>
        </p:blipFill>
        <p:spPr>
          <a:xfrm>
            <a:off x="4105440" y="3159000"/>
            <a:ext cx="4195440" cy="243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pdrachten:</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aak je opdrachten over de hoofdstukken behorende bij deze workshop en bewaar het in je portfoli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Filmpjes</a:t>
            </a:r>
            <a:endParaRPr b="0" lang="en-US" sz="4400" spc="-1" strike="noStrike">
              <a:solidFill>
                <a:srgbClr val="000000"/>
              </a:solidFill>
              <a:latin typeface="Calibri"/>
            </a:endParaRPr>
          </a:p>
        </p:txBody>
      </p:sp>
      <p:sp>
        <p:nvSpPr>
          <p:cNvPr id="44" name=""/>
          <p:cNvSpPr txBox="1"/>
          <p:nvPr/>
        </p:nvSpPr>
        <p:spPr>
          <a:xfrm>
            <a:off x="457200" y="1599840"/>
            <a:ext cx="8229600" cy="1252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m eerst in het onderwerp te komen met je gedachten kijken we een aantal filmpj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 name="Afbeelding 3" descr=""/>
          <p:cNvPicPr/>
          <p:nvPr/>
        </p:nvPicPr>
        <p:blipFill>
          <a:blip r:embed="rId1"/>
          <a:stretch/>
        </p:blipFill>
        <p:spPr>
          <a:xfrm>
            <a:off x="3708360" y="3432240"/>
            <a:ext cx="2519280" cy="252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260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NAZORG (OPRUIMEN) EN EVALUATIE EVENEMENTEN</a:t>
            </a:r>
            <a:endParaRPr b="0" lang="en-US" sz="4400" spc="-1" strike="noStrike">
              <a:solidFill>
                <a:srgbClr val="000000"/>
              </a:solidFill>
              <a:latin typeface="Calibri"/>
            </a:endParaRPr>
          </a:p>
        </p:txBody>
      </p:sp>
      <p:sp>
        <p:nvSpPr>
          <p:cNvPr id="47" name="PlaceHolder 2"/>
          <p:cNvSpPr>
            <a:spLocks noGrp="1"/>
          </p:cNvSpPr>
          <p:nvPr>
            <p:ph type="subTitle"/>
          </p:nvPr>
        </p:nvSpPr>
        <p:spPr>
          <a:xfrm>
            <a:off x="395280" y="1844640"/>
            <a:ext cx="8424720" cy="4464000"/>
          </a:xfrm>
          <a:prstGeom prst="rect">
            <a:avLst/>
          </a:prstGeom>
          <a:noFill/>
          <a:ln w="0">
            <a:noFill/>
          </a:ln>
        </p:spPr>
        <p:txBody>
          <a:bodyPr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Calibri"/>
              </a:rPr>
              <a:t>Het evenement heeft plaatsgevonden. Maar de draaiboeken kunnen nog niet in de kast. Er moet nog worden afgerond (opruimen) en er moet nog een evaluatie plaatsvinden. Door een evaluatie wordt </a:t>
            </a:r>
            <a:r>
              <a:rPr b="1" lang="nl-NL" sz="3000" spc="-1" strike="noStrike" u="sng">
                <a:solidFill>
                  <a:srgbClr val="000000"/>
                </a:solidFill>
                <a:uFillTx/>
                <a:latin typeface="Calibri"/>
              </a:rPr>
              <a:t>het succes </a:t>
            </a:r>
            <a:r>
              <a:rPr b="1" lang="nl-NL" sz="3000" spc="-1" strike="noStrike">
                <a:solidFill>
                  <a:srgbClr val="000000"/>
                </a:solidFill>
                <a:latin typeface="Calibri"/>
              </a:rPr>
              <a:t>van je evenement bepaalt. Je krijgt meteen een overzicht van wat er goed en fout is gegaan, en daaruit kan je dan leren voor de toekomst. Maar hoe begin je nu aan het afronden en een hoe doe je een evaluatie?</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 </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Calibri"/>
              </a:rPr>
              <a:t>1. NAZORG</a:t>
            </a:r>
            <a:endParaRPr b="0" lang="en-US" sz="4400" spc="-1" strike="noStrike">
              <a:solidFill>
                <a:srgbClr val="000000"/>
              </a:solidFill>
              <a:latin typeface="Calibri"/>
            </a:endParaRPr>
          </a:p>
        </p:txBody>
      </p:sp>
      <p:sp>
        <p:nvSpPr>
          <p:cNvPr id="49" name=""/>
          <p:cNvSpPr txBox="1"/>
          <p:nvPr/>
        </p:nvSpPr>
        <p:spPr>
          <a:xfrm>
            <a:off x="0" y="981000"/>
            <a:ext cx="9144000" cy="5400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Bij de nazorg komt veel kijken o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Administratie (facturen betalen, kosten in kaart brengen,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Opstellen klachten brieve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Evaluatiegesprekke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Bedankbrieven/presentjes (gasten, personeel, vrijwilligets,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Maar ook het opruimen en afbreken van het evenement hoort erbij….</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DE PUINHOOP NA EEN EVENEMENT</a:t>
            </a:r>
            <a:endParaRPr b="0" lang="en-US" sz="4000" spc="-1" strike="noStrike">
              <a:solidFill>
                <a:srgbClr val="000000"/>
              </a:solidFill>
              <a:latin typeface="Calibri"/>
            </a:endParaRPr>
          </a:p>
        </p:txBody>
      </p:sp>
      <p:pic>
        <p:nvPicPr>
          <p:cNvPr id="51" name="Picture 2" descr=""/>
          <p:cNvPicPr/>
          <p:nvPr/>
        </p:nvPicPr>
        <p:blipFill>
          <a:blip r:embed="rId1"/>
          <a:srcRect l="15229" t="37228" r="44207" b="18229"/>
          <a:stretch/>
        </p:blipFill>
        <p:spPr>
          <a:xfrm>
            <a:off x="1258920" y="1413000"/>
            <a:ext cx="6626160" cy="511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WAAR MOET JE BEGINNEN?</a:t>
            </a:r>
            <a:endParaRPr b="0" lang="en-US" sz="4400" spc="-1" strike="noStrike">
              <a:solidFill>
                <a:srgbClr val="000000"/>
              </a:solidFill>
              <a:latin typeface="Calibri"/>
            </a:endParaRPr>
          </a:p>
        </p:txBody>
      </p:sp>
      <p:pic>
        <p:nvPicPr>
          <p:cNvPr id="53" name="Picture 2" descr=""/>
          <p:cNvPicPr/>
          <p:nvPr/>
        </p:nvPicPr>
        <p:blipFill>
          <a:blip r:embed="rId1"/>
          <a:srcRect l="23183" t="62053" r="55959" b="17271"/>
          <a:stretch/>
        </p:blipFill>
        <p:spPr>
          <a:xfrm>
            <a:off x="1116000" y="1557360"/>
            <a:ext cx="6696000" cy="483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HOE GA JE TE WERK?</a:t>
            </a:r>
            <a:endParaRPr b="0" lang="en-US" sz="4400" spc="-1" strike="noStrike">
              <a:solidFill>
                <a:srgbClr val="000000"/>
              </a:solidFill>
              <a:latin typeface="Calibri"/>
            </a:endParaRPr>
          </a:p>
        </p:txBody>
      </p:sp>
      <p:pic>
        <p:nvPicPr>
          <p:cNvPr id="55" name="Picture 2" descr=""/>
          <p:cNvPicPr/>
          <p:nvPr/>
        </p:nvPicPr>
        <p:blipFill>
          <a:blip r:embed="rId1"/>
          <a:srcRect l="9434" t="22910" r="11752" b="7093"/>
          <a:stretch/>
        </p:blipFill>
        <p:spPr>
          <a:xfrm>
            <a:off x="755640" y="1413000"/>
            <a:ext cx="7920000" cy="512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N JE EENTJE?</a:t>
            </a:r>
            <a:endParaRPr b="0" lang="en-US" sz="4400" spc="-1" strike="noStrike">
              <a:solidFill>
                <a:srgbClr val="000000"/>
              </a:solidFill>
              <a:latin typeface="Calibri"/>
            </a:endParaRPr>
          </a:p>
        </p:txBody>
      </p:sp>
      <p:pic>
        <p:nvPicPr>
          <p:cNvPr id="57" name="Picture 2" descr=""/>
          <p:cNvPicPr/>
          <p:nvPr/>
        </p:nvPicPr>
        <p:blipFill>
          <a:blip r:embed="rId1"/>
          <a:srcRect l="9434" t="22910" r="11752" b="7093"/>
          <a:stretch/>
        </p:blipFill>
        <p:spPr>
          <a:xfrm>
            <a:off x="900000" y="1557360"/>
            <a:ext cx="7272360" cy="470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F MET EEN TEAM?</a:t>
            </a:r>
            <a:endParaRPr b="0" lang="en-US" sz="4400" spc="-1" strike="noStrike">
              <a:solidFill>
                <a:srgbClr val="000000"/>
              </a:solidFill>
              <a:latin typeface="Calibri"/>
            </a:endParaRPr>
          </a:p>
        </p:txBody>
      </p:sp>
      <p:pic>
        <p:nvPicPr>
          <p:cNvPr id="59" name="Picture 2" descr=""/>
          <p:cNvPicPr/>
          <p:nvPr/>
        </p:nvPicPr>
        <p:blipFill>
          <a:blip r:embed="rId1"/>
          <a:srcRect l="9434" t="22910" r="11752" b="5502"/>
          <a:stretch/>
        </p:blipFill>
        <p:spPr>
          <a:xfrm>
            <a:off x="1042920" y="1413000"/>
            <a:ext cx="7391520" cy="489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3:37:30Z</dcterms:created>
  <dc:creator>Brinkman</dc:creator>
  <dc:description/>
  <dc:language>en-US</dc:language>
  <cp:lastModifiedBy>Joyce Vonk</cp:lastModifiedBy>
  <dcterms:modified xsi:type="dcterms:W3CDTF">2012-02-20T08:59:52Z</dcterms:modified>
  <cp:revision>15</cp:revision>
  <dc:subject/>
  <dc:title>Dia 1</dc:title>
</cp:coreProperties>
</file>