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player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129440" y="5373720"/>
            <a:ext cx="1619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E920721F-E17F-41D3-809A-2A560359B5A5}" type="slidenum">
              <a:rPr b="0" lang="nl-NL" sz="2400" spc="-1" strike="noStrike">
                <a:solidFill>
                  <a:srgbClr val="000000"/>
                </a:solidFill>
                <a:latin typeface="DejaVu Serif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pplayer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5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84000" y="2060280"/>
            <a:ext cx="4465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484000" y="2852640"/>
            <a:ext cx="4824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Recordkeep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- in 7 stappen naar een digitaal archief</a:t>
            </a:r>
            <a:endParaRPr b="0" lang="en-US" sz="32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olg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ar bevindt zich een archiefstuk? Wat is de status? Hoe wordt het gebruikt?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enk aan voortgangsbewaking, workflow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mplementatie van verwijderi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it betreft de systematisch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vernietiging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dan wel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overbrenging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Processen die herkenbaar zijn vanuit de Archiefwe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ocumenteren informatie- en archiefmanagementprocess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stleggen van bevoegdheden, beslissingen en keuzes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Zie wat er verwacht en gevraagd wordt in kader van het archieftoezicht of de baselin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En ook nog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zicht en controle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ordt voldaan aan de gestelde eisen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oldoet het archiefsysteem aan de verwachtingen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Kortom: evalueren en bijstellen waar nodig (plan, do check, act)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Tenslotte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pleidi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raag zorg voor een permanent opleidingsprogramma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edereen die binnen en met het archiefsysteem werkt moet voldoende opgeleid zijn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Wij volgen: Digitaal archiver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Vastleggen / verwerve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keuze om het document al dan niet op te nemen in de collectie 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Opsla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in een bestand (fysiek / digitaal)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Documentaire process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Ordenin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het aanbrengen van samenhang tussen documenten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2200" indent="-32220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Beschrijvin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contextuele informatie en metadata (deels al bij vastleggen)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Documentaire process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Processen rondom de actualiteit van materiaal en collectie, waardering materiaal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Selectie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Verwijdering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Beware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Documentaire process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BESCHIKBAARSTELLEN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toegang en toegankelijkheid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© VHIC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00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Auteursrecht</a:t>
            </a: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-257040">
              <a:lnSpc>
                <a:spcPct val="80000"/>
              </a:lnSpc>
              <a:spcBef>
                <a:spcPts val="400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Niets uit deze presentatie mag worden verveelvoudigd en/of openbaar gemaakt, door middel van druk, fotokopie, microfilm of op andere wijze dan zonder voorafgaande toestemming van VHIC </a:t>
            </a: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BV</a:t>
            </a: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-257040">
              <a:lnSpc>
                <a:spcPct val="80000"/>
              </a:lnSpc>
              <a:spcBef>
                <a:spcPts val="400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No part of this presentation may be reproduced in any form, by print, photoprint, microfilm or any other means, without written permission from VHIC </a:t>
            </a: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BV</a:t>
            </a: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, Polakweg 23, 2288 GG Rijswijk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palen welke documenten worden opgenomen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elke documenten behoren in het archiefsysteem te worden opgenomen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it gebeurt op basis van analyse van voor de organisatie geldende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et- en regelgeving, eisen met betrekking tot de bedrijfsvoering en verantwoording en risicoanalys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palen hoe lang archiefbescheiden bewaard moeten word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ok dit gebeurt op basis van analyse van voor de organisatie geldende wet- en regelgeving, eisen met betrekking tot de bedrijfsvoering en verantwoording en risicoanalys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Uitvoering van dit proces leidt tot een selectiedocumen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pnemen van archiefbescheiden in het archiefsysteem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Er wordt een relatie gelegd met de maker en de ontstaanscontext van het stuk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stuk krijgt een plaats in het systeem en er word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relaties gelegd met andere stukk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Registratie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oel: bewijs leveren dat stuk is opgemaakt of opgenomen in systeem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stuk wordt voorzien van een uniek kenmerk en kan teruggevonden worden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Classificatie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Classificatie wordt gebruikt voor verschillende doeleinden, o.a. voor het leggen van koppelingen en het verlenen van toegang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Classificatie is een belangrijk onderdeel waar we nog op terug komen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pslag en behandeli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stukken behoren op passende media en onder de juiste omstandigheden bewaard te word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5360" indent="-3153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ga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ie verkrijgt toegang, wie niet? Gelden voorwaarden voor het verlenen van toegang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toekennen van rechten op toegang tot documenten gebeurt aan de hand van een classificati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5360" indent="-3153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2:25:37Z</dcterms:created>
  <dc:creator>Karelse, J. (Jack)</dc:creator>
  <dc:description/>
  <dc:language>en-US</dc:language>
  <cp:lastModifiedBy>Karelse, J. (Jack)</cp:lastModifiedBy>
  <dcterms:modified xsi:type="dcterms:W3CDTF">2013-03-21T15:04:52Z</dcterms:modified>
  <cp:revision>65</cp:revision>
  <dc:subject/>
  <dc:title>Dia 1</dc:title>
</cp:coreProperties>
</file>