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move the slide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416120"/>
            <a:ext cx="54864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2"/>
          </p:nvPr>
        </p:nvSpPr>
        <p:spPr>
          <a:xfrm>
            <a:off x="-3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3"/>
          </p:nvPr>
        </p:nvSpPr>
        <p:spPr>
          <a:xfrm>
            <a:off x="388440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02856-B2E4-49E8-A24F-CD2113C09867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AA8B8-8B1A-420F-8480-D2958CFCC0A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A916-CCD7-4E7F-B4E9-D90278EE7ACC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4CF2-D76A-4E72-983E-D5FDD45E2AB0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000F7-3330-461F-B6DD-50A7EA8C96F1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04840" y="695160"/>
            <a:ext cx="4649760" cy="34880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914400" y="4414680"/>
            <a:ext cx="5029200" cy="418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3C359-AACD-4E68-BC82-539349C18CDF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FF64A-0844-4E77-A1A4-664EA7EDA074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CAB4-6C86-41B4-BA7E-E80FBA7B0C73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3884760" y="882972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41535-F8E7-4B07-8D05-9216BA294E66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6520" cy="3484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BE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92760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426360" y="19886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42848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92760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426360" y="3718440"/>
            <a:ext cx="237960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02920" y="1413000"/>
            <a:ext cx="7201080" cy="166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16040" y="37184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02920" y="1362600"/>
            <a:ext cx="720108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16040" y="1988640"/>
            <a:ext cx="360684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28480" y="3718440"/>
            <a:ext cx="7391160" cy="157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pplayer3a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129440" y="5373720"/>
            <a:ext cx="161928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00" spc="-1" strike="noStrike">
                <a:solidFill>
                  <a:srgbClr val="000000"/>
                </a:solidFill>
                <a:latin typeface="Verdana"/>
              </a:rPr>
              <a:t>Pagina </a:t>
            </a:r>
            <a:fld id="{5724797E-5DB9-4779-81E3-62A856FD8FF3}" type="slidenum">
              <a:rPr b="0" lang="nl-NL" sz="2400" spc="-1" strike="noStrike">
                <a:solidFill>
                  <a:srgbClr val="000000"/>
                </a:solidFill>
                <a:latin typeface="DejaVu Serif Condensed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9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4" descr="pplayer3b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25"/>
          <p:cNvSpPr/>
          <p:nvPr/>
        </p:nvSpPr>
        <p:spPr>
          <a:xfrm rot="16200000">
            <a:off x="-746640" y="5864400"/>
            <a:ext cx="1739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DejaVu Serif Condensed"/>
              </a:rPr>
              <a:t>© VH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0b95d"/>
                </a:solidFill>
                <a:latin typeface="DejaVu Serif Condensed"/>
              </a:rPr>
              <a:t>Click to edit the title text format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743040" indent="-28584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2" marL="11430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3" marL="16002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4" marL="2057400" indent="-2286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denood.nl/images/prod200/LPPR1_ISTDAE_E27_A55_FR.jpg" TargetMode="External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84000" y="2060280"/>
            <a:ext cx="4465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2484000" y="2852640"/>
            <a:ext cx="482436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Recordkeeping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DejaVu Serif Condensed"/>
              </a:rPr>
              <a:t>- naar een digitaal archief</a:t>
            </a:r>
            <a:endParaRPr b="0" lang="en-US" sz="32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Kanttekening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tandaarden bieden geen maatwerk voor organisati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tijd vertalen naar de praktij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formatiebeheer is onderhevig aan veranderingen, dus ook de standaar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rganisaties zijn uniek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anpassen aan het ambitieniveau van de organisatie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 ISO 15489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DejaVu Serif Condensed"/>
              </a:rPr>
              <a:t>Integraal informatiemanagement: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le relevante inform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ongeacht de vorm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n de hele organis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procesgebonden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oor de hele organisatie </a:t>
            </a:r>
            <a:r>
              <a:rPr b="0" i="1" lang="nl-NL" sz="2000" spc="-1" strike="noStrike">
                <a:solidFill>
                  <a:srgbClr val="000000"/>
                </a:solidFill>
                <a:latin typeface="DejaVu Serif Condensed"/>
              </a:rPr>
              <a:t>(alle medewerkers, niet alleen DIV)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1188720" y="2060280"/>
            <a:ext cx="7769160" cy="358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ntwikkelt normen en standaar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s een netwerk van nationale instituten (in 148 landen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en NGO (niet-gouvernementele organisatie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ww.iso.or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760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623880"/>
                <a:tab algn="l" pos="1247760"/>
                <a:tab algn="l" pos="1871640"/>
                <a:tab algn="l" pos="2495520"/>
                <a:tab algn="l" pos="3119400"/>
                <a:tab algn="l" pos="3743280"/>
                <a:tab algn="l" pos="4367160"/>
                <a:tab algn="l" pos="4991040"/>
                <a:tab algn="l" pos="5614920"/>
                <a:tab algn="l" pos="6238800"/>
                <a:tab algn="l" pos="6862680"/>
                <a:tab algn="l" pos="7486560"/>
                <a:tab algn="l" pos="8110440"/>
                <a:tab algn="l" pos="8734320"/>
                <a:tab algn="l" pos="9358200"/>
                <a:tab algn="l" pos="9982080"/>
                <a:tab algn="l" pos="106059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91" name="Picture 4" descr="jet2"/>
          <p:cNvPicPr/>
          <p:nvPr/>
        </p:nvPicPr>
        <p:blipFill>
          <a:blip r:embed="rId1"/>
          <a:stretch/>
        </p:blipFill>
        <p:spPr>
          <a:xfrm>
            <a:off x="6313320" y="4465800"/>
            <a:ext cx="1789200" cy="2139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5" descr="Welcome to ISO"/>
          <p:cNvPicPr/>
          <p:nvPr/>
        </p:nvPicPr>
        <p:blipFill>
          <a:blip r:embed="rId2"/>
          <a:stretch/>
        </p:blipFill>
        <p:spPr>
          <a:xfrm>
            <a:off x="4211640" y="5111640"/>
            <a:ext cx="2095560" cy="8096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5"/>
          <p:cNvSpPr/>
          <p:nvPr/>
        </p:nvSpPr>
        <p:spPr>
          <a:xfrm>
            <a:off x="614520" y="1268280"/>
            <a:ext cx="689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International Organization for Standard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arom (inter)nationaal standaardiseren?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ternationaal referentiekader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meenschappelijke afspraken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-28800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oorwaarden voor (inter)nationale uitwisseling van producten, diensten, informatie, technologie.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richt op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kwalitei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eilig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trouwbaar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efficiency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lvl="1" marL="623880" indent="-23976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uitwisselbaarh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2880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96" name="Picture 4" descr="babel"/>
          <p:cNvPicPr/>
          <p:nvPr/>
        </p:nvPicPr>
        <p:blipFill>
          <a:blip r:embed="rId1"/>
          <a:stretch/>
        </p:blipFill>
        <p:spPr>
          <a:xfrm>
            <a:off x="6396120" y="4867200"/>
            <a:ext cx="2747880" cy="201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LPPR1_ISTDAE_E27_A55_F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189400" y="5429160"/>
            <a:ext cx="1081080" cy="10224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stopcontact"/>
          <p:cNvPicPr/>
          <p:nvPr/>
        </p:nvPicPr>
        <p:blipFill>
          <a:blip r:embed="rId4"/>
          <a:stretch/>
        </p:blipFill>
        <p:spPr>
          <a:xfrm>
            <a:off x="7812000" y="3716280"/>
            <a:ext cx="1081080" cy="1035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GN-STOL-Vliegtuig-1"/>
          <p:cNvPicPr/>
          <p:nvPr/>
        </p:nvPicPr>
        <p:blipFill>
          <a:blip r:embed="rId5"/>
          <a:stretch/>
        </p:blipFill>
        <p:spPr>
          <a:xfrm>
            <a:off x="5580000" y="4221000"/>
            <a:ext cx="1679760" cy="8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403280" y="1197000"/>
            <a:ext cx="7608960" cy="59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ISO in Nederland: NEN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06280" y="2214720"/>
            <a:ext cx="7769160" cy="293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14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Nederlands Normalisatie-instituut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gevestigd in Delft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met een Nederlandse Normcommissie Informatie- en recordmanagement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2880">
              <a:lnSpc>
                <a:spcPct val="125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Nederlandse vertaling van ISO 15489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endParaRPr b="0" lang="en-US" sz="1400" spc="-1" strike="noStrike">
              <a:solidFill>
                <a:srgbClr val="000000"/>
              </a:solidFill>
              <a:latin typeface="DejaVu Serif Condensed"/>
            </a:endParaRPr>
          </a:p>
          <a:p>
            <a:pPr marL="16704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539640"/>
                <a:tab algn="l" pos="1079640"/>
                <a:tab algn="l" pos="1619280"/>
                <a:tab algn="l" pos="2158920"/>
                <a:tab algn="l" pos="2698920"/>
                <a:tab algn="l" pos="3238560"/>
                <a:tab algn="l" pos="3778200"/>
                <a:tab algn="l" pos="4317840"/>
                <a:tab algn="l" pos="4857840"/>
                <a:tab algn="l" pos="5397480"/>
                <a:tab algn="l" pos="5937120"/>
                <a:tab algn="l" pos="6477120"/>
                <a:tab algn="l" pos="7016760"/>
                <a:tab algn="l" pos="7556400"/>
                <a:tab algn="l" pos="8096400"/>
                <a:tab algn="l" pos="8636040"/>
                <a:tab algn="l" pos="9175680"/>
                <a:tab algn="l" pos="9715680"/>
                <a:tab algn="l" pos="10255320"/>
                <a:tab algn="l" pos="10794960"/>
              </a:tabLst>
            </a:pPr>
            <a:r>
              <a:rPr b="0" lang="nl-NL" sz="600" spc="-1" strike="noStrike">
                <a:solidFill>
                  <a:srgbClr val="000000"/>
                </a:solidFill>
                <a:latin typeface="DejaVu Serif Condensed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DejaVu Serif Condensed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5835600" y="4649760"/>
            <a:ext cx="2630520" cy="139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42560" y="1196640"/>
            <a:ext cx="7201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arom een internationale norm op gebied van informatie- en archiefmanagement?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genomen complexiteit organisaties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name digitale informatiestro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chaalvergrotin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name invloed automatisering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ergroting verantwoordingsei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-343080"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 van statische component naar onderdeel bedrijfsproces</a:t>
            </a:r>
            <a:br>
              <a:rPr sz="2000"/>
            </a:b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ardoor: behoefte aan internationale ‘best practice’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40292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-ISO 15489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Voor wie bedoeld?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manager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div-ers, specialist informatiebeheer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t-beheer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lle medewerker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-301680"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…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01680" indent="0">
              <a:lnSpc>
                <a:spcPct val="15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ttp://www.whitefoot-forward.com/iso_15489-1.pdf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1476360" y="1988640"/>
            <a:ext cx="7531200" cy="35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dviseert over het beheer van archiefbescheiden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n archiefvormende organisaties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(publiek- of privaatrechtelijk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DejaVu Serif Condensed"/>
              </a:rPr>
              <a:t>Hoe? </a:t>
            </a:r>
            <a:br>
              <a:rPr sz="2000"/>
            </a:b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Richtlijnen voor vaststellen verantwoordelijkheden mbt: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schei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leid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dures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system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processen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1403280" y="1413000"/>
            <a:ext cx="72010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NEN-ISO 1548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1640" y="1017360"/>
            <a:ext cx="4589640" cy="610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Wat?</a:t>
            </a:r>
            <a:r>
              <a:rPr b="1" lang="nl-NL" sz="2400" spc="-1" strike="noStrike">
                <a:solidFill>
                  <a:srgbClr val="90b95d"/>
                </a:solidFill>
                <a:latin typeface="DejaVu Serif Condensed"/>
              </a:rPr>
              <a:t> </a:t>
            </a:r>
            <a:endParaRPr b="1" lang="en-US" sz="24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16000" y="1500120"/>
            <a:ext cx="75232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125000"/>
              </a:lnSpc>
              <a:spcBef>
                <a:spcPts val="499"/>
              </a:spcBef>
              <a:buNone/>
              <a:tabLst>
                <a:tab algn="l" pos="0"/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et bepalen van beleid en standaarden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Toewijzen verantwoordelijkheden en bevoegdhe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stellen procedures en richtlijn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Vaststellen van diensten mbt beheer en gebruik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archiefbescheid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Ontwerp, implementatie en beheer van archiefbeheersyste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>
              <a:lnSpc>
                <a:spcPct val="15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442800"/>
                <a:tab algn="l" pos="885960"/>
                <a:tab algn="l" pos="1328760"/>
                <a:tab algn="l" pos="1771560"/>
                <a:tab algn="l" pos="2214720"/>
                <a:tab algn="l" pos="2657520"/>
                <a:tab algn="l" pos="3100320"/>
                <a:tab algn="l" pos="3543480"/>
                <a:tab algn="l" pos="3986280"/>
                <a:tab algn="l" pos="4429080"/>
                <a:tab algn="l" pos="4871880"/>
                <a:tab algn="l" pos="5315040"/>
                <a:tab algn="l" pos="5757840"/>
                <a:tab algn="l" pos="6200640"/>
                <a:tab algn="l" pos="6643800"/>
                <a:tab algn="l" pos="7086600"/>
                <a:tab algn="l" pos="7529400"/>
                <a:tab algn="l" pos="7972560"/>
                <a:tab algn="l" pos="8415360"/>
                <a:tab algn="l" pos="885816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Integratie van Informatie- en archiefmanagement en 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	</a:t>
            </a: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bedrijfsprocessen en -systemen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42560" y="1267920"/>
            <a:ext cx="720108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90b95d"/>
                </a:solidFill>
                <a:latin typeface="DejaVu Serif Condensed"/>
              </a:rPr>
              <a:t>Processen van recordmanagement</a:t>
            </a:r>
            <a:endParaRPr b="1" lang="en-US" sz="2000" spc="-1" strike="noStrike">
              <a:solidFill>
                <a:srgbClr val="90b95d"/>
              </a:solidFill>
              <a:latin typeface="DejaVu Serif Condensed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428480" y="1988640"/>
            <a:ext cx="7391160" cy="33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at zijn onze records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lang moeten we ze bewar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vinden we ze terug ( binnen hun context)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Hoe houden we ze toegankelijk? 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  <a:p>
            <a:pPr marL="332640" indent="-332640">
              <a:lnSpc>
                <a:spcPct val="200000"/>
              </a:lnSpc>
              <a:spcBef>
                <a:spcPts val="499"/>
              </a:spcBef>
              <a:buClr>
                <a:srgbClr val="90b95d"/>
              </a:buClr>
              <a:buSzPct val="150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DejaVu Serif Condensed"/>
              </a:rPr>
              <a:t>Wie mag ze inzien?</a:t>
            </a:r>
            <a:endParaRPr b="0" lang="en-US" sz="2000" spc="-1" strike="noStrike">
              <a:solidFill>
                <a:srgbClr val="000000"/>
              </a:solidFill>
              <a:latin typeface="DejaVu Serif Condensed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2149560" y="2349360"/>
            <a:ext cx="739116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3300"/>
                </a:solidFill>
                <a:latin typeface="DejaVu Serif Condensed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0T12:25:37Z</dcterms:created>
  <dc:creator>Karelse, J. (Jack)</dc:creator>
  <dc:description/>
  <dc:language>en-US</dc:language>
  <cp:lastModifiedBy>Karelse, J. (Jack)</cp:lastModifiedBy>
  <dcterms:modified xsi:type="dcterms:W3CDTF">2013-03-21T15:05:45Z</dcterms:modified>
  <cp:revision>46</cp:revision>
  <dc:subject/>
  <dc:title>Dia 1</dc:title>
</cp:coreProperties>
</file>