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C79B85F2-0ABC-4D10-83C0-D62CB6AB08A5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in 7 stappen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g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 bevindt zich een archiefstuk? Wat is de status? Hoe wordt het gebruikt?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enk aan voortgangsbewaking, workflow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mplementatie van verwijder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betreft de systematisch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vernietiging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dan wel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overbrenging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die herkenbaar zijn vanuit de Archiefwet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cumenteren informatie- en archiefmanagementprocess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leggen van bevoegdheden, beslissingen en keuzes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Zie wat er verwacht en gevraagd wordt in kader van het archieftoezicht of de baseline.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En ook nog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zicht en control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ordt voldaan aan de gestelde eis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ldoet het archiefsysteem aan de verwachting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ortom: evalueren en bijstellen waar nodig (plan, do check, act)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Tenslott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leid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raag zorg voor een permanent opleidingsprogramma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edereen die binnen en met het archiefsysteem werkt moet voldoende opgeleid zij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Wij volgen: Digitaal archiver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astleggen / verwerv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keuze om het document al dan niet op te nemen in de collectie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psla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in een bestand (fysiek / digitaal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Orden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het aanbrengen van samenhang tussen document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22200" indent="-32220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rijving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contextuele informatie en metadata (deels al bij vastleggen)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Processen rondom de actualiteit van materiaal en collectie, waardering materiaal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Selectie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Verwijdering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277560" indent="-27756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waren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0b95d"/>
                </a:solidFill>
                <a:latin typeface="DejaVu Serif Condensed"/>
              </a:rPr>
              <a:t>Documentaire process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BESCHIKBAARSTELLEN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DejaVu Serif Condensed"/>
              </a:rPr>
              <a:t>toegang en toegankelijkheid</a:t>
            </a:r>
            <a:endParaRPr b="0" lang="en-US" sz="24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© VHIC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Auteursrecht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iets uit deze presentatie mag worden verveelvoudigd en/of openbaar gemaakt, door middel van druk, fotokopie, microfilm of op andere wijze dan zonder voorafgaande toestemming van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  <a:p>
            <a:pPr marL="257040" indent="-257040">
              <a:lnSpc>
                <a:spcPct val="80000"/>
              </a:lnSpc>
              <a:spcBef>
                <a:spcPts val="400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No part of this presentation may be reproduced in any form, by print, photoprint, microfilm or any other means, without written permission from VHIC </a:t>
            </a: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BV</a:t>
            </a: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, Polakweg 23, 2288 GG Rijswijk.</a:t>
            </a:r>
            <a:br>
              <a:rPr sz="1600"/>
            </a:br>
            <a:r>
              <a:rPr b="0" lang="nl-NL" sz="16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welke documenten worden opgenomen</a:t>
            </a:r>
            <a:br>
              <a:rPr sz="2000"/>
            </a:b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lke documenten behoren in het archiefsysteem te worden opgenomen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t gebeurt op basis van analyse van voor de organisatie geldende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palen hoe lang archiefbescheiden bewaard moeten worden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ok dit gebeurt op basis van analyse van voor de organisatie geldende wet- en regelgeving, eisen met betrekking tot de bedrijfsvoering en verantwoording en risicoanalys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voering van dit proces leidt tot een selectiedocument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nemen van archiefbescheiden in het archiefsysteem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r wordt een relatie gelegd met de maker en de ontstaanscontext van het stuk.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krijgt een plaats in het systeem en er wor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laties gelegd met andere stukken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egistr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el: bewijs leveren dat stuk is opgemaakt of opgenomen in systeem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stuk wordt voorzien van een uniek kenmerk en kan teruggevonden word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-3189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wordt gebruikt voor verschillende doeleinden, o.a. voor het leggen van koppelingen en het verlenen van toegang.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Classificatie is een belangrijk onderdeel waar we nog op terug komen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pslag en behandeli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stukken behoren op passende media en onder de juiste omstandigheden bewaard te worden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Processen NEN-ISO 15489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ang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verkrijgt toegang, wie niet? Gelden voorwaarden voor het verlenen van toegang?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toekennen van rechten op toegang tot documenten gebeurt aan de hand van een classificat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15360" indent="-3153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4:52Z</dcterms:modified>
  <cp:revision>65</cp:revision>
  <dc:subject/>
  <dc:title>Dia 1</dc:title>
</cp:coreProperties>
</file>