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23222526-B234-4883-9A1E-0C1224566F1F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84000" y="2060280"/>
            <a:ext cx="446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484000" y="2852640"/>
            <a:ext cx="482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Recordkeep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- in 7 stappen naar een digitaal archief</a:t>
            </a:r>
            <a:endParaRPr b="0" lang="en-US" sz="32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lg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ar bevindt zich een archiefstuk? Wat is de status? Hoe wordt het gebruikt?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enk aan voortgangsbewaking, workflow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mplementatie van verwijder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t betreft de systematisch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vernietiging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dan wel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overbrenging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ssen die herkenbaar zijn vanuit de Archiefwe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cumenteren informatie- en archiefmanagementprocess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leggen van bevoegdheden, beslissingen en keuzes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Zie wat er verwacht en gevraagd wordt in kader van het archieftoezicht of de basel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En ook nog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zicht en control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ordt voldaan aan de gestelde eis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ldoet het archiefsysteem aan de verwachting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Kortom: evalueren en bijstellen waar nodig (plan, do check, act)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Tenslott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leid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raag zorg voor een permanent opleidingsprogramma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edereen die binnen en met het archiefsysteem werkt moet voldoende opgeleid zij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Wij volgen: Digitaal archive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Vastleggen / verwerv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keuze om het document al dan niet op te nemen in de collectie 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Opsla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in een bestand (fysiek / digitaal)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Orden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het aanbrengen van samenhang tussen documenten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2200" indent="-32220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schrijv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contextuele informatie en metadata (deels al bij vastleggen)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Processen rondom de actualiteit van materiaal en collectie, waardering materiaal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Selectie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Verwijdering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war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SCHIKBAARSTELLEN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toegang en toegankelijkheid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© VHIC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Auteursrecht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Niets uit deze presentatie mag worden verveelvoudigd en/of openbaar gemaakt, door middel van druk, fotokopie, microfilm of op andere wijze dan zonder voorafgaande toestemming van VHIC </a:t>
            </a: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BV</a:t>
            </a: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No part of this presentation may be reproduced in any form, by print, photoprint, microfilm or any other means, without written permission from VHIC </a:t>
            </a: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BV</a:t>
            </a: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, Polakweg 23, 2288 GG Rijswijk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palen welke documenten worden opgenome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elke documenten behoren in het archiefsysteem te worden opgenom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t gebeurt op basis van analyse van voor de organisatie geldende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et- en regelgeving, eisen met betrekking tot de bedrijfsvoering en verantwoording en risicoanalys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palen hoe lang archiefbescheiden bewaard moeten word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ok dit gebeurt op basis van analyse van voor de organisatie geldende wet- en regelgeving, eisen met betrekking tot de bedrijfsvoering en verantwoording en risicoanalys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Uitvoering van dit proces leidt tot een selectiedocumen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nemen van archiefbescheiden in het archiefsysteem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r wordt een relatie gelegd met de maker en de ontstaanscontext van het stuk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stuk krijgt een plaats in het systeem en er wor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elaties gelegd met andere stukk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egistrati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el: bewijs leveren dat stuk is opgemaakt of opgenomen in systeem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stuk wordt voorzien van een uniek kenmerk en kan teruggevonden worde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 wordt gebruikt voor verschillende doeleinden, o.a. voor het leggen van koppelingen en het verlenen van toegang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 is een belangrijk onderdeel waar we nog op terug kome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slag en behandel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stukken behoren op passende media en onder de juiste omstandigheden bewaard te word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5360" indent="-3153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ga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verkrijgt toegang, wie niet? Gelden voorwaarden voor het verlenen van toegang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toekennen van rechten op toegang tot documenten gebeurt aan de hand van een classificati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5360" indent="-3153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3-03-21T15:04:52Z</dcterms:modified>
  <cp:revision>65</cp:revision>
  <dc:subject/>
  <dc:title>Dia 1</dc:title>
</cp:coreProperties>
</file>