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D14B74B1-085E-4F3A-B0D1-996F223051F7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in 7 stappen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 bevindt zich een archiefstuk? Wat is de status? Hoe wordt het gebruikt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enk aan voortgangsbewaking, workfl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betreft de systematisch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overbrenging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die herkenbaar zijn vanuit de Archiefw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leggen van bevoegdheden, beslissingen en keuzes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Zie wat er verwacht en gevraagd wordt in kader van het archieftoezicht of de basel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En 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ordt voldaan aan de gestelde eis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doet het archiefsysteem aan de verwachting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ortom: evalueren en bijstellen waar nodig (plan, do check, act)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Tenslott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leid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raag zorg voor een permanent opleidingsprogramma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edereen die binnen en met het archiefsysteem werkt moet voldoende opgeleid zij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Wij volgen: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astleggen / verwerv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keuze om het document al dan niet op te nemen in de collectie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psla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in een bestand (fysiek / digitaal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rde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het aanbrengen van samenhang tussen document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rijv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contextuele informatie en metadata (deels al bij vastleggen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Processen rondom de actualiteit van materiaal en collectie, waardering materiaal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Selectie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erwijdering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toegang en toegankelijkheid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© VHIC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Auteursrecht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iets uit deze presentatie mag worden verveelvoudigd en/of openbaar gemaakt, door middel van druk, fotokopie, microfilm of op andere wijze dan zonder voorafgaande toestemming van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o part of this presentation may be reproduced in any form, by print, photoprint, microfilm or any other means, without written permission from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, Polakweg 23, 2288 GG Rijsw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lke documenten behoren in het archiefsysteem te worden opgenom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gebeurt op basis van analyse van voor de organisatie gelden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ok dit gebeurt op basis van analyse van voor de organisatie geldende 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voering van dit proces leidt tot een selectiedocumen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het archiefsysteem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r wordt een relatie gelegd met de maker en de ontstaanscontext van het stuk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krijgt een plaats in het systeem en er wor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laties gelegd met andere stukk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el: bewijs leveren dat stuk is opgemaakt of opgenomen in systeem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wordt voorzien van een uniek kenmerk en kan teruggevonden word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wordt gebruikt voor verschillende doeleinden, o.a. voor het leggen van koppelingen en het verlenen van toega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is een belangrijk onderdeel waar we nog op terug kom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stukken behoren op passende media en onder de juiste omstandigheden bewaard te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verkrijgt toegang, wie niet? Gelden voorwaarden voor het verlenen van toegang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toekennen van rechten op toegang tot documenten gebeurt aan de hand van een classificat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4:52Z</dcterms:modified>
  <cp:revision>65</cp:revision>
  <dc:subject/>
  <dc:title>Dia 1</dc:title>
</cp:coreProperties>
</file>