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970C-A4C9-49CC-BD5F-83BD4B478BB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4DD6-9128-4886-90BC-71931A42415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C239-3703-4D2D-AE35-E726EAB5214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239B-3B44-4053-B94C-82E71D8E899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4B0C-9EA9-4B9E-A2F5-C0D00CEFA18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8FAD-4363-4CD3-AB7D-DB5EB114603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B29A-E299-4F44-BE28-9685A651879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14D8-D3F1-4552-8765-498A02D6AF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922E-6D03-4844-BE12-9998A64688F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298323B0-FA65-462F-B2F3-7810CA69914B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enood.nl/images/prod200/LPPR1_ISTDAE_E27_A55_FR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Kanttekening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tandaarden bieden geen maatwerk voor organisati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tijd vertalen naar de praktij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formatiebeheer is onderhevig aan veranderingen, dus ook de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rganisaties zijn un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anpassen aan het ambitieniveau van de organisatie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 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DejaVu Serif Condensed"/>
              </a:rPr>
              <a:t>Integraal informatiemanagemen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relevante inform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ongeacht de vorm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procesgebo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or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alle medewerkers, niet alleen DIV)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88720" y="2060280"/>
            <a:ext cx="776916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ikkelt normen en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s een netwerk van nationale instituten (in 148 la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en NGO (niet-gouvernementele organisatie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ww.iso.or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1" name="Picture 4" descr="jet2"/>
          <p:cNvPicPr/>
          <p:nvPr/>
        </p:nvPicPr>
        <p:blipFill>
          <a:blip r:embed="rId1"/>
          <a:stretch/>
        </p:blipFill>
        <p:spPr>
          <a:xfrm>
            <a:off x="6313320" y="4465800"/>
            <a:ext cx="1789200" cy="213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Welcome to ISO"/>
          <p:cNvPicPr/>
          <p:nvPr/>
        </p:nvPicPr>
        <p:blipFill>
          <a:blip r:embed="rId2"/>
          <a:stretch/>
        </p:blipFill>
        <p:spPr>
          <a:xfrm>
            <a:off x="4211640" y="5111640"/>
            <a:ext cx="2095560" cy="809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614520" y="1268280"/>
            <a:ext cx="68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nternational Organization for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(inter)nationaal standaardiseren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rnationaal referentiekad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meenschappelijke afspr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orwaarden voor (inter)nationale uitwisseling van producten, diensten, informatie, technolog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richt o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walitei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trouw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wissel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6" name="Picture 4" descr="babel"/>
          <p:cNvPicPr/>
          <p:nvPr/>
        </p:nvPicPr>
        <p:blipFill>
          <a:blip r:embed="rId1"/>
          <a:stretch/>
        </p:blipFill>
        <p:spPr>
          <a:xfrm>
            <a:off x="6396120" y="4867200"/>
            <a:ext cx="2747880" cy="201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PPR1_ISTDAE_E27_A55_F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9400" y="5429160"/>
            <a:ext cx="1081080" cy="102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stopcontact"/>
          <p:cNvPicPr/>
          <p:nvPr/>
        </p:nvPicPr>
        <p:blipFill>
          <a:blip r:embed="rId4"/>
          <a:stretch/>
        </p:blipFill>
        <p:spPr>
          <a:xfrm>
            <a:off x="7812000" y="3716280"/>
            <a:ext cx="1081080" cy="103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GN-STOL-Vliegtuig-1"/>
          <p:cNvPicPr/>
          <p:nvPr/>
        </p:nvPicPr>
        <p:blipFill>
          <a:blip r:embed="rId5"/>
          <a:stretch/>
        </p:blipFill>
        <p:spPr>
          <a:xfrm>
            <a:off x="5580000" y="4221000"/>
            <a:ext cx="16797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76089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SO in Nederland: 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06280" y="2214720"/>
            <a:ext cx="776916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 Normalisatie-instituu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vestigd in Delf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et een Nederlandse Normcommissie Informatie- en recordmanagemen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e vertaling van ISO 15489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835600" y="4649760"/>
            <a:ext cx="263052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een internationale norm op gebied van informatie- en archiefmanagement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enomen complexiteit organisaties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digitale informatiestr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chaalvergrot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invloed automatiser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rgroting verantwoordingsei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 van statische component naar onderdeel bedrijfsproc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door: behoefte aan internationale ‘best practice’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or wie bedoeld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anag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v-ers, specialist informatiebeheer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t-behe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medewerk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ttp://www.whitefoot-forward.com/iso_15489-1.pdf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76360" y="1988640"/>
            <a:ext cx="75312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dviseert over het beheer van archiefbeschei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archiefvormende organisatie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(publiek- of privaatrechtelijk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ichtlijnen voor vaststellen verantwoordelijkheden mb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l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ystem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40328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1640" y="1017360"/>
            <a:ext cx="45896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t?</a:t>
            </a:r>
            <a:r>
              <a:rPr b="1" lang="nl-NL" sz="2400" spc="-1" strike="noStrike">
                <a:solidFill>
                  <a:srgbClr val="90b95d"/>
                </a:solidFill>
                <a:latin typeface="DejaVu Serif Condensed"/>
              </a:rPr>
              <a:t> 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500120"/>
            <a:ext cx="7523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bepalen van beleid en standaard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wijzen verantwoordelijkheden en bevoegdhe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procedures en richtlij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van diensten mbt beheer en gebruik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erp, implementatie en beheer van archiefbeheer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gratie van Informatie- en archiefmanagement en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drijfsprocessen en -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5:45Z</dcterms:modified>
  <cp:revision>46</cp:revision>
  <dc:subject/>
  <dc:title>Dia 1</dc:title>
</cp:coreProperties>
</file>