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1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2.wmf" ContentType="image/x-wmf"/>
  <Override PartName="/ppt/media/image20.jpeg" ContentType="image/jpeg"/>
  <Override PartName="/ppt/media/image61.png" ContentType="image/png"/>
  <Override PartName="/ppt/media/image5.jpeg" ContentType="image/jpeg"/>
  <Override PartName="/ppt/media/image19.png" ContentType="image/png"/>
  <Override PartName="/ppt/media/image62.jpeg" ContentType="image/jpeg"/>
  <Override PartName="/ppt/media/image26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4.jpeg" ContentType="image/jpeg"/>
  <Override PartName="/ppt/media/image2.wmf" ContentType="image/x-wmf"/>
  <Override PartName="/ppt/media/image23.jpeg" ContentType="image/jpeg"/>
  <Override PartName="/ppt/media/image35.jpeg" ContentType="image/jpeg"/>
  <Override PartName="/ppt/media/image1.jpeg" ContentType="image/jpeg"/>
  <Override PartName="/ppt/media/image50.jpeg" ContentType="image/jpeg"/>
  <Override PartName="/ppt/media/image33.wmf" ContentType="image/x-wmf"/>
  <Override PartName="/ppt/media/image52.jpeg" ContentType="image/jpeg"/>
  <Override PartName="/ppt/media/image60.jpeg" ContentType="image/jpeg"/>
  <Override PartName="/ppt/media/image21.wmf" ContentType="image/x-wmf"/>
  <Override PartName="/ppt/media/image6.jpeg" ContentType="image/jpeg"/>
  <Override PartName="/ppt/media/image14.jpeg" ContentType="image/jpeg"/>
  <Override PartName="/ppt/media/image41.jpeg" ContentType="image/jpeg"/>
  <Override PartName="/ppt/media/image16.wmf" ContentType="image/x-wmf"/>
  <Override PartName="/ppt/media/image45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9.jpeg" ContentType="image/jpeg"/>
  <Override PartName="/ppt/media/image12.jpeg" ContentType="image/jpeg"/>
  <Override PartName="/ppt/media/image34.png" ContentType="image/png"/>
  <Override PartName="/ppt/media/image27.jpeg" ContentType="image/jpeg"/>
  <Override PartName="/ppt/media/image17.wmf" ContentType="image/x-wmf"/>
  <Override PartName="/ppt/media/image9.png" ContentType="image/png"/>
  <Override PartName="/ppt/media/image13.jpeg" ContentType="image/jpeg"/>
  <Override PartName="/ppt/media/image40.jpeg" ContentType="image/jpeg"/>
  <Override PartName="/ppt/media/image31.png" ContentType="image/png"/>
  <Override PartName="/ppt/media/image36.png" ContentType="image/png"/>
  <Override PartName="/ppt/media/image39.jpeg" ContentType="image/jpeg"/>
  <Override PartName="/ppt/media/image43.jpeg" ContentType="image/jpeg"/>
  <Override PartName="/ppt/media/image44.jpeg" ContentType="image/jpeg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10.wmf" ContentType="image/x-wmf"/>
  <Override PartName="/ppt/media/image56.jpeg" ContentType="image/jpeg"/>
  <Override PartName="/ppt/media/image57.jpeg" ContentType="image/jpeg"/>
  <Override PartName="/ppt/media/image58.jpeg" ContentType="image/jpe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C686-CF61-48CC-94D2-91F063B2A2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9A7-FD83-4D4B-AAC9-01DD136BC9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A7A9-0C7C-49CD-85BB-E338A58213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8E77-5B05-4578-B328-C3B67E20958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DDCE-D752-40B0-8BF0-74DACCE1A7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3E1F-55A5-46D4-A278-C463A92837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BB98-601D-495A-9CE7-688FC4F782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EDCC-DF30-4035-86FB-89C75F9677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4717-79E6-4970-94AA-C3CFB4B4DDC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BF3F-1F55-42A0-8AC0-18FED79A10A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6CD5-3894-4E6C-A889-15DF8754EA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A7CB-5904-4A40-AFE2-2A71F9EDA9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63CB-803A-481E-8692-E60E60E63E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A77C-9767-46B0-BA55-E40192950AA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F0D0-B575-463C-AE50-C22A8EDAC5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EB19-C3BD-4528-9578-9C9321014A4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009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atist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EE18-CDC0-4B73-BAD5-4694899246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AE7-0680-4B86-A7B6-618FEDB7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179-F787-40B2-84FF-13E8108D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864-EB0C-4EBF-BA93-500AED54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A9A-DAEE-47EA-89DC-DD7C7303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E5E-752A-4232-8481-1CCE7FC9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E2D-C8C6-4208-A0A9-5A652604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5A9-7C19-4939-81C0-CF82547C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98F-86D9-4197-B5E1-2F821381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AEC-F862-491A-98C8-3F91AB51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33F-1265-4B1E-ACA1-B9D15B8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684-8F4D-40D3-B3A9-E86AF629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6ED-B9F0-4307-9BEA-170F9E3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2DE7-F352-41C5-B601-BFBFC8F783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images.google.com/imgres?imgurl=http://www.slamnet.org.uk/re/images/Islam2.jpg&amp;imgrefurl=http://muslimsagainstsharia.blogspot.com/2008_12_01_archive.html&amp;usg=__J486IlcDspUzE3Z5nFjAEa9mWb8=&amp;h=298&amp;w=460&amp;sz=89&amp;hl=nl&amp;start=7&amp;tbnid=hupy3D7qnoxVUM:&amp;tbnh=83&amp;tbnw=128&amp;prev=/images%3Fq%3Dislam%26gbv%3D2%26hl%3Dnl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images.google.com/imgres?imgurl=http://blogimages.seniorennet.be/marcel2006/309083-a01b69e3c6e1c6b08d592425e3d325cb.jpg&amp;imgrefurl=http://blog.seniorennet.be/marcel2006/archief.php%3FID%3D309693&amp;usg=__afDsP-4_aSJonUB-bXjkjs_ihfQ=&amp;h=596&amp;w=860&amp;sz=203&amp;hl=nl&amp;start=1&amp;tbnid=4Jn4OKrx5jJVYM:&amp;tbnh=100&amp;tbnw=145&amp;prev=/images%3Fq%3Dvaticaan%26gbv%3D2%26hl%3Dnl" TargetMode="External"/><Relationship Id="rId5" Type="http://schemas.openxmlformats.org/officeDocument/2006/relationships/image" Target="../media/image38.jpeg"/><Relationship Id="rId6" Type="http://schemas.openxmlformats.org/officeDocument/2006/relationships/hyperlink" Target="http://images.google.com/imgres?imgurl=http://www.wereldtrip.nl/images/Upload/rteimg_20050314114930_0012.jpg&amp;imgrefurl=http://www.wereldtrip.nl/countries.aspx%3FCountryID%3D10018&amp;usg=__LoQdsjxMFXi1G4LA7XSy_gQJ_sk=&amp;h=241&amp;w=390&amp;sz=14&amp;hl=nl&amp;start=17&amp;tbnid=y_vsLmaKgDLAbM:&amp;tbnh=76&amp;tbnw=123&amp;prev=/images%3Fq%3Dhindoeisme%26gbv%3D2%26hl%3Dnl" TargetMode="External"/><Relationship Id="rId7" Type="http://schemas.openxmlformats.org/officeDocument/2006/relationships/image" Target="../media/image39.jpeg"/><Relationship Id="rId8" Type="http://schemas.openxmlformats.org/officeDocument/2006/relationships/hyperlink" Target="http://images.google.com/imgres?imgurl=http://www.amtravel.nl/www5/images/dayprogram/c1122/s/borobudur.jpg&amp;imgrefurl=http://levensbeschouwingen.come2me.nl/1028015/Boeddhisme&amp;usg=__e7CaTud6zGyB81dKes7wuuLk6qk=&amp;h=333&amp;w=500&amp;sz=37&amp;hl=nl&amp;start=161&amp;tbnid=ehmnfjyI4dkBNM:&amp;tbnh=87&amp;tbnw=130&amp;prev=/images%3Fq%3Dboeddhisme%26gbv%3D2%26ndsp%3D20%26hl%3Dnl%26sa%3DN%26start%3D160" TargetMode="External"/><Relationship Id="rId9" Type="http://schemas.openxmlformats.org/officeDocument/2006/relationships/image" Target="../media/image40.jpeg"/><Relationship Id="rId10" Type="http://schemas.openxmlformats.org/officeDocument/2006/relationships/hyperlink" Target="http://images.google.com/imgres?imgurl=http://hervormdgenemuiden.com.server17.firstfind.nl/cms/FCKeditor/cstmFiles/wwwhervormdgenemuidencom//Gebouwen/IMG_2270kopie.jpg&amp;imgrefurl=http://www.hervormdgenemuiden.com/global/nl/wie-zijn-we&amp;usg=__-IS5VXbw6DvRYAAXcDAMXH4AhZk=&amp;h=427&amp;w=640&amp;sz=54&amp;hl=nl&amp;start=29&amp;tbnid=agP1brWwdjFd7M:&amp;tbnh=91&amp;tbnw=137&amp;prev=/images%3Fq%3Dprotestantse%2Bkerk%26gbv%3D2%26ndsp%3D20%26hl%3Dnl%26sa%3DN%26start%3D20" TargetMode="External"/><Relationship Id="rId11" Type="http://schemas.openxmlformats.org/officeDocument/2006/relationships/image" Target="../media/image4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images.google.com/imgres?imgurl=http://www.1ouder.nl/1ouder/Eva.jpg&amp;imgrefurl=http://www.1ouder.nl/artikel.php%3Fid%3D19&amp;usg=__XIApCIs90eNGX2TZl8lSNAZR9R0=&amp;h=213&amp;w=150&amp;sz=24&amp;hl=nl&amp;start=25&amp;tbnid=rVKRKgRF73TWSM:&amp;tbnh=106&amp;tbnw=75&amp;prev=/images%3Fq%3Dalleenstaand%26gbv%3D2%26ndsp%3D20%26hl%3Dnl%26sa%3DN%26start%3D20" TargetMode="External"/><Relationship Id="rId3" Type="http://schemas.openxmlformats.org/officeDocument/2006/relationships/image" Target="../media/image43.jpeg"/><Relationship Id="rId4" Type="http://schemas.openxmlformats.org/officeDocument/2006/relationships/hyperlink" Target="http://images.google.com/imgres?imgurl=http://www.reniersdancemasters.nl/Old/images/coen1.jpg&amp;imgrefurl=http://www.reniersdancemasters.nl/Old/inschrijvensalsasolo.htm&amp;usg=__dz9rYv7vFX4FT_Uvye1bmoGdghw=&amp;h=799&amp;w=1132&amp;sz=109&amp;hl=nl&amp;start=27&amp;tbnid=OpdhQDOCiyHidM:&amp;tbnh=106&amp;tbnw=150&amp;prev=/images%3Fq%3Dalleenstaand%26gbv%3D2%26ndsp%3D20%26hl%3Dnl%26sa%3DN%26start%3D20" TargetMode="External"/><Relationship Id="rId5" Type="http://schemas.openxmlformats.org/officeDocument/2006/relationships/image" Target="../media/image44.jpeg"/><Relationship Id="rId6" Type="http://schemas.openxmlformats.org/officeDocument/2006/relationships/hyperlink" Target="http://images.google.com/imgres?imgurl=http://www.mendosa.com/commune3.jpg&amp;imgrefurl=http://www.mendosa.com/radical.html&amp;usg=__pCzVswTN0FNsTXj0vfldn8joB0s=&amp;h=755&amp;w=953&amp;sz=40&amp;hl=nl&amp;start=4&amp;tbnid=pXwUfVHgbIuNaM:&amp;tbnh=117&amp;tbnw=148&amp;prev=/images%3Fq%3Dcommune%26gbv%3D2%26hl%3Dnl" TargetMode="External"/><Relationship Id="rId7" Type="http://schemas.openxmlformats.org/officeDocument/2006/relationships/image" Target="../media/image45.jpeg"/><Relationship Id="rId8" Type="http://schemas.openxmlformats.org/officeDocument/2006/relationships/hyperlink" Target="http://images.google.com/imgres?imgurl=http://www.amberrosia.nl/enter/img/eenoudergezin.jpg&amp;imgrefurl=http://www.amberrosia.nl/enter/eenoudergezin.html&amp;usg=__hWyZBApJiKl7uhA55tKo_DEtL-k=&amp;h=375&amp;w=210&amp;sz=17&amp;hl=nl&amp;start=1&amp;tbnid=Su4hv3Rjv8Sh9M:&amp;tbnh=122&amp;tbnw=68&amp;prev=/images%3Fq%3Deenoudergezin%26gbv%3D2%26hl%3Dnl%26sa%3DX" TargetMode="External"/><Relationship Id="rId9" Type="http://schemas.openxmlformats.org/officeDocument/2006/relationships/image" Target="../media/image46.jpeg"/><Relationship Id="rId10" Type="http://schemas.openxmlformats.org/officeDocument/2006/relationships/hyperlink" Target="http://images.google.com/imgres?imgurl=http://image.pathfinder.com/time/daily/special/kennedy/images/kennedy.jpg&amp;imgrefurl=http://leda.eigenstart.nl/&amp;usg=__u7Wuf5qtPdmZy7-g3-Lqvv3X_os=&amp;h=171&amp;w=268&amp;sz=22&amp;hl=nl&amp;start=73&amp;tbnid=WWgxnme7QSJPbM:&amp;tbnh=72&amp;tbnw=113&amp;prev=/images%3Fq%3Dgrootfamilie%26gbv%3D2%26ndsp%3D20%26hl%3Dnl%26sa%3DN%26start%3D60" TargetMode="External"/><Relationship Id="rId11" Type="http://schemas.openxmlformats.org/officeDocument/2006/relationships/image" Target="../media/image47.jpeg"/><Relationship Id="rId12" Type="http://schemas.openxmlformats.org/officeDocument/2006/relationships/image" Target="../media/image32.png"/><Relationship Id="rId13" Type="http://schemas.openxmlformats.org/officeDocument/2006/relationships/hyperlink" Target="http://images.google.com/imgres?imgurl=http://www.kredietburo.be/cms/grafisch/nieuwsfeiten/209_hypotheek-samenwonend.jpg&amp;imgrefurl=http://www.kredietburo.be/cms/site_template_advanced_1/home.asp%3Fp_id%3D292%26p_naam%3DStandaard%2520Project%26tsectie%3D1%26offset%3D1%26nieuwsfeit_id%3D209&amp;usg=__6qXm9HqOhxv9Zo_NReOoDAHQGVw=&amp;h=152&amp;w=196&amp;sz=30&amp;hl=nl&amp;start=1&amp;tbnid=YsZlp8HpL2To7M:&amp;tbnh=81&amp;tbnw=104&amp;prev=/images%3Fq%3Dsamenwonend%26gbv%3D2%26hl%3Dnl" TargetMode="External"/><Relationship Id="rId14" Type="http://schemas.openxmlformats.org/officeDocument/2006/relationships/image" Target="../media/image48.jpe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hyperlink" Target="http://images.google.com/imgres?imgurl=http://www.heiligen-3s.nl/heiligen/01/01/01-01-1905-Valentinus-Paquay(Lowieke).jpg&amp;imgrefurl=http://www.heiligen-3s.nl/heiligen/01/01/01-01-1905-Valentinus-Paquay(Lowieke).php&amp;usg=__XLWvgrq3d0Reu8qmpa07VA6poBc=&amp;h=252&amp;w=178&amp;sz=8&amp;hl=nl&amp;start=63&amp;tbnid=ai8Dlhr3d5IF3M:&amp;tbnh=111&amp;tbnw=78&amp;prev=/images%3Fq%3Dkloosterling%26gbv%3D2%26ndsp%3D20%26hl%3Dnl%26sa%3DN%26start%3D60" TargetMode="External"/><Relationship Id="rId19" Type="http://schemas.openxmlformats.org/officeDocument/2006/relationships/image" Target="../media/image49.jpe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2.png"/><Relationship Id="rId23" Type="http://schemas.openxmlformats.org/officeDocument/2006/relationships/hyperlink" Target="http://www.baso.be/nieuws_actualiteit/afb_actualiteit/homo_ouders.jpg" TargetMode="External"/><Relationship Id="rId24" Type="http://schemas.openxmlformats.org/officeDocument/2006/relationships/image" Target="../media/image50.jpeg"/><Relationship Id="rId25" Type="http://schemas.openxmlformats.org/officeDocument/2006/relationships/hyperlink" Target="http://images.google.com/imgres?imgurl=http://home.deds.nl/~valerie_van_vaerenbergh/OefeningenHotPatatoes_Valerie_VV/gezin.jpg&amp;imgrefurl=http://home.deds.nl/~valerie_van_vaerenbergh/OefeningenHotPatatoes_Valerie_VV/&amp;usg=__zH4wZkGzuvBVho2dNp_S2QkiCxw=&amp;h=376&amp;w=400&amp;sz=25&amp;hl=nl&amp;start=3&amp;tbnid=PHk2G4A1U7DY5M:&amp;tbnh=117&amp;tbnw=124&amp;prev=/images%3Fq%3Dgezin%26gbv%3D2%26hl%3Dnl" TargetMode="External"/><Relationship Id="rId26" Type="http://schemas.openxmlformats.org/officeDocument/2006/relationships/image" Target="../media/image51.jpeg"/><Relationship Id="rId27" Type="http://schemas.openxmlformats.org/officeDocument/2006/relationships/image" Target="../media/image32.png"/><Relationship Id="rId28" Type="http://schemas.openxmlformats.org/officeDocument/2006/relationships/image" Target="../media/image32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hyperlink" Target="http://images.google.com/imgres?imgurl=http://www.poolster.edu.amsterdam.nl/reply/Criminaliteit%2520neemt%2520af.jpg&amp;imgrefurl=http://www.poolster.edu.amsterdam.nl/reply07d.htm&amp;usg=__fX_YnCskUfFkPYKyMNeZ8PQQzUg=&amp;h=170&amp;w=234&amp;sz=60&amp;hl=nl&amp;start=43&amp;tbnid=k4aBbKHPHhmsPM:&amp;tbnh=79&amp;tbnw=109&amp;prev=/images%3Fq%3Dcriminaliteit%26gbv%3D2%26ndsp%3D20%26hl%3Dnl%26sa%3DN%26start%3D40" TargetMode="External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B28B-08D1-4C55-B9B9-A7D4FF00C4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45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804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j0078708"/>
          <p:cNvPicPr/>
          <p:nvPr/>
        </p:nvPicPr>
        <p:blipFill>
          <a:blip r:embed="rId2"/>
          <a:stretch/>
        </p:blipFill>
        <p:spPr>
          <a:xfrm>
            <a:off x="0" y="0"/>
            <a:ext cx="7854840" cy="7370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 rot="19734600">
            <a:off x="1076040" y="1979280"/>
            <a:ext cx="7621560" cy="28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MOGRAF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WordArt 5"/>
          <p:cNvSpPr txBox="1"/>
          <p:nvPr/>
        </p:nvSpPr>
        <p:spPr>
          <a:xfrm rot="19734600">
            <a:off x="1061640" y="1968120"/>
            <a:ext cx="7621560" cy="282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EMOGRAFIE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633888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A49E-4512-4964-8226-059974C218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9" descr="kinderen_in_zwembad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5281560" cy="3506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1"/>
          <p:cNvSpPr/>
          <p:nvPr/>
        </p:nvSpPr>
        <p:spPr>
          <a:xfrm>
            <a:off x="0" y="633888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oudjes"/>
          <p:cNvPicPr/>
          <p:nvPr/>
        </p:nvPicPr>
        <p:blipFill>
          <a:blip r:embed="rId2"/>
          <a:stretch/>
        </p:blipFill>
        <p:spPr>
          <a:xfrm>
            <a:off x="4192560" y="3522600"/>
            <a:ext cx="4951440" cy="3335400"/>
          </a:xfrm>
          <a:prstGeom prst="rect">
            <a:avLst/>
          </a:prstGeom>
          <a:ln w="0">
            <a:noFill/>
          </a:ln>
        </p:spPr>
      </p:pic>
      <p:sp>
        <p:nvSpPr>
          <p:cNvPr id="143" name="Oval 18"/>
          <p:cNvSpPr/>
          <p:nvPr/>
        </p:nvSpPr>
        <p:spPr>
          <a:xfrm>
            <a:off x="1544760" y="1050840"/>
            <a:ext cx="7089480" cy="4856400"/>
          </a:xfrm>
          <a:prstGeom prst="ellipse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demografische dru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0"/>
          <p:cNvSpPr/>
          <p:nvPr/>
        </p:nvSpPr>
        <p:spPr>
          <a:xfrm>
            <a:off x="0" y="0"/>
            <a:ext cx="6040440" cy="3476520"/>
          </a:xfrm>
          <a:prstGeom prst="ellipse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cc00"/>
                </a:solidFill>
                <a:latin typeface="Arial"/>
              </a:rPr>
              <a:t>groene dru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1"/>
          <p:cNvSpPr/>
          <p:nvPr/>
        </p:nvSpPr>
        <p:spPr>
          <a:xfrm>
            <a:off x="2548080" y="3583080"/>
            <a:ext cx="7075440" cy="3476520"/>
          </a:xfrm>
          <a:prstGeom prst="ellipse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808080"/>
                </a:solidFill>
                <a:latin typeface="Arial"/>
              </a:rPr>
              <a:t>grijze dru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44640" y="3083040"/>
          <a:ext cx="4064040" cy="3450960"/>
        </p:xfrm>
        <a:graphic>
          <a:graphicData uri="http://schemas.openxmlformats.org/drawingml/2006/table">
            <a:tbl>
              <a:tblPr/>
              <a:tblGrid>
                <a:gridCol w="1595520"/>
                <a:gridCol w="1234800"/>
                <a:gridCol w="123372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ij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Object 10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48" name="Object 10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365E-A365-48A7-A9E8-34F60CCEE9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evolkinsdichtheidNederland2006"/>
          <p:cNvPicPr/>
          <p:nvPr/>
        </p:nvPicPr>
        <p:blipFill>
          <a:blip r:embed="rId1"/>
          <a:stretch/>
        </p:blipFill>
        <p:spPr>
          <a:xfrm>
            <a:off x="0" y="0"/>
            <a:ext cx="67104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1"/>
          <p:cNvSpPr/>
          <p:nvPr/>
        </p:nvSpPr>
        <p:spPr>
          <a:xfrm>
            <a:off x="5711760" y="5502240"/>
            <a:ext cx="3073320" cy="67464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5757840" y="3508200"/>
            <a:ext cx="3073320" cy="67500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urban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5697360" y="4557600"/>
            <a:ext cx="3133800" cy="67464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tvo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5772240" y="2459160"/>
            <a:ext cx="3073320" cy="67464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uburban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786280" y="1289160"/>
            <a:ext cx="3073680" cy="67464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oeiker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B051-6E02-48E5-BAC8-97478B6FF1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0" y="633888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4" descr="allochtonen-1"/>
          <p:cNvPicPr/>
          <p:nvPr/>
        </p:nvPicPr>
        <p:blipFill>
          <a:blip r:embed="rId1"/>
          <a:stretch/>
        </p:blipFill>
        <p:spPr>
          <a:xfrm>
            <a:off x="0" y="0"/>
            <a:ext cx="10072800" cy="6816600"/>
          </a:xfrm>
          <a:prstGeom prst="rect">
            <a:avLst/>
          </a:prstGeom>
          <a:ln w="0">
            <a:noFill/>
          </a:ln>
        </p:spPr>
      </p:pic>
      <p:sp>
        <p:nvSpPr>
          <p:cNvPr id="163" name="Oval 16"/>
          <p:cNvSpPr/>
          <p:nvPr/>
        </p:nvSpPr>
        <p:spPr>
          <a:xfrm>
            <a:off x="195120" y="270000"/>
            <a:ext cx="3837240" cy="1349280"/>
          </a:xfrm>
          <a:prstGeom prst="ellips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as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1708200" y="1738440"/>
            <a:ext cx="3836880" cy="1349280"/>
          </a:xfrm>
          <a:prstGeom prst="ellipse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ult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8"/>
          <p:cNvSpPr/>
          <p:nvPr/>
        </p:nvSpPr>
        <p:spPr>
          <a:xfrm>
            <a:off x="5502240" y="4689360"/>
            <a:ext cx="3836880" cy="1349640"/>
          </a:xfrm>
          <a:prstGeom prst="ellipse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eksu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9"/>
          <p:cNvSpPr/>
          <p:nvPr/>
        </p:nvSpPr>
        <p:spPr>
          <a:xfrm>
            <a:off x="3852720" y="3147840"/>
            <a:ext cx="3837240" cy="1349640"/>
          </a:xfrm>
          <a:prstGeom prst="ellipse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li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1415880" y="1062000"/>
            <a:ext cx="6519960" cy="4361040"/>
          </a:xfrm>
          <a:prstGeom prst="ellipse">
            <a:avLst/>
          </a:prstGeom>
          <a:blipFill rotWithShape="0">
            <a:blip r:embed="rId6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2929"/>
                </a:solidFill>
                <a:latin typeface="Arial"/>
              </a:rPr>
              <a:t>complex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2929"/>
                </a:solidFill>
                <a:latin typeface="Arial"/>
              </a:rPr>
              <a:t>multiculture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2929"/>
                </a:solidFill>
                <a:latin typeface="Arial"/>
              </a:rPr>
              <a:t>samenlev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BE5E-D8EE-4C63-8A6B-4FF04D4599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0" descr="Religie_in_Nederland_2006"/>
          <p:cNvPicPr/>
          <p:nvPr/>
        </p:nvPicPr>
        <p:blipFill>
          <a:blip r:embed="rId1"/>
          <a:stretch/>
        </p:blipFill>
        <p:spPr>
          <a:xfrm>
            <a:off x="225360" y="1360440"/>
            <a:ext cx="7783560" cy="47674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4519800" y="26906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oms-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3"/>
          <p:cNvSpPr/>
          <p:nvPr/>
        </p:nvSpPr>
        <p:spPr>
          <a:xfrm>
            <a:off x="4875840" y="37116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4"/>
          <p:cNvSpPr/>
          <p:nvPr/>
        </p:nvSpPr>
        <p:spPr>
          <a:xfrm>
            <a:off x="1963800" y="31719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n conf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5"/>
          <p:cNvSpPr/>
          <p:nvPr/>
        </p:nvSpPr>
        <p:spPr>
          <a:xfrm>
            <a:off x="2438640" y="573408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oeddhis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6"/>
          <p:cNvSpPr/>
          <p:nvPr/>
        </p:nvSpPr>
        <p:spPr>
          <a:xfrm>
            <a:off x="4314600" y="4205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7"/>
          <p:cNvSpPr/>
          <p:nvPr/>
        </p:nvSpPr>
        <p:spPr>
          <a:xfrm>
            <a:off x="5227200" y="56595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ind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9" descr="Islam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629080" cy="170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1" descr="309083-a01b69e3c6e1c6b08d592425e3d325cb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61160" y="0"/>
            <a:ext cx="2382840" cy="1643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3" descr="rteimg_20050314114930_001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59640" y="5322960"/>
            <a:ext cx="2484360" cy="1535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5" descr="borobudu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249880"/>
            <a:ext cx="2403360" cy="1608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7" descr="IMG_2270kopi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0080" y="3041640"/>
            <a:ext cx="22939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5FA6-7611-46AC-B230-EC1B42993C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9" descr="AMOS%202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Ev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" y="434880"/>
            <a:ext cx="1160280" cy="1640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8" name="Picture 7" descr="coen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04800" y="2055960"/>
            <a:ext cx="1895760" cy="1339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9" name="Picture 11" descr="commune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16520" y="4807080"/>
            <a:ext cx="1712880" cy="135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90" name="Picture 13" descr="eenoudergezi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16800" y="3103560"/>
            <a:ext cx="947520" cy="1700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91" name="Picture 17" descr="kenned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62480" y="227160"/>
            <a:ext cx="2036520" cy="1296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2" name="Oval 18"/>
          <p:cNvSpPr/>
          <p:nvPr/>
        </p:nvSpPr>
        <p:spPr>
          <a:xfrm>
            <a:off x="0" y="523800"/>
            <a:ext cx="2441520" cy="1170000"/>
          </a:xfrm>
          <a:prstGeom prst="ellips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lleensta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0" descr="209_hypotheek-samenwonend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610320" y="204840"/>
            <a:ext cx="1709640" cy="1332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4" name="Oval 21"/>
          <p:cNvSpPr/>
          <p:nvPr/>
        </p:nvSpPr>
        <p:spPr>
          <a:xfrm>
            <a:off x="1138320" y="2127240"/>
            <a:ext cx="2441520" cy="1170000"/>
          </a:xfrm>
          <a:prstGeom prst="ellipse">
            <a:avLst/>
          </a:prstGeom>
          <a:blipFill rotWithShape="0">
            <a:blip r:embed="rId15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chtp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3"/>
          <p:cNvSpPr/>
          <p:nvPr/>
        </p:nvSpPr>
        <p:spPr>
          <a:xfrm>
            <a:off x="4419720" y="4856040"/>
            <a:ext cx="2441520" cy="1170000"/>
          </a:xfrm>
          <a:prstGeom prst="ellipse">
            <a:avLst/>
          </a:prstGeom>
          <a:blipFill rotWithShape="0">
            <a:blip r:embed="rId1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769000" y="3267000"/>
            <a:ext cx="2441520" cy="1170000"/>
          </a:xfrm>
          <a:prstGeom prst="ellipse">
            <a:avLst/>
          </a:prstGeom>
          <a:blipFill rotWithShape="0">
            <a:blip r:embed="rId1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eenoud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g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6" descr="01-01-1905-Valentinus-Paquay(Lowieke)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411880" y="1511280"/>
            <a:ext cx="1119240" cy="1592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8" name="Oval 27"/>
          <p:cNvSpPr/>
          <p:nvPr/>
        </p:nvSpPr>
        <p:spPr>
          <a:xfrm>
            <a:off x="4722840" y="1738440"/>
            <a:ext cx="2441520" cy="1170000"/>
          </a:xfrm>
          <a:prstGeom prst="ellipse">
            <a:avLst/>
          </a:prstGeom>
          <a:blipFill rotWithShape="0">
            <a:blip r:embed="rId2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ooster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8"/>
          <p:cNvSpPr/>
          <p:nvPr/>
        </p:nvSpPr>
        <p:spPr>
          <a:xfrm>
            <a:off x="3219480" y="284040"/>
            <a:ext cx="2441520" cy="1170000"/>
          </a:xfrm>
          <a:prstGeom prst="ellipse">
            <a:avLst/>
          </a:prstGeom>
          <a:blipFill rotWithShape="0">
            <a:blip r:embed="rId2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otfami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9"/>
          <p:cNvSpPr/>
          <p:nvPr/>
        </p:nvSpPr>
        <p:spPr>
          <a:xfrm>
            <a:off x="6203880" y="254160"/>
            <a:ext cx="2441520" cy="1170000"/>
          </a:xfrm>
          <a:prstGeom prst="ellipse">
            <a:avLst/>
          </a:prstGeom>
          <a:blipFill rotWithShape="0">
            <a:blip r:embed="rId2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won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1" descr="Bekijk de afbeelding op ware grootte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598760" y="4832280"/>
            <a:ext cx="1792080" cy="1292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02" name="Picture 32" descr="gezin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456000" y="3367080"/>
            <a:ext cx="1530360" cy="1444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03" name="Oval 33"/>
          <p:cNvSpPr/>
          <p:nvPr/>
        </p:nvSpPr>
        <p:spPr>
          <a:xfrm>
            <a:off x="1166760" y="4856040"/>
            <a:ext cx="2441520" cy="1170000"/>
          </a:xfrm>
          <a:prstGeom prst="ellipse">
            <a:avLst/>
          </a:prstGeom>
          <a:blipFill rotWithShape="0">
            <a:blip r:embed="rId2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mop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2"/>
          <p:cNvSpPr/>
          <p:nvPr/>
        </p:nvSpPr>
        <p:spPr>
          <a:xfrm>
            <a:off x="2951280" y="3506760"/>
            <a:ext cx="2441520" cy="1170000"/>
          </a:xfrm>
          <a:prstGeom prst="ellipse">
            <a:avLst/>
          </a:prstGeom>
          <a:blipFill rotWithShape="0">
            <a:blip r:embed="rId2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8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9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0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49F7-8B81-4814-9F50-F75B3E257C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criminaliteit"/>
          <p:cNvPicPr/>
          <p:nvPr/>
        </p:nvPicPr>
        <p:blipFill>
          <a:blip r:embed="rId1"/>
          <a:stretch/>
        </p:blipFill>
        <p:spPr>
          <a:xfrm>
            <a:off x="2357280" y="1957320"/>
            <a:ext cx="4429440" cy="2943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Bekijk de afbeelding op ware grootte"/>
          <p:cNvPicPr/>
          <p:nvPr/>
        </p:nvPicPr>
        <p:blipFill>
          <a:blip r:embed="rId2"/>
          <a:stretch/>
        </p:blipFill>
        <p:spPr>
          <a:xfrm>
            <a:off x="0" y="0"/>
            <a:ext cx="2111400" cy="2111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itizens_arrest6"/>
          <p:cNvPicPr/>
          <p:nvPr/>
        </p:nvPicPr>
        <p:blipFill>
          <a:blip r:embed="rId3"/>
          <a:stretch/>
        </p:blipFill>
        <p:spPr>
          <a:xfrm>
            <a:off x="6191280" y="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IMG_1791(1)"/>
          <p:cNvPicPr/>
          <p:nvPr/>
        </p:nvPicPr>
        <p:blipFill>
          <a:blip r:embed="rId4"/>
          <a:stretch/>
        </p:blipFill>
        <p:spPr>
          <a:xfrm>
            <a:off x="0" y="5102280"/>
            <a:ext cx="2654280" cy="1755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riminaliteit_200"/>
          <p:cNvPicPr/>
          <p:nvPr/>
        </p:nvPicPr>
        <p:blipFill>
          <a:blip r:embed="rId5"/>
          <a:stretch/>
        </p:blipFill>
        <p:spPr>
          <a:xfrm>
            <a:off x="6654960" y="4991040"/>
            <a:ext cx="2489040" cy="1866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criminaliteit"/>
          <p:cNvPicPr/>
          <p:nvPr/>
        </p:nvPicPr>
        <p:blipFill>
          <a:blip r:embed="rId6"/>
          <a:stretch/>
        </p:blipFill>
        <p:spPr>
          <a:xfrm>
            <a:off x="0" y="2405160"/>
            <a:ext cx="2347920" cy="2347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criminaliteit-daalde-in-2008_5_460x0"/>
          <p:cNvPicPr/>
          <p:nvPr/>
        </p:nvPicPr>
        <p:blipFill>
          <a:blip r:embed="rId7"/>
          <a:stretch/>
        </p:blipFill>
        <p:spPr>
          <a:xfrm>
            <a:off x="6518160" y="2295360"/>
            <a:ext cx="2625840" cy="187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Criminaliteit%2520neemt%2520a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951280" y="0"/>
            <a:ext cx="2695320" cy="1954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1" descr="20090607151501_criminaliteit_kinderen"/>
          <p:cNvPicPr/>
          <p:nvPr/>
        </p:nvPicPr>
        <p:blipFill>
          <a:blip r:embed="rId10"/>
          <a:stretch/>
        </p:blipFill>
        <p:spPr>
          <a:xfrm>
            <a:off x="3260880" y="4989600"/>
            <a:ext cx="2911320" cy="1868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criminaliteit"/>
          <p:cNvPicPr/>
          <p:nvPr/>
        </p:nvPicPr>
        <p:blipFill>
          <a:blip r:embed="rId11"/>
          <a:stretch/>
        </p:blipFill>
        <p:spPr>
          <a:xfrm>
            <a:off x="1084320" y="-20520"/>
            <a:ext cx="69609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B79D-047E-41AC-99CA-B2F79B4760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j0439454"/>
          <p:cNvPicPr/>
          <p:nvPr/>
        </p:nvPicPr>
        <p:blipFill>
          <a:blip r:embed="rId1"/>
          <a:stretch/>
        </p:blipFill>
        <p:spPr>
          <a:xfrm>
            <a:off x="2428920" y="228600"/>
            <a:ext cx="4286160" cy="6400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509760" y="5442120"/>
            <a:ext cx="3538440" cy="67464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gescho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07960" y="4406760"/>
            <a:ext cx="3538440" cy="67500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479520" y="3359160"/>
            <a:ext cx="3538440" cy="67464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507960" y="2219400"/>
            <a:ext cx="3538440" cy="67464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507960" y="1020600"/>
            <a:ext cx="3538440" cy="675000"/>
          </a:xfrm>
          <a:prstGeom prst="rect">
            <a:avLst/>
          </a:prstGeom>
          <a:solidFill>
            <a:srgbClr val="e8f75b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cadem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5067360" y="1049400"/>
            <a:ext cx="3492360" cy="181440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4992840" y="4422600"/>
            <a:ext cx="3581280" cy="169236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5006880" y="3311640"/>
            <a:ext cx="3581640" cy="72072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2F26-1E6F-4330-A63C-47CF7F1420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3" descr="mensenmass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548080" y="2035080"/>
            <a:ext cx="3135240" cy="454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j0396172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432400" y="0"/>
            <a:ext cx="3711600" cy="559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j0439287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0" y="0"/>
            <a:ext cx="4167360" cy="4167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 rot="1238400">
            <a:off x="294840" y="4642920"/>
            <a:ext cx="7908840" cy="852480"/>
          </a:xfrm>
          <a:prstGeom prst="rect">
            <a:avLst/>
          </a:prstGeom>
          <a:solidFill>
            <a:srgbClr val="e8f75b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73315"/>
                </a:solidFill>
                <a:latin typeface="Arial"/>
              </a:rPr>
              <a:t>o m v a n 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 rot="19557600">
            <a:off x="883800" y="1879200"/>
            <a:ext cx="54165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073315"/>
                </a:solidFill>
                <a:latin typeface="Arial"/>
              </a:rPr>
              <a:t>samenstellin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 rot="3423000">
            <a:off x="3887280" y="3313800"/>
            <a:ext cx="5600520" cy="8366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73315"/>
                </a:solidFill>
                <a:latin typeface="Arial"/>
              </a:rPr>
              <a:t>veran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633888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 rot="20914200">
            <a:off x="5020920" y="5564160"/>
            <a:ext cx="4122720" cy="8366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73315"/>
                </a:solidFill>
                <a:latin typeface="Arial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7223-8510-4C84-B05C-2F70F2BC93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bevolking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4"/>
          <p:cNvGraphicFramePr/>
          <p:nvPr/>
        </p:nvGraphicFramePr>
        <p:xfrm>
          <a:off x="0" y="0"/>
          <a:ext cx="9144000" cy="37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Oval 6"/>
          <p:cNvSpPr/>
          <p:nvPr/>
        </p:nvSpPr>
        <p:spPr>
          <a:xfrm>
            <a:off x="2206800" y="523800"/>
            <a:ext cx="5472000" cy="3051360"/>
          </a:xfrm>
          <a:prstGeom prst="ellipse">
            <a:avLst/>
          </a:prstGeom>
          <a:blipFill rotWithShape="0">
            <a:blip r:embed="rId4">
              <a:alphaModFix amt="6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2929"/>
                </a:solidFill>
                <a:latin typeface="Arial"/>
              </a:rPr>
              <a:t>toekomstige gro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9"/>
          <p:cNvGraphicFramePr/>
          <p:nvPr/>
        </p:nvGraphicFramePr>
        <p:xfrm>
          <a:off x="297000" y="369720"/>
          <a:ext cx="8507160" cy="2954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000" y="369720"/>
                    <a:ext cx="850716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3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6E9F-E5D4-4D63-ADD9-4700858D95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j0431002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597640" y="4044960"/>
            <a:ext cx="3546360" cy="2813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j0427868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4041720"/>
            <a:ext cx="4216320" cy="281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j0431856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5541840" y="0"/>
            <a:ext cx="3602160" cy="28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8" descr="j0422155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0" y="0"/>
            <a:ext cx="4344840" cy="288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j0397154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4199040" y="5361120"/>
            <a:ext cx="1446120" cy="1496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0" y="633888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j0410825"/>
          <p:cNvPicPr/>
          <p:nvPr/>
        </p:nvPicPr>
        <p:blipFill>
          <a:blip r:embed="rId6"/>
          <a:stretch/>
        </p:blipFill>
        <p:spPr>
          <a:xfrm>
            <a:off x="241200" y="2473200"/>
            <a:ext cx="2735280" cy="173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j0332900"/>
          <p:cNvPicPr/>
          <p:nvPr/>
        </p:nvPicPr>
        <p:blipFill>
          <a:blip r:embed="rId7"/>
          <a:stretch/>
        </p:blipFill>
        <p:spPr>
          <a:xfrm>
            <a:off x="6527880" y="2786040"/>
            <a:ext cx="1812960" cy="1220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6"/>
          <p:cNvSpPr/>
          <p:nvPr/>
        </p:nvSpPr>
        <p:spPr>
          <a:xfrm>
            <a:off x="0" y="633888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BED9-BDCA-46B9-8CFB-6D0423296A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o6999"/>
          <p:cNvPicPr/>
          <p:nvPr/>
        </p:nvPicPr>
        <p:blipFill>
          <a:blip r:embed="rId1"/>
          <a:stretch/>
        </p:blipFill>
        <p:spPr>
          <a:xfrm>
            <a:off x="0" y="0"/>
            <a:ext cx="64580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870520" y="2527200"/>
            <a:ext cx="2878200" cy="67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vendgebor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907240" y="4257720"/>
            <a:ext cx="2877840" cy="67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rfge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645320" y="1557360"/>
            <a:ext cx="1067040" cy="67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7683480" y="3386160"/>
            <a:ext cx="1066680" cy="67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14AB-D850-4354-8F5B-172E2A14FA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o7013"/>
          <p:cNvPicPr/>
          <p:nvPr/>
        </p:nvPicPr>
        <p:blipFill>
          <a:blip r:embed="rId1"/>
          <a:stretch/>
        </p:blipFill>
        <p:spPr>
          <a:xfrm>
            <a:off x="0" y="0"/>
            <a:ext cx="64580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5907240" y="5126040"/>
            <a:ext cx="2981160" cy="569880"/>
          </a:xfrm>
          <a:prstGeom prst="rect">
            <a:avLst/>
          </a:prstGeom>
          <a:solidFill>
            <a:srgbClr val="e8f7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zinshereni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5891040" y="4210200"/>
            <a:ext cx="2981520" cy="569880"/>
          </a:xfrm>
          <a:prstGeom prst="rect">
            <a:avLst/>
          </a:prstGeom>
          <a:solidFill>
            <a:srgbClr val="e8f7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zinsvo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905440" y="3268800"/>
            <a:ext cx="2981520" cy="569880"/>
          </a:xfrm>
          <a:prstGeom prst="rect">
            <a:avLst/>
          </a:prstGeom>
          <a:solidFill>
            <a:srgbClr val="e8f7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migr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AAAB-B970-4BD1-9AE0-F2A78F3DB8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0" descr="7040_479x1000"/>
          <p:cNvPicPr/>
          <p:nvPr/>
        </p:nvPicPr>
        <p:blipFill>
          <a:blip r:embed="rId1"/>
          <a:srcRect l="0" t="11636" r="0" b="12504"/>
          <a:stretch/>
        </p:blipFill>
        <p:spPr>
          <a:xfrm>
            <a:off x="0" y="719280"/>
            <a:ext cx="9144000" cy="492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j0078708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254160" y="419040"/>
            <a:ext cx="3208320" cy="30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j0078708"/>
          <p:cNvPicPr/>
          <p:nvPr/>
        </p:nvPicPr>
        <p:blipFill>
          <a:blip r:embed="rId3">
            <a:lum bright="50000"/>
          </a:blip>
          <a:stretch/>
        </p:blipFill>
        <p:spPr>
          <a:xfrm>
            <a:off x="1830240" y="1603440"/>
            <a:ext cx="3208320" cy="300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j0078708"/>
          <p:cNvPicPr/>
          <p:nvPr/>
        </p:nvPicPr>
        <p:blipFill>
          <a:blip r:embed="rId4">
            <a:lum bright="50000"/>
          </a:blip>
          <a:stretch/>
        </p:blipFill>
        <p:spPr>
          <a:xfrm>
            <a:off x="3705120" y="2441520"/>
            <a:ext cx="3208320" cy="300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j0078708"/>
          <p:cNvPicPr/>
          <p:nvPr/>
        </p:nvPicPr>
        <p:blipFill>
          <a:blip r:embed="rId5">
            <a:lum bright="50000"/>
          </a:blip>
          <a:stretch/>
        </p:blipFill>
        <p:spPr>
          <a:xfrm>
            <a:off x="5353200" y="3446640"/>
            <a:ext cx="3208320" cy="3009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0" y="633888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1090440" y="784080"/>
            <a:ext cx="4924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olkstell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6835680" y="1182600"/>
            <a:ext cx="20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ot 19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37960" y="452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aarna steekproefsgewij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1946160" y="575640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226040" y="5743440"/>
            <a:ext cx="18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68D3-B49D-4EC1-B45B-2FD1E8AEC6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8"/>
          <p:cNvGrpSpPr/>
          <p:nvPr/>
        </p:nvGrpSpPr>
        <p:grpSpPr>
          <a:xfrm>
            <a:off x="579600" y="601560"/>
            <a:ext cx="8024760" cy="5453280"/>
            <a:chOff x="579600" y="601560"/>
            <a:chExt cx="8024760" cy="5453280"/>
          </a:xfrm>
        </p:grpSpPr>
        <p:graphicFrame>
          <p:nvGraphicFramePr>
            <p:cNvPr id="121" name="Object 25"/>
            <p:cNvGraphicFramePr/>
            <p:nvPr/>
          </p:nvGraphicFramePr>
          <p:xfrm>
            <a:off x="579600" y="615960"/>
            <a:ext cx="3905280" cy="5438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600" y="615960"/>
                      <a:ext cx="3905280" cy="543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Object 26"/>
            <p:cNvGraphicFramePr/>
            <p:nvPr/>
          </p:nvGraphicFramePr>
          <p:xfrm>
            <a:off x="4192560" y="601560"/>
            <a:ext cx="4411800" cy="54151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4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2560" y="601560"/>
                      <a:ext cx="4411800" cy="541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5" name="Picture 24" descr="j0430769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4641840" y="3114720"/>
            <a:ext cx="4502160" cy="309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j0202029"/>
          <p:cNvPicPr/>
          <p:nvPr/>
        </p:nvPicPr>
        <p:blipFill>
          <a:blip r:embed="rId6">
            <a:lum bright="20000"/>
          </a:blip>
          <a:stretch/>
        </p:blipFill>
        <p:spPr>
          <a:xfrm>
            <a:off x="301680" y="2139840"/>
            <a:ext cx="242568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0" y="6338880"/>
            <a:ext cx="6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9" descr="j0427769"/>
          <p:cNvPicPr/>
          <p:nvPr/>
        </p:nvPicPr>
        <p:blipFill>
          <a:blip r:embed="rId7"/>
          <a:stretch/>
        </p:blipFill>
        <p:spPr>
          <a:xfrm>
            <a:off x="0" y="0"/>
            <a:ext cx="2136600" cy="291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j0439398"/>
          <p:cNvPicPr/>
          <p:nvPr/>
        </p:nvPicPr>
        <p:blipFill>
          <a:blip r:embed="rId8">
            <a:lum bright="20000"/>
          </a:blip>
          <a:stretch/>
        </p:blipFill>
        <p:spPr>
          <a:xfrm>
            <a:off x="2239920" y="820800"/>
            <a:ext cx="3467160" cy="2711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j0410111"/>
          <p:cNvPicPr/>
          <p:nvPr/>
        </p:nvPicPr>
        <p:blipFill>
          <a:blip r:embed="rId9">
            <a:lum bright="20000"/>
          </a:blip>
          <a:stretch/>
        </p:blipFill>
        <p:spPr>
          <a:xfrm>
            <a:off x="240660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3" descr="getimage"/>
          <p:cNvPicPr/>
          <p:nvPr/>
        </p:nvPicPr>
        <p:blipFill>
          <a:blip r:embed="rId10">
            <a:lum bright="12000"/>
          </a:blip>
          <a:stretch/>
        </p:blipFill>
        <p:spPr>
          <a:xfrm>
            <a:off x="6500880" y="0"/>
            <a:ext cx="26431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1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mograf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33FC-E777-4FFB-9ADA-FD82E82761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3" descr="ouderen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596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496800" y="3489480"/>
          <a:ext cx="4313160" cy="1371600"/>
        </p:xfrm>
        <a:graphic>
          <a:graphicData uri="http://schemas.openxmlformats.org/drawingml/2006/table">
            <a:tbl>
              <a:tblPr/>
              <a:tblGrid>
                <a:gridCol w="1851120"/>
                <a:gridCol w="246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6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1,5 ja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64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6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9,7 ja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64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6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1,4 ja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6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20:41:47Z</dcterms:created>
  <dc:creator>mirjam</dc:creator>
  <dc:description/>
  <dc:language>en-US</dc:language>
  <cp:lastModifiedBy>gebruiker</cp:lastModifiedBy>
  <dcterms:modified xsi:type="dcterms:W3CDTF">2013-02-20T14:23:47Z</dcterms:modified>
  <cp:revision>47</cp:revision>
  <dc:subject/>
  <dc:title>Dia 1</dc:title>
</cp:coreProperties>
</file>