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6E4-6C14-440B-B001-5AE4A145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27C-088F-4FEE-AF40-EEA73BC8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C8B-A776-4912-8FF5-5B3A2D6C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5FE-B6F0-4AF8-895E-1265C06E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F15A-F544-43A3-8282-3E32904B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F825-144B-4F4B-92AE-BDB57FF2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7C53-9A5B-42A6-A79F-10FF688E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F155-292B-4327-95FF-4FF33EF5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5050-7CAA-46DE-8253-1CE383B1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9D8E-170F-4A9E-9221-C97035EE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EDC2-B784-4672-B09D-0E589B97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D4F-EBC5-43A1-9AD9-185AC9DB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BFD1-E6F1-4CB9-B772-9ECE2056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530B-002C-43AA-81B5-7BA58F93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7CC4-D71E-4983-B8C9-9A8D024B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20E4-EEC4-4573-87BB-98D1BD68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B278-1F6C-4D79-9FEF-16D8B3CC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C74-2EB8-4EAD-844D-360CF9FC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D7D-DDB0-441A-90EE-52054498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666-C676-4A91-AA3B-196633C4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7B6-A3BB-44F4-9750-FDD86F22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85B-22A5-446A-B851-7D414AED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3C9-6646-46A5-879E-F0A2ADB6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9B40-7968-4C57-8088-1C4B33D5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26A8-BF4F-4A54-952C-27ACC45F428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5DBB-0B69-4739-8F18-58B240A20DB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nderpleinen.nl/plaatjes%20klok/klok12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332000" y="321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ign 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begelei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a goedkeuring ga je aan het we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ssendoor zijn er ingebouwde controle moment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rect ga je aan de slag met deze profilering. Voor de derde klassen loopt dit door in het 4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ja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eerste 4 weken heb je nodig om je plan te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 totaal moet je minimaal 40 uur of meer verantwoorden in je uren verantwoord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klok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89000"/>
            <a:ext cx="1656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afsluiting vindt plaats in week 13 voor de examenkandidaten. Voor de S43 zal dit volgend schooljaar rond die tijd zijn. Zij hebben een tussenbeoordeling in week 1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r zijn vaste overleg momenten met de docent/co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ijdag 5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en 6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uur zijn begeleidingsuren. Op vaste momenten moet iedereen aanwezig zijn op schoo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Les 1-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soonlijkheid en netwe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tfolio opb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ief en c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Beeldvorming van beroe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vaardigheden en kennis horen daarbij (+ werkprocessen en competent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(+ adres en foto) alle bedrijven binnen een straal van 30-50km die passen bij jou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interessante person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rview twee personen uit bero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et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mensen zijn er nu om je heen die belangrijk kunnen zijn bij je werk of het vinden van een b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deze personen (kennissen, familie, bpv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belangrijke personen die je volgt via facebook, twitter of and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bouw Portfol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gelijk verschillende portfolio’s en beschrijf wat jij belangrijk v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: welke tekst en beeldmateri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rmgeving: hoe ga je jou portfolio vormgeven? Op papier en digita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licitatiebrief en c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een persoonlijke sollicitatiebrief (algemeen of n.a.v. een vacat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je eigen cv (opleiding en werkervar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ventueel: Video-presentatie van 2-3 minu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Ik ben op aarde om een omgeving vol liefde te creëren, met passie te leven en mijn meest opwindende dromen waar te maken”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684520" y="1719360"/>
            <a:ext cx="3774960" cy="44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608720" cy="316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4067280" y="3586320"/>
            <a:ext cx="4433760" cy="2976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5364000" y="1844640"/>
            <a:ext cx="158436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ofileren = benadrukken, karakteriseren, kernschet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andacht vestigen op jezelf, door je talenten en interesses te ontwikkelen en te laten zi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0000"/>
                </a:solidFill>
                <a:latin typeface="Arial"/>
              </a:rPr>
              <a:t>Dit ben ik en hier ben ik goed 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sturen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ies je eigen onderwerp dat bij je p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verantwoordel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eigen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eindresultaat/to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bent klaar om een passende baan te vi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ga je te 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uit van jouw toekomstige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bedenken wat je nog allemaal moet leren voordat je dat beroep uit kunt oef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stelt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bedenkt hoe je jezelf gaat toe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werkt zelf aan je ontwikk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dracht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wil jij graag gaan werk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oet je allemaal kennen en kunnen om dat goed beroep goed te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preek je ideeën met je buurman/vr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waliteiten/Reflectie sp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elkaar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jezelf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reflecteren op jezelf en op ander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tegen feedbac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ie ben jij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tappen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van het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rking plan/maken voor persoonlijk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n zelfstandi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voeren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ogboek en urenverantwoording bij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etsing en afro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3:44:51Z</dcterms:created>
  <dc:creator>Henrike Gussinklo</dc:creator>
  <dc:description/>
  <dc:language>en-US</dc:language>
  <cp:lastModifiedBy>Henrike Gussinklo - Veldkamp</cp:lastModifiedBy>
  <cp:lastPrinted>2015-01-16T09:22:56Z</cp:lastPrinted>
  <dcterms:modified xsi:type="dcterms:W3CDTF">2015-11-13T11:35:51Z</dcterms:modified>
  <cp:revision>34</cp:revision>
  <dc:subject/>
  <dc:title>Profilering</dc:title>
</cp:coreProperties>
</file>