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EBC-CA92-4AA8-B4B9-F950BF09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34D-B0BB-4440-B494-18CB7BCB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44CA-19AD-4AE1-AE56-3AFD31F0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FD7-A9ED-4397-BBFF-5C9DADF3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EF54-C68B-41E5-A51F-339C5E93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402C-A6CA-4677-AAE7-D343BBAF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C5B4-4F13-4958-AC12-50A11146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93DD-E465-4E72-9796-271BC24D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6E66-51DD-4E75-88A4-2041FB30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E4DD-E04D-45A1-824B-10A12CE5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380B-02AA-4078-9F21-297B1DC4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F6C-352E-4600-9B4F-272A28B3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52DD-89BE-4073-9589-34BA78C5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0C45-42EE-441E-8D2F-C7485E05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102C-5591-46EB-8441-99AE5291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EA6B-C69D-4AA2-ABB3-39BCF2D4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AE57-884D-4F4D-834E-9476866B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E40D-8D15-4FA2-A74C-45F503C6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B4D-0C9B-4CBF-A23D-F34311AB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655A-659D-4ACF-B729-E3B382DB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5CB-8A6E-4E18-8731-C8947D47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C44-C3E0-490B-808F-DBD895EC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21A-F5BB-4CBC-B6BD-A2243712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F80-9A42-4CB6-B050-7E27FBD5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28F0-001B-4E32-9D75-137030C887D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87D9-AAC1-475F-AB4A-9DEEAB86DD4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nderpleinen.nl/plaatjes%20klok/klok12.gif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332000" y="3213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ign 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begeleid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a goedkeuring ga je aan het we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ssendoor zijn er ingebouwde controle moment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rect ga je aan de slag met deze profilering. Voor de derde klassen loopt dit door in het 4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ja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eerste 4 weken heb je nodig om je plan te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 totaal moet je minimaal 40 uur of meer verantwoorden in je uren verantwoordi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klok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189000"/>
            <a:ext cx="1656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afsluiting vindt plaats in week 13 voor de examenkandidaten. Voor de S43 zal dit volgend schooljaar rond die tijd zijn. Zij hebben een tussenbeoordeling in week 1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r zijn vaste overleg momenten met de docent/coa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ijdag 5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en 6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uur zijn begeleidingsuren. Op vaste momenten moet iedereen aanwezig zijn op schoo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Les 1-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ersoonlijkheid en netwe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tfolio opb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ief en c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Beeldvorming van beroe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vaardigheden en kennis horen daarbij (+ werkprocessen en competenti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(+ adres en foto) alle bedrijven binnen een straal van 30-50km die passen bij jou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interessante person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rview twee personen uit bero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et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mensen zijn er nu om je heen die belangrijk kunnen zijn bij je werk of het vinden van een b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deze personen (kennissen, familie, bpv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belangrijke personen die je volgt via facebook, twitter of and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bouw Portfol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gelijk verschillende portfolio’s en beschrijf wat jij belangrijk v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: welke tekst en beeldmateri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rmgeving: hoe ga je jou portfolio vormgeven? Op papier en digita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licitatiebrief en c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een persoonlijke sollicitatiebrief (algemeen of n.a.v. een vacatu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je eigen cv (opleiding en werkervar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ventueel: Video-presentatie van 2-3 minu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Ik ben op aarde om een omgeving vol liefde te creëren, met passie te leven en mijn meest opwindende dromen waar te maken”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2684520" y="1719360"/>
            <a:ext cx="3774960" cy="44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4608720" cy="316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4067280" y="3586320"/>
            <a:ext cx="4433760" cy="2976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>
            <a:off x="5364000" y="1844640"/>
            <a:ext cx="158436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ofileren = benadrukken, karakteriseren, kernschet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andacht vestigen op jezelf, door je talenten en interesses te ontwikkelen en te laten zi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0000"/>
                </a:solidFill>
                <a:latin typeface="Arial"/>
              </a:rPr>
              <a:t>Dit ben ik en hier ben ik goed i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sturen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ies je eigen onderwerp dat bij je p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verantwoordel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eigen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eindresultaat/to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bent klaar om een passende baan te vin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ga je te 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uit van jouw toekomstige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bedenken wat je nog allemaal moet leren voordat je dat beroep uit kunt oef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stelt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bedenkt hoe je jezelf gaat toe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werkt zelf aan je ontwikk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dracht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wil jij graag gaan werk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oet je allemaal kennen en kunnen om dat goed beroep goed te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preek je ideeën met je buurman/vr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waliteiten/Reflectie sp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elkaar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jezelf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reflecteren op jezelf en op ander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tegen feedbac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ie ben jij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tappen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van het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werking plan/maken voor persoonlijk portf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n zelfstandi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voeren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ogboek en urenverantwoording bij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etsing en afro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3:44:51Z</dcterms:created>
  <dc:creator>Henrike Gussinklo</dc:creator>
  <dc:description/>
  <dc:language>en-US</dc:language>
  <cp:lastModifiedBy>Henrike Gussinklo - Veldkamp</cp:lastModifiedBy>
  <cp:lastPrinted>2015-01-16T09:22:56Z</cp:lastPrinted>
  <dcterms:modified xsi:type="dcterms:W3CDTF">2015-11-13T11:35:51Z</dcterms:modified>
  <cp:revision>34</cp:revision>
  <dc:subject/>
  <dc:title>Profilering</dc:title>
</cp:coreProperties>
</file>