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7067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3D8B-B281-45E5-B7AF-D7FFABD9D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499B-7517-481D-BA9F-137EEF35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3DDF-E184-4F1E-8A95-1DCED570B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98DA-4581-4BC5-A183-45646751D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48F3-47C2-4F8C-8242-47DFD035B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145E-F79C-4885-B9FB-8AC2467C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F536-AB74-4B76-BB81-EC4EA667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A99F-A6BD-4ABA-BB63-20D07B64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59AD-4D34-4837-A933-D4EA079B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F4A2-7AC1-4314-B2A1-EEDC31A7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44E0-043C-43A1-9185-0AEBC7BB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F4F5-67BD-41BF-8CCF-A0BD4144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0FD0-9B3D-4B2E-B381-F649DB6A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1F56-B605-4239-8CE5-AA2D0015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F813-63BA-4E20-AB4A-816983E8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299F-5087-425C-86BB-D5F2A229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F709-8B78-436F-956C-9454134AE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3192-F258-4F67-BB01-D9549EA8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3CD5-CE73-4CBF-B9BA-F0534AF4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4B7C-7C3E-4223-B942-01F1E00F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4F76-1057-403C-83ED-CABFDE9C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6AC0-CC3C-4531-90B1-FF4103F7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39F6-45F6-4735-81D1-44ADED2D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1B72-9CEF-45DD-BF50-68448D74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1743-7394-4FD6-A9ED-925373466D07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EE08-A692-4E54-992C-5182410C2B25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inderpleinen.nl/plaatjes%20klok/klok12.gif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330066"/>
                </a:solidFill>
                <a:latin typeface="Arial"/>
              </a:rPr>
              <a:t>Profiler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332000" y="32130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ign M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begeleid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Na goedkeuring ga je aan het we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ussendoor zijn er ingebouwde controle moment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Tijdsp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rect ga je aan de slag met deze profilering. Voor de derde klassen loopt dit door in het 4</a:t>
            </a:r>
            <a:r>
              <a:rPr b="0" lang="nl-NL" sz="3000" spc="-1" strike="noStrike" baseline="30000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ja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eerste 4 weken heb je nodig om je plan te m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 totaal moet je minimaal 40 uur of meer verantwoorden in je uren verantwoording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klok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189000"/>
            <a:ext cx="16560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Tijdsp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afsluiting vindt plaats in week 13 voor de examenkandidaten. Voor de S43 zal dit volgend schooljaar rond die tijd zijn. Zij hebben een tussenbeoordeling in week 13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r zijn vaste overleg momenten met de docent/coac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rijdag 5</a:t>
            </a:r>
            <a:r>
              <a:rPr b="0" lang="nl-NL" sz="3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en 6</a:t>
            </a:r>
            <a:r>
              <a:rPr b="0" lang="nl-NL" sz="3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uur zijn begeleidingsuren. Op vaste momenten moet iedereen aanwezig zijn op schoo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Les 1-4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reflec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eldvorming bero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ersoonlijkheid en netwe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ortfolio opbou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rief en c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Beeldvorming van beroe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ing beroepsbe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lke vaardigheden en kennis horen daarbij (+ werkprocessen en competenti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 (+ adres en foto) alle bedrijven binnen een straal van 30-50km die passen bij jou beroepsbe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 interessante persone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terview twee personen uit beroe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netwe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lke mensen zijn er nu om je heen die belangrijk kunnen zijn bij je werk of het vinden van een ba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een lijst van deze personen (kennissen, familie, bpv e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een lijst van belangrijke personen die je volgt via facebook, twitter of and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pbouw Portfoli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gelijk verschillende portfolio’s en beschrijf wat jij belangrijk v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houd: welke tekst en beeldmateria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rmgeving: hoe ga je jou portfolio vormgeven? Op papier en digita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ollicitatiebrief en cv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rijf een persoonlijke sollicitatiebrief (algemeen of n.a.v. een vacatu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rijf je eigen cv (opleiding en werkervarin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ventueel: Video-presentatie van 2-3 minut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606060"/>
                </a:solidFill>
                <a:latin typeface="Arial"/>
              </a:rPr>
              <a:t>“</a:t>
            </a:r>
            <a:r>
              <a:rPr b="1" i="1" lang="nl-NL" sz="2000" spc="-1" strike="noStrike">
                <a:solidFill>
                  <a:srgbClr val="606060"/>
                </a:solidFill>
                <a:latin typeface="Arial"/>
              </a:rPr>
              <a:t>Ik ben op aarde om een omgeving vol liefde te creëren, met passie te leven en mijn meest opwindende dromen waar te maken”</a:t>
            </a:r>
            <a:br>
              <a:rPr sz="2000"/>
            </a:b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2684520" y="1719360"/>
            <a:ext cx="3774960" cy="44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4608720" cy="3164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/>
          <p:cNvPicPr/>
          <p:nvPr/>
        </p:nvPicPr>
        <p:blipFill>
          <a:blip r:embed="rId3"/>
          <a:stretch/>
        </p:blipFill>
        <p:spPr>
          <a:xfrm>
            <a:off x="4067280" y="3586320"/>
            <a:ext cx="4433760" cy="2976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"/>
          <p:cNvPicPr/>
          <p:nvPr/>
        </p:nvPicPr>
        <p:blipFill>
          <a:blip r:embed="rId4"/>
          <a:stretch/>
        </p:blipFill>
        <p:spPr>
          <a:xfrm>
            <a:off x="5364000" y="1844640"/>
            <a:ext cx="1584360" cy="1612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Profiler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675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rofileren = benadrukken, karakteriseren, kernschets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u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aandacht vestigen op jezelf, door je talenten en interesses te ontwikkelen en te laten zi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cc0000"/>
                </a:solidFill>
                <a:latin typeface="Arial"/>
              </a:rPr>
              <a:t>Dit ben ik en hier ben ik goed i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opdra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sturen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ies je eigen onderwerp dat bij je p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denk je eigen leerdoe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verantwoordelij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je eigen pla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denk je eigen eindresultaat/to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opdra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bent klaar om een passende baan te vin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Hoe ga je te we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gaat uit van jouw toekomstige bero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gaat bedenken wat je nog allemaal moet leren voordat je dat beroep uit kunt oef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stelt je eigen leerdoe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bedenkt hoe je jezelf gaat toet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werkt zelf aan je ontwikke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pdracht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rijf o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 wil jij graag gaan werk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moet je allemaal kennen en kunnen om dat goed beroep goed te do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preek je ideeën met je buurman/vrou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Kwaliteiten/Reflectie sp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goed ken je elkaar?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goed ken je jezelf?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 je goed reflecteren op jezelf en op ander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 je goed tegen feedbac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ie ben jij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tappenpl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eldvorming van het bero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reflec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werking plan/maken voor persoonlijk portfol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an zelfstandi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voeren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ogboek en urenverantwoording bij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oetsing en afro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3:44:51Z</dcterms:created>
  <dc:creator>Henrike Gussinklo</dc:creator>
  <dc:description/>
  <dc:language>en-US</dc:language>
  <cp:lastModifiedBy>Henrike Gussinklo - Veldkamp</cp:lastModifiedBy>
  <cp:lastPrinted>2015-01-16T09:22:56Z</cp:lastPrinted>
  <dcterms:modified xsi:type="dcterms:W3CDTF">2015-11-13T11:35:51Z</dcterms:modified>
  <cp:revision>34</cp:revision>
  <dc:subject/>
  <dc:title>Profilering</dc:title>
</cp:coreProperties>
</file>