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A8B-1405-456B-B61D-EC8CFDF1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00F-ABE5-40B8-AEF6-0CAB79E7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FE4-EDBC-417A-B08F-F5AA064E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2EE-9BBB-42DD-A330-4F751A16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07CE-BDE7-49FF-8923-9CE6F023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CE43-50B8-4274-B80C-1CC7DBA0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B657-0016-4158-B8EF-845E3D11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6007-BBF1-46F8-9CCC-9F0BE4B7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72E1-E740-4957-86CB-77E1ADFB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6313-E86C-43ED-AB55-1DAAA064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FCF0-4E75-48AC-A8E6-C305DC13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265-DD27-43CD-ACB6-D143A27E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604D-9AFD-4A99-AC38-D4FC3201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01C0-24AF-4F0A-93AA-EE43AFC7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D187-5DD7-4CEA-B2DA-8BAFB103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D129-199B-4D74-B91F-D108D89C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EDD0-7549-4B22-9F11-F84C0AAE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C0B-77D5-4804-8C1C-651BA21C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388-AEDB-4D34-8677-51AD16F7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645-2D35-4ED0-ADC3-690CB5D9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820-2F5F-4EEE-819C-A7A102EC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A74-973A-45BF-B9A1-90DBB3BA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1F6-BDD8-4BC8-96E8-E4B8CCDF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728-2520-402C-AA3F-BB8DDF3F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17FC-F591-495A-B1AB-A8A5508710A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A04C-5551-460D-AD98-32E2E959813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nderpleinen.nl/plaatjes%20klok/klok12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332000" y="321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ign 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begelei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a goedkeuring ga je aan het we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ssendoor zijn er ingebouwde controle moment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rect ga je aan de slag met deze profilering. Voor de derde klassen loopt dit door in het 4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ja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eerste 4 weken heb je nodig om je plan te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 totaal moet je minimaal 40 uur of meer verantwoorden in je uren verantwoord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klok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89000"/>
            <a:ext cx="1656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afsluiting vindt plaats in week 13 voor de examenkandidaten. Voor de S43 zal dit volgend schooljaar rond die tijd zijn. Zij hebben een tussenbeoordeling in week 1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r zijn vaste overleg momenten met de docent/co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ijdag 5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en 6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uur zijn begeleidingsuren. Op vaste momenten moet iedereen aanwezig zijn op schoo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Les 1-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soonlijkheid en netwe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tfolio opb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ief en c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Beeldvorming van beroe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vaardigheden en kennis horen daarbij (+ werkprocessen en competent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(+ adres en foto) alle bedrijven binnen een straal van 30-50km die passen bij jou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interessante person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rview twee personen uit bero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et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mensen zijn er nu om je heen die belangrijk kunnen zijn bij je werk of het vinden van een b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deze personen (kennissen, familie, bpv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belangrijke personen die je volgt via facebook, twitter of and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bouw Portfol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gelijk verschillende portfolio’s en beschrijf wat jij belangrijk v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: welke tekst en beeldmateri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rmgeving: hoe ga je jou portfolio vormgeven? Op papier en digita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licitatiebrief en c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een persoonlijke sollicitatiebrief (algemeen of n.a.v. een vacat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je eigen cv (opleiding en werkervar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ventueel: Video-presentatie van 2-3 minu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Ik ben op aarde om een omgeving vol liefde te creëren, met passie te leven en mijn meest opwindende dromen waar te maken”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684520" y="1719360"/>
            <a:ext cx="3774960" cy="44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608720" cy="316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4067280" y="3586320"/>
            <a:ext cx="4433760" cy="2976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5364000" y="1844640"/>
            <a:ext cx="158436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ofileren = benadrukken, karakteriseren, kernschet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andacht vestigen op jezelf, door je talenten en interesses te ontwikkelen en te laten zi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0000"/>
                </a:solidFill>
                <a:latin typeface="Arial"/>
              </a:rPr>
              <a:t>Dit ben ik en hier ben ik goed 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sturen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ies je eigen onderwerp dat bij je p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verantwoordel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eigen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eindresultaat/to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bent klaar om een passende baan te vi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ga je te 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uit van jouw toekomstige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bedenken wat je nog allemaal moet leren voordat je dat beroep uit kunt oef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stelt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bedenkt hoe je jezelf gaat toe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werkt zelf aan je ontwikk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dracht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wil jij graag gaan werk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oet je allemaal kennen en kunnen om dat goed beroep goed te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preek je ideeën met je buurman/vr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waliteiten/Reflectie sp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elkaar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jezelf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reflecteren op jezelf en op ander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tegen feedbac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ie ben jij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tappen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van het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rking plan/maken voor persoonlijk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n zelfstandi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voeren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ogboek en urenverantwoording bij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etsing en afro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3:44:51Z</dcterms:created>
  <dc:creator>Henrike Gussinklo</dc:creator>
  <dc:description/>
  <dc:language>en-US</dc:language>
  <cp:lastModifiedBy>Henrike Gussinklo - Veldkamp</cp:lastModifiedBy>
  <cp:lastPrinted>2015-01-16T09:22:56Z</cp:lastPrinted>
  <dcterms:modified xsi:type="dcterms:W3CDTF">2015-11-13T11:35:51Z</dcterms:modified>
  <cp:revision>34</cp:revision>
  <dc:subject/>
  <dc:title>Profilering</dc:title>
</cp:coreProperties>
</file>