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92D-1D3F-4BD5-98CE-AD0D27F6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80EF-EFF7-458C-9EE1-39BD60CA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8A11-8F72-40BD-8EA3-2CC83430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256-E03A-4CBC-AB49-1369676B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06CA-845B-438F-ADB9-20965DCD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1BCA-5030-4912-AADC-734558E7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6C44-4DCF-4C0F-A6BB-39195562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010D-A7F3-4134-B406-342E6983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1317-F3F0-4535-9117-01DFF25D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0763-2A11-4074-9512-9DAE2953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C4E2-05AE-4103-BE8E-9AE1038B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1DA7-D6FE-4CEA-A696-2A126FD7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F032-1C8A-4B12-AE78-386F0AE3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3FBF-2CE3-420F-B353-39BAA72B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7557-5DB9-4565-8385-B129F3BD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650D-5132-4CA4-8A44-691E5EF7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2954-72B9-43C7-B87F-8DDA8E96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FAF0-1879-45BA-A8D8-553F57CB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6496-9C2B-4A81-9F92-A9D9E9AB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B7A4-7C9E-4286-B524-CCBFCF2C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A2A-71F4-4E87-BE3E-0284BFB2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CD57-B89C-4983-B57D-5215E81C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F88-E07D-4A8D-A2F9-6185E734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100-753C-48A7-9082-63914C22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A1F3-3945-47AE-91E3-CE9FFEA1F2D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E7DC-4936-425C-B87E-D2E976BEBEB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inderpleinen.nl/plaatjes%20klok/klok12.gif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332000" y="3213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ign M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begeleid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a goedkeuring ga je aan het we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ssendoor zijn er ingebouwde controle moment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rect ga je aan de slag met deze profilering. Voor de derde klassen loopt dit door in het 4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ja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eerste 4 weken heb je nodig om je plan te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 totaal moet je minimaal 40 uur of meer verantwoorden in je uren verantwoordin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klok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189000"/>
            <a:ext cx="1656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afsluiting vindt plaats in week 13 voor de examenkandidaten. Voor de S43 zal dit volgend schooljaar rond die tijd zijn. Zij hebben een tussenbeoordeling in week 1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r zijn vaste overleg momenten met de docent/coa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ijdag 5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en 6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uur zijn begeleidingsuren. Op vaste momenten moet iedereen aanwezig zijn op schoo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Les 1-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ersoonlijkheid en netwe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tfolio opb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ief en c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Beeldvorming van beroe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vaardigheden en kennis horen daarbij (+ werkprocessen en competenti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(+ adres en foto) alle bedrijven binnen een straal van 30-50km die passen bij jou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interessante person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rview twee personen uit bero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et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mensen zijn er nu om je heen die belangrijk kunnen zijn bij je werk of het vinden van een b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deze personen (kennissen, familie, bpv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belangrijke personen die je volgt via facebook, twitter of and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bouw Portfol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gelijk verschillende portfolio’s en beschrijf wat jij belangrijk v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: welke tekst en beeldmateri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rmgeving: hoe ga je jou portfolio vormgeven? Op papier en digita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licitatiebrief en cv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een persoonlijke sollicitatiebrief (algemeen of n.a.v. een vacatu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je eigen cv (opleiding en werkervar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ventueel: Video-presentatie van 2-3 minu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“</a:t>
            </a: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Ik ben op aarde om een omgeving vol liefde te creëren, met passie te leven en mijn meest opwindende dromen waar te maken”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2684520" y="1719360"/>
            <a:ext cx="3774960" cy="44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4608720" cy="3164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3"/>
          <a:stretch/>
        </p:blipFill>
        <p:spPr>
          <a:xfrm>
            <a:off x="4067280" y="3586320"/>
            <a:ext cx="4433760" cy="2976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4"/>
          <a:stretch/>
        </p:blipFill>
        <p:spPr>
          <a:xfrm>
            <a:off x="5364000" y="1844640"/>
            <a:ext cx="1584360" cy="1612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67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rofileren = benadrukken, karakteriseren, kernschet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andacht vestigen op jezelf, door je talenten en interesses te ontwikkelen en te laten zi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cc0000"/>
                </a:solidFill>
                <a:latin typeface="Arial"/>
              </a:rPr>
              <a:t>Dit ben ik en hier ben ik goed i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sturen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ies je eigen onderwerp dat bij je p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verantwoordel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eigen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eindresultaat/to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bent klaar om een passende baan te vin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ga je te 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uit van jouw toekomstige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bedenken wat je nog allemaal moet leren voordat je dat beroep uit kunt oef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stelt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bedenkt hoe je jezelf gaat toet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werkt zelf aan je ontwikke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dracht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wil jij graag gaan werk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oet je allemaal kennen en kunnen om dat goed beroep goed te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preek je ideeën met je buurman/vr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waliteiten/Reflectie sp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elkaar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jezelf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reflecteren op jezelf en op ander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tegen feedbac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ie ben jij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tappen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van het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werking plan/maken voor persoonlijk portf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n zelfstandi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voeren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ogboek en urenverantwoording bij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etsing en afro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3:44:51Z</dcterms:created>
  <dc:creator>Henrike Gussinklo</dc:creator>
  <dc:description/>
  <dc:language>en-US</dc:language>
  <cp:lastModifiedBy>Henrike Gussinklo - Veldkamp</cp:lastModifiedBy>
  <cp:lastPrinted>2015-01-16T09:22:56Z</cp:lastPrinted>
  <dcterms:modified xsi:type="dcterms:W3CDTF">2015-11-13T11:35:51Z</dcterms:modified>
  <cp:revision>34</cp:revision>
  <dc:subject/>
  <dc:title>Profilering</dc:title>
</cp:coreProperties>
</file>