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5719-163C-4203-B170-191592216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E5FD-382A-4C5A-BC28-2C99BB47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E5CD-1FF7-4372-A0BD-4BBCC7D7C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60FE-E54B-4C01-929A-38424C14C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A47D-2296-4C1D-8AA8-A75E8138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DBEC-9619-4CB3-88D1-128E7884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2FC2-2598-490D-B802-DB491721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8EE5-A9BA-4061-A3F9-63F16FAD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AB07-88D3-4BFE-8857-C07357A0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E209-209E-43FB-9125-9E709AD9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B044-299C-47AD-BFFA-D2D9DCDE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F7B3-CE9B-465C-BFE2-36104455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6EFD-EEB9-4BE0-83CF-07D37252C3A5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08:38:56Z</dcterms:created>
  <dc:creator>12vimeaa</dc:creator>
  <dc:description/>
  <dc:language>en-US</dc:language>
  <cp:lastModifiedBy>12vimeaa</cp:lastModifiedBy>
  <dcterms:modified xsi:type="dcterms:W3CDTF">2012-12-13T12:07:28Z</dcterms:modified>
  <cp:revision>10</cp:revision>
  <dc:subject/>
  <dc:title>Dia 1</dc:title>
</cp:coreProperties>
</file>