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A3A-2699-4B8D-9B1A-8A0DF822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C33-97DD-4CCE-9120-AB2AE59F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CA2-AF7A-4291-93B0-63EBC667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396-12E4-43C4-BF24-F8D5F947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AFA-9707-4D3D-AF00-AA8FF9F7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3C1-279C-47FF-8080-1A4324F0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0A6-8034-4571-915B-75763B9E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341-EAAE-416E-9582-8D89E76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2A9-C044-407E-9354-3521B5DA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6EA-AFB1-45C7-A03C-752CEB88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E93-E355-4B78-B51B-25EC9580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A4D-9831-4376-B37F-87C1F9C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10DA-516D-402B-A481-E4F5B46A880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8:56Z</dcterms:created>
  <dc:creator>12vimeaa</dc:creator>
  <dc:description/>
  <dc:language>en-US</dc:language>
  <cp:lastModifiedBy>12vimeaa</cp:lastModifiedBy>
  <dcterms:modified xsi:type="dcterms:W3CDTF">2012-12-13T12:07:28Z</dcterms:modified>
  <cp:revision>10</cp:revision>
  <dc:subject/>
  <dc:title>Dia 1</dc:title>
</cp:coreProperties>
</file>