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7D0D-A217-4F06-8F89-521684E2C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F9B9-99EC-43AA-B63E-292988A41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0E4F-0DA4-4D98-B180-4491B16FE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5EAE-8D42-4C78-8C66-4BC1BB2C4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2650-9F6A-4C53-B3FD-0D94554E1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BF372-E3B2-446C-AD8F-B0027996C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63699-3922-4FAF-AD69-F50940916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E328-9271-45CC-9028-58518B425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D9D0-6565-4B7B-9BE5-78D9F0787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59DF-873F-4293-859A-7C328EBE9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80C9-6009-421F-87DA-38BF1521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DAE4E-01CD-4211-B421-5E5748397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A0929-E509-4B93-8C98-E2632CF62B0B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8:38:56Z</dcterms:created>
  <dc:creator>12vimeaa</dc:creator>
  <dc:description/>
  <dc:language>en-US</dc:language>
  <cp:lastModifiedBy>12vimeaa</cp:lastModifiedBy>
  <dcterms:modified xsi:type="dcterms:W3CDTF">2012-12-13T12:07:28Z</dcterms:modified>
  <cp:revision>10</cp:revision>
  <dc:subject/>
  <dc:title>Dia 1</dc:title>
</cp:coreProperties>
</file>