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D17F-EE5B-4E33-8641-B5A3562C1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2070-489F-466B-9952-9BD2D8BA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1763-6B59-422F-8263-A3FB2386D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7E9D-4EAD-4B76-975F-5B9EB9B86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0CD1-E9D5-4123-A33A-58461888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3896-18ED-40DD-A591-B5ED75D2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8BAF-D465-4736-A24F-85AA0F0F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0D7A-7BAA-4DE6-B04D-49994AAA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B0F0-4E97-49D9-AB69-B6489F03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1868-65CF-45A4-95DD-182FD2B5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5DC3-D11C-410D-B93C-36035951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53D3-D033-4362-B0D7-59BDFB38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D45E-6CA7-406E-890C-BDCF7C1A663A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08:38:56Z</dcterms:created>
  <dc:creator>12vimeaa</dc:creator>
  <dc:description/>
  <dc:language>en-US</dc:language>
  <cp:lastModifiedBy>12vimeaa</cp:lastModifiedBy>
  <dcterms:modified xsi:type="dcterms:W3CDTF">2012-12-13T12:07:28Z</dcterms:modified>
  <cp:revision>10</cp:revision>
  <dc:subject/>
  <dc:title>Dia 1</dc:title>
</cp:coreProperties>
</file>