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6DF-E4E0-4EEA-B29F-2246BF88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89D-C0BC-4B2B-A1A5-C5ECB643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826-FA8C-428B-9E9C-FC95C3C4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865-5803-4F38-ADEA-2BD99484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CF61-E748-4316-BF28-ED6A75C9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A70-9524-4B08-8695-9B516A6A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EFF2-421A-47ED-BCF3-FACD9EBA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7BC8-82FA-4649-B8A2-26BB64BA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114-2910-4A41-A9B4-30EA8B8D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87F-14F0-4012-8729-067F4353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BB0-0769-4CA5-9706-7B4CA761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F43-B3C3-4150-AB66-4990B1BC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4995-911E-4868-B957-5B93D12A9B8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8:38:56Z</dcterms:created>
  <dc:creator>12vimeaa</dc:creator>
  <dc:description/>
  <dc:language>en-US</dc:language>
  <cp:lastModifiedBy>12vimeaa</cp:lastModifiedBy>
  <dcterms:modified xsi:type="dcterms:W3CDTF">2012-12-13T12:07:28Z</dcterms:modified>
  <cp:revision>10</cp:revision>
  <dc:subject/>
  <dc:title>Dia 1</dc:title>
</cp:coreProperties>
</file>