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8C74-D320-499D-8318-BB4B6B32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7522-906F-4353-89C4-C8F808A4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3F4-22BF-4814-8E92-D1A467E6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5672-D92E-4943-A35B-013629BD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DCF4-E140-4699-A074-C3F332B7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4B37-92BE-41F8-A65E-84E3C845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F64E-0C89-4F00-B16F-792F74D9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B366-56C8-4B99-906A-78D8B372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049F-BA0D-4775-9DA0-B63043D4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13FE-DCED-4E5B-B3D1-0F3FD3A0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CDE1-4157-49C8-BA6E-5C502E0C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93DC-511A-46C4-8FF4-1ACE2F1A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DBE3-F7AD-4C71-AAC5-FBD1D0F96E0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8:38:56Z</dcterms:created>
  <dc:creator>12vimeaa</dc:creator>
  <dc:description/>
  <dc:language>en-US</dc:language>
  <cp:lastModifiedBy>12vimeaa</cp:lastModifiedBy>
  <dcterms:modified xsi:type="dcterms:W3CDTF">2012-12-13T12:07:28Z</dcterms:modified>
  <cp:revision>10</cp:revision>
  <dc:subject/>
  <dc:title>Dia 1</dc:title>
</cp:coreProperties>
</file>