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F6F-3CB7-4A84-AEAC-9A65088D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942-E13F-4583-9138-6DE8CC00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C47-7F8D-4ED3-A2CA-B996B523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D18-8C97-4C82-9DE8-DC0600DD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63CF-D135-4713-B3D1-86202D91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C64-B5DB-4DA5-ACE7-4F4EA0F8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6A4-CAE3-419D-9800-33DEFAB1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67A-4621-4A6C-B85A-3EF2ABB5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F55-3012-4979-ABAE-33E86081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47E-89B1-47CC-94CF-62C9C968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5BEB-C642-4CBF-8141-5C3A967B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FAE1-9A69-47B8-86FD-487C61DD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4B7D-0711-46D6-8737-5D98775FDAB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8:38:56Z</dcterms:created>
  <dc:creator>12vimeaa</dc:creator>
  <dc:description/>
  <dc:language>en-US</dc:language>
  <cp:lastModifiedBy>12vimeaa</cp:lastModifiedBy>
  <dcterms:modified xsi:type="dcterms:W3CDTF">2012-12-13T12:07:28Z</dcterms:modified>
  <cp:revision>10</cp:revision>
  <dc:subject/>
  <dc:title>Dia 1</dc:title>
</cp:coreProperties>
</file>