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45561-741C-4C6F-909C-CC8F71A80ADC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A2F4E-FD53-4732-AA5D-D422F80E04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14ACA-7B14-41A2-9848-9A2EE749AC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8C3-CF96-4ADB-BB43-611D54B7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415-DC56-45BD-9CFA-3179B77E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564-079B-43C5-8867-7446A153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6D2-EEF4-432A-8AED-8A98DFFF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B5F-88FF-41A3-921A-EE3FE9FF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7E9-73AD-4AD1-9455-86644252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ECC-E2AD-4104-85F8-E064BB5E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AAD-3610-4B99-B092-A822EE99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443-2A2F-41EE-93A2-82152BF8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021-5DD2-4061-B628-E9659DA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DF2-F0FE-495E-AB9A-2DEE2D7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5BF-4BF2-4707-BDF3-9F68A468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AB6B0-1DDF-41AD-9896-D1DF421C4DBC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C73B2-2960-4048-B384-F01BB258E27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Tekstvak 5"/>
          <p:cNvSpPr/>
          <p:nvPr/>
        </p:nvSpPr>
        <p:spPr>
          <a:xfrm>
            <a:off x="3098880" y="58132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door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3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0:10Z</dcterms:modified>
  <cp:revision>29</cp:revision>
  <dc:subject/>
  <dc:title>Dia 1</dc:title>
</cp:coreProperties>
</file>