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9C4A3E-2016-4AE8-BBA1-572D51A9F0A2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F2D684-170E-482C-8CA7-B3AC7E1A1B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E197BC-CC96-4B95-9E7F-21738EF929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4807-AEC1-4D03-B805-E6717C39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7242-7C30-477E-8B83-0C98690D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BEDB-DF95-441A-A5E8-726808BA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3017-5F71-409B-9242-3B11E341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4E8E-F85D-45F7-9EFF-D2903D86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76B6-B74E-4604-8509-FCD209FF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500E-3281-4A7C-AC41-F4818887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5B2D-4ED1-431A-B2FA-098E7781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2F24-0534-4069-9652-FF59116F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145A-2900-4DC8-8602-FF2D0E05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9F4B-7BF4-4393-A3F8-95FD573A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93DA-5165-4B5D-8A1F-BE40C88A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F1783A-4563-44F3-8F0C-C9C67C8710D3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872C57-48B2-4146-BDA6-E1E93540FD5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0n4Vw6twKo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l_fi" descr="http://www.interieurinspiratie.nl/blog/wp-content/uploads/italiaanse_vlag.jpg"/>
          <p:cNvPicPr/>
          <p:nvPr/>
        </p:nvPicPr>
        <p:blipFill>
          <a:blip r:embed="rId1"/>
          <a:stretch/>
        </p:blipFill>
        <p:spPr>
          <a:xfrm>
            <a:off x="320760" y="331920"/>
            <a:ext cx="8413560" cy="6238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Italia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l_fi" descr="http://www.agritoerisme-toscane.nl/images/uploads/Italian_food.jpg"/>
          <p:cNvPicPr/>
          <p:nvPr/>
        </p:nvPicPr>
        <p:blipFill>
          <a:blip r:embed="rId2"/>
          <a:stretch/>
        </p:blipFill>
        <p:spPr>
          <a:xfrm>
            <a:off x="1397160" y="1747800"/>
            <a:ext cx="6349680" cy="4229280"/>
          </a:xfrm>
          <a:prstGeom prst="rect">
            <a:avLst/>
          </a:prstGeom>
          <a:ln w="0">
            <a:noFill/>
          </a:ln>
        </p:spPr>
      </p:pic>
      <p:sp>
        <p:nvSpPr>
          <p:cNvPr id="51" name="Tekstvak 5"/>
          <p:cNvSpPr/>
          <p:nvPr/>
        </p:nvSpPr>
        <p:spPr>
          <a:xfrm>
            <a:off x="3098880" y="581328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utdoor Desig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04480" y="610920"/>
            <a:ext cx="85122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BlairMdITC TT Medium"/>
              </a:rPr>
              <a:t>We vinden er niet veel aan…</a:t>
            </a:r>
            <a:br>
              <a:rPr sz="32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1609560" y="2347920"/>
            <a:ext cx="59248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artjes"/>
          <p:cNvPicPr/>
          <p:nvPr/>
        </p:nvPicPr>
        <p:blipFill>
          <a:blip r:embed="rId2"/>
          <a:stretch/>
        </p:blipFill>
        <p:spPr>
          <a:xfrm>
            <a:off x="350820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Sei dolce quando rid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tuoi occhi sono bellisim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iamo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a molto be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Mi piache stare con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o sognato di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tti il giorno non faccio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ltro che pensar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sto lo dicono tut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n rischiamo nien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ti rived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ò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hthoek 1"/>
          <p:cNvSpPr/>
          <p:nvPr/>
        </p:nvSpPr>
        <p:spPr>
          <a:xfrm>
            <a:off x="996840" y="636480"/>
            <a:ext cx="7759800" cy="47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kom je ook ver met gebaren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0000ff"/>
                </a:solidFill>
                <a:uFillTx/>
                <a:latin typeface="Cambria"/>
                <a:hlinkClick r:id="rId1"/>
              </a:rPr>
              <a:t>http://www.youtube.com/watch?v=M0n4Vw6tw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264960" y="318960"/>
            <a:ext cx="5153040" cy="3865680"/>
          </a:xfrm>
          <a:prstGeom prst="rect">
            <a:avLst/>
          </a:prstGeom>
          <a:ln w="0">
            <a:noFill/>
          </a:ln>
        </p:spPr>
      </p:pic>
      <p:sp>
        <p:nvSpPr>
          <p:cNvPr id="53" name="Tekstvak 5"/>
          <p:cNvSpPr/>
          <p:nvPr/>
        </p:nvSpPr>
        <p:spPr>
          <a:xfrm>
            <a:off x="3415320" y="318960"/>
            <a:ext cx="549648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enz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g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li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reg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omo (Cernobbio)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Como (Cernobb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è la mia borsa/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anca un borsa/una 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ono di 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ve/ Cia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Sann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 giorno signora S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Marco Sal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sera signor Marco Sa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i chiamo 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ono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iac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e sta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nissimo, e le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si cos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iao,  arriverderci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 pres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not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, cer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, me dispi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 lo  s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raz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 ni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cu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 favo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7" name="Afbeelding 5" descr=""/>
          <p:cNvPicPr/>
          <p:nvPr/>
        </p:nvPicPr>
        <p:blipFill>
          <a:blip r:embed="rId2"/>
          <a:stretch/>
        </p:blipFill>
        <p:spPr>
          <a:xfrm>
            <a:off x="5979960" y="2755800"/>
            <a:ext cx="990720" cy="127980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8" descr=""/>
          <p:cNvPicPr/>
          <p:nvPr/>
        </p:nvPicPr>
        <p:blipFill>
          <a:blip r:embed="rId3"/>
          <a:stretch/>
        </p:blipFill>
        <p:spPr>
          <a:xfrm>
            <a:off x="5418000" y="4316400"/>
            <a:ext cx="1397160" cy="161280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9" descr=""/>
          <p:cNvPicPr/>
          <p:nvPr/>
        </p:nvPicPr>
        <p:blipFill>
          <a:blip r:embed="rId4"/>
          <a:stretch/>
        </p:blipFill>
        <p:spPr>
          <a:xfrm>
            <a:off x="7377120" y="4811760"/>
            <a:ext cx="1266840" cy="111744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10" descr=""/>
          <p:cNvPicPr/>
          <p:nvPr/>
        </p:nvPicPr>
        <p:blipFill>
          <a:blip r:embed="rId5"/>
          <a:stretch/>
        </p:blipFill>
        <p:spPr>
          <a:xfrm>
            <a:off x="7377120" y="3365640"/>
            <a:ext cx="1266840" cy="950760"/>
          </a:xfrm>
          <a:prstGeom prst="rect">
            <a:avLst/>
          </a:prstGeom>
          <a:ln w="0">
            <a:noFill/>
          </a:ln>
        </p:spPr>
      </p:pic>
      <p:pic>
        <p:nvPicPr>
          <p:cNvPr id="61" name="Afbeelding 11" descr=""/>
          <p:cNvPicPr/>
          <p:nvPr/>
        </p:nvPicPr>
        <p:blipFill>
          <a:blip r:embed="rId6"/>
          <a:stretch/>
        </p:blipFill>
        <p:spPr>
          <a:xfrm>
            <a:off x="7159680" y="1393920"/>
            <a:ext cx="13572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o publico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329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, soms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, in Itali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ë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Espress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lange afstands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Dirett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  Do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tre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auto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 questo tren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Cernobbi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Questo autobus si ferma a Cernobbi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i potrebbe indicare la fermat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iamo arrivati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ov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è 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auto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bagn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via Regina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Reg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fficio postale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uca delle letter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a banc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_x0016_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rit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sinistr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e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Quanto costa 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glietto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per Com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Co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 all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iamo in …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glietti preg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ssima stazion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è 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Calibri"/>
              </a:rPr>
              <a:t> 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u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rt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u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t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Afbeelding 8" descr=""/>
          <p:cNvPicPr/>
          <p:nvPr/>
        </p:nvPicPr>
        <p:blipFill>
          <a:blip r:embed="rId1"/>
          <a:stretch/>
        </p:blipFill>
        <p:spPr>
          <a:xfrm>
            <a:off x="2346480" y="941400"/>
            <a:ext cx="2033280" cy="1089000"/>
          </a:xfrm>
          <a:prstGeom prst="rect">
            <a:avLst/>
          </a:prstGeom>
          <a:ln w="0">
            <a:noFill/>
          </a:ln>
        </p:spPr>
      </p:pic>
      <p:pic>
        <p:nvPicPr>
          <p:cNvPr id="73" name="Afbeelding 10" descr=""/>
          <p:cNvPicPr/>
          <p:nvPr/>
        </p:nvPicPr>
        <p:blipFill>
          <a:blip r:embed="rId2"/>
          <a:stretch/>
        </p:blipFill>
        <p:spPr>
          <a:xfrm>
            <a:off x="6815160" y="71280"/>
            <a:ext cx="1658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1978200" cy="2259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92320" y="1244160"/>
            <a:ext cx="74944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ov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la cass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i porte il conto, per fav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tto insie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l conto all aroma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o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trei pagare con una car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 cre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enga il rest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i pottrebbe dare una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icevu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 tropp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une err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kstvak 3"/>
          <p:cNvSpPr/>
          <p:nvPr/>
        </p:nvSpPr>
        <p:spPr>
          <a:xfrm>
            <a:off x="328680" y="5883120"/>
            <a:ext cx="860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café moet je vaak eerst betalen en met het bonnetje kan je de consumptie halen aan de b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restaurant rekenen ze soms ook het gebruik van het bestek, servetten enzovoorts m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il menù 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prim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antipasto prende ...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lasagne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riso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sotto alla marinar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il secondo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second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prende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bistecc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fung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bistecca ai funghi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melanz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melanzane alla parmigi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contorno 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 come contorno?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'insal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fri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tatine fritt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pan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Dolce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heuvelejvanden</cp:lastModifiedBy>
  <dcterms:modified xsi:type="dcterms:W3CDTF">2012-11-29T15:30:10Z</dcterms:modified>
  <cp:revision>29</cp:revision>
  <dc:subject/>
  <dc:title>Dia 1</dc:title>
</cp:coreProperties>
</file>