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B5741-52D2-4B9E-85AD-7D98FF4DB968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A4467-77CD-43BA-A615-839AD8076D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0FEFE-94FF-403F-9DDF-40AB68C952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006-0ECC-4563-9A4D-DFBC6BC9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561-BAAC-4B77-BE9E-ADBEF92D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F6F-D118-4760-8C0C-AC4E12D6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CB6-C7B4-4A69-96D1-48BA2F19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121-9986-4E0A-9018-C1E55437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397-776A-4CCD-9602-5D071531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E9C-2B23-4E7F-84B1-B0D405EF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07B-6A83-4F39-B028-A2BA24D3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83D-6E9B-4158-A3DC-C217496F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2BE-A3B8-423B-AC7A-516F4CA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7CE-B9B9-48B3-A585-E1DF0BF6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144-500F-48D1-A001-DBB7E3B6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9D425-C531-4F39-B315-8EF30DF8ACF0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7113A-6C45-4744-8A35-EE5495B4EE0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Tekstvak 5"/>
          <p:cNvSpPr/>
          <p:nvPr/>
        </p:nvSpPr>
        <p:spPr>
          <a:xfrm>
            <a:off x="3098880" y="58132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door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0:10Z</dcterms:modified>
  <cp:revision>29</cp:revision>
  <dc:subject/>
  <dc:title>Dia 1</dc:title>
</cp:coreProperties>
</file>