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3325B-40A9-4377-A437-75F97EABC24D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73037-13A8-416C-823A-AA9D5D2B96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51FC1-CB2D-4BC1-84B0-597DED8461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823-3A72-41B2-AD37-B1C2003C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455-C2B3-46B7-BACA-86467E11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738-C292-4DEA-B1A2-3D3E8E03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F88-3669-4140-96FF-E3971337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68E-5956-4598-B150-70A62FAF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E90-D12B-4E57-9907-1A5F3B4C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1F9-1AA8-4617-BB8D-5A08C179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087-5E02-4002-86CA-F4783312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9F4-CCE5-4F2D-80F2-0F697546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00E-C244-4733-A66D-03FA88F9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FDE-6442-419B-AEBC-AF04B95D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EB5-EED4-48EA-8E1B-72B6FCAA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6A6B8-FC47-4E98-A23A-6D29E5B411EE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302AE-DD09-40AB-B0C3-3551845F7AF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  <p:sp>
        <p:nvSpPr>
          <p:cNvPr id="51" name="Tekstvak 5"/>
          <p:cNvSpPr/>
          <p:nvPr/>
        </p:nvSpPr>
        <p:spPr>
          <a:xfrm>
            <a:off x="3098880" y="58132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utdoor De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3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0:10Z</dcterms:modified>
  <cp:revision>29</cp:revision>
  <dc:subject/>
  <dc:title>Dia 1</dc:title>
</cp:coreProperties>
</file>