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E8AE6-1DAC-4B83-9FAD-4189F233CE10}" type="datetime">
              <a:rPr b="0" lang="nl-NL" sz="12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E5556-B145-4FD5-A7D7-F3B81FF555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C5C02-46BC-4C22-B43F-5454B2BA3C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6F1-9393-4E41-A817-98FDD19B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126A-9FED-42CB-BC23-25C110EC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938-5FBE-43A8-BDA2-E3B1C476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796-8BE0-482F-912A-6115F9EA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E5A-AC5A-42AB-8824-FCBA4B62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966-103A-48C8-8A4F-A27C01B4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A90E-9ABD-4CF0-96EE-27C37DB1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EF8-0216-4090-8F2F-344BF0C5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F02-2BFC-4808-A872-858FD30E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185-F659-4DEE-8FD4-108E308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B3EE-6285-465D-BCC0-A8FA8487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7F6-2217-4167-A4C8-22910EE0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87086-216D-46C9-ACEA-ACC7413C093A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D936D2-7909-42F9-A4ED-853855CAF7A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0n4Vw6twKo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l_fi" descr="http://www.interieurinspiratie.nl/blog/wp-content/uploads/italiaanse_vlag.jpg"/>
          <p:cNvPicPr/>
          <p:nvPr/>
        </p:nvPicPr>
        <p:blipFill>
          <a:blip r:embed="rId1"/>
          <a:stretch/>
        </p:blipFill>
        <p:spPr>
          <a:xfrm>
            <a:off x="320760" y="331920"/>
            <a:ext cx="8413560" cy="623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Calibri"/>
              </a:rPr>
              <a:t>Italiaanse les (basic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l_fi" descr="http://www.agritoerisme-toscane.nl/images/uploads/Italian_food.jpg"/>
          <p:cNvPicPr/>
          <p:nvPr/>
        </p:nvPicPr>
        <p:blipFill>
          <a:blip r:embed="rId2"/>
          <a:stretch/>
        </p:blipFill>
        <p:spPr>
          <a:xfrm>
            <a:off x="1397160" y="1747800"/>
            <a:ext cx="6349680" cy="4229280"/>
          </a:xfrm>
          <a:prstGeom prst="rect">
            <a:avLst/>
          </a:prstGeom>
          <a:ln w="0">
            <a:noFill/>
          </a:ln>
        </p:spPr>
      </p:pic>
      <p:sp>
        <p:nvSpPr>
          <p:cNvPr id="51" name="Tekstvak 5"/>
          <p:cNvSpPr/>
          <p:nvPr/>
        </p:nvSpPr>
        <p:spPr>
          <a:xfrm>
            <a:off x="3098880" y="58132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utdoor Desig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4480" y="610920"/>
            <a:ext cx="85122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BlairMdITC TT Medium"/>
              </a:rPr>
              <a:t>We vinden er niet veel aan…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609560" y="2347920"/>
            <a:ext cx="5924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artjes"/>
          <p:cNvPicPr/>
          <p:nvPr/>
        </p:nvPicPr>
        <p:blipFill>
          <a:blip r:embed="rId2"/>
          <a:stretch/>
        </p:blipFill>
        <p:spPr>
          <a:xfrm>
            <a:off x="3508200" y="915840"/>
            <a:ext cx="2084400" cy="1744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Iemand versier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lacht zo lief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Sei dolce quando rid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hebt zulke mooie og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 tuoi occhi sono bellisim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Zullen we dansen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iamo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Je danst heel goe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lla molto be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vind het fijn om bij je te zijn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Mi piache stare con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heb van je gedroomd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o sognato di 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Ik moet de hele dag aan je denk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Tutti il giorno non faccio 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altro che pensar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Dat zeggen ze allemaal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esto lo dicono tut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aten we geen risico nemen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on rischiamo nie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Wanneer zie ik je weer?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Quando ti rived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ò?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hthoek 1"/>
          <p:cNvSpPr/>
          <p:nvPr/>
        </p:nvSpPr>
        <p:spPr>
          <a:xfrm>
            <a:off x="996840" y="636480"/>
            <a:ext cx="77598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Natuurlijk duurt het even eer je de taal goed beheerst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660066"/>
                </a:solidFill>
                <a:latin typeface="Matura MT Script Capitals"/>
              </a:rPr>
              <a:t>Gelukkig kom je ook ver met gebaren</a:t>
            </a:r>
            <a:r>
              <a:rPr b="0" lang="nl-NL" sz="5400" spc="-1" strike="noStrike">
                <a:solidFill>
                  <a:srgbClr val="660066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Cambria"/>
                <a:hlinkClick r:id="rId1"/>
              </a:rPr>
              <a:t>http://www.youtube.com/watch?v=M0n4Vw6tw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64960" y="318960"/>
            <a:ext cx="5153040" cy="3865680"/>
          </a:xfrm>
          <a:prstGeom prst="rect">
            <a:avLst/>
          </a:prstGeom>
          <a:ln w="0">
            <a:noFill/>
          </a:ln>
        </p:spPr>
      </p:pic>
      <p:sp>
        <p:nvSpPr>
          <p:cNvPr id="53" name="Tekstvak 5"/>
          <p:cNvSpPr/>
          <p:nvPr/>
        </p:nvSpPr>
        <p:spPr>
          <a:xfrm>
            <a:off x="3415320" y="318960"/>
            <a:ext cx="5496480" cy="4421880"/>
          </a:xfrm>
          <a:prstGeom prst="rect">
            <a:avLst/>
          </a:prstGeom>
          <a:solidFill>
            <a:srgbClr val="c6d9f1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f0000"/>
                </a:solidFill>
                <a:latin typeface="Calibri"/>
              </a:rPr>
              <a:t>Op de luchth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rriv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ko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rtenz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ert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gan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u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li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a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saporte prego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aspoort a.u.b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 Como (Cernobbio)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aar Como (Cernobb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it is niet mijn tas/koffer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è la mia borsa/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ontbreekt nog een tas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nca un borsa/una vali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k kom uit Holland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ono di O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roeten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700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all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alve/ Cia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ag mevrouw Sann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 giorno signora S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navond mijnheer Marco Sala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sera signor Marco Sa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heet..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Mi chiamo 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ben …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ono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angenaam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iac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Hoe gaat het ermee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me sta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ima, en met u?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nissimo, e le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iet zo goed.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osi cos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ziens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Ciao,  arriverderci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ot snel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 pres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oede nach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uona not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Ja, natuurlij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i, cer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ee, het spijt me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, me dispi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Ik weet het nie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No lo  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Bedankt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raz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n dank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Di ni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ardon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Scu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aangeef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re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Alstublieft (als je iets vraagt)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Per fav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3" descr=""/>
          <p:cNvPicPr/>
          <p:nvPr/>
        </p:nvPicPr>
        <p:blipFill>
          <a:blip r:embed="rId1"/>
          <a:stretch/>
        </p:blipFill>
        <p:spPr>
          <a:xfrm>
            <a:off x="1936800" y="274680"/>
            <a:ext cx="1214280" cy="1130400"/>
          </a:xfrm>
          <a:prstGeom prst="rect">
            <a:avLst/>
          </a:prstGeom>
          <a:ln w="0">
            <a:noFill/>
          </a:ln>
        </p:spPr>
      </p:pic>
      <p:pic>
        <p:nvPicPr>
          <p:cNvPr id="57" name="Afbeelding 5" descr=""/>
          <p:cNvPicPr/>
          <p:nvPr/>
        </p:nvPicPr>
        <p:blipFill>
          <a:blip r:embed="rId2"/>
          <a:stretch/>
        </p:blipFill>
        <p:spPr>
          <a:xfrm>
            <a:off x="5979960" y="2755800"/>
            <a:ext cx="990720" cy="12798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8" descr=""/>
          <p:cNvPicPr/>
          <p:nvPr/>
        </p:nvPicPr>
        <p:blipFill>
          <a:blip r:embed="rId3"/>
          <a:stretch/>
        </p:blipFill>
        <p:spPr>
          <a:xfrm>
            <a:off x="5418000" y="4316400"/>
            <a:ext cx="1397160" cy="1612800"/>
          </a:xfrm>
          <a:prstGeom prst="rect">
            <a:avLst/>
          </a:prstGeom>
          <a:ln w="0">
            <a:noFill/>
          </a:ln>
        </p:spPr>
      </p:pic>
      <p:pic>
        <p:nvPicPr>
          <p:cNvPr id="59" name="Afbeelding 9" descr=""/>
          <p:cNvPicPr/>
          <p:nvPr/>
        </p:nvPicPr>
        <p:blipFill>
          <a:blip r:embed="rId4"/>
          <a:stretch/>
        </p:blipFill>
        <p:spPr>
          <a:xfrm>
            <a:off x="7377120" y="4811760"/>
            <a:ext cx="126684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Afbeelding 10" descr=""/>
          <p:cNvPicPr/>
          <p:nvPr/>
        </p:nvPicPr>
        <p:blipFill>
          <a:blip r:embed="rId5"/>
          <a:stretch/>
        </p:blipFill>
        <p:spPr>
          <a:xfrm>
            <a:off x="7377120" y="3365640"/>
            <a:ext cx="126684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Afbeelding 11" descr=""/>
          <p:cNvPicPr/>
          <p:nvPr/>
        </p:nvPicPr>
        <p:blipFill>
          <a:blip r:embed="rId6"/>
          <a:stretch/>
        </p:blipFill>
        <p:spPr>
          <a:xfrm>
            <a:off x="7159680" y="1393920"/>
            <a:ext cx="135720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Openbaar vervoer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Calibri"/>
              </a:rPr>
              <a:t>Transporto public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329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TREI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Rapido 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sneltrein, soms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Intercity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f2f2f2"/>
                </a:solidFill>
                <a:latin typeface="Calibri"/>
              </a:rPr>
              <a:t>= intercity, in Itali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ë met toesl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Espress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lange afstands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Diretto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neltr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Locale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= stoptre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2f2f2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_x0016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ar?                     Do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trein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tre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eze bus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questo auto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u naar to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ar gaat deze trein naar toe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ove va questo tren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topt deze bus in Cernobbio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Questo autobus si ferma a Cernobbi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ilt u me zeggen waar ik moet uitstappen?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i potrebbe indicare la fermata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iamo arrivati.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ier is he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Dov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è 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aar is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autobus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l bagno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w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via Regina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straat Reg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fficio postale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het postkant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la buca delle lettere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de brievenb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una banca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… een ba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n_3pijlen_3622913"/>
          <p:cNvPicPr/>
          <p:nvPr/>
        </p:nvPicPr>
        <p:blipFill>
          <a:blip r:embed="rId1"/>
          <a:stretch/>
        </p:blipFill>
        <p:spPr>
          <a:xfrm>
            <a:off x="1832040" y="1495440"/>
            <a:ext cx="5060880" cy="504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0" y="777960"/>
            <a:ext cx="9144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_x0016_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Bank Gothic Light"/>
              </a:rPr>
              <a:t>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door = dritto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links = sinistra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       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rechts =        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Bank Gothic Light"/>
              </a:rPr>
              <a:t>de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Quanto costa …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900" spc="-1" strike="noStrike">
                <a:solidFill>
                  <a:srgbClr val="000000"/>
                </a:solidFill>
                <a:latin typeface="Calibri"/>
              </a:rPr>
              <a:t>Wat kost …</a:t>
            </a:r>
            <a:br>
              <a:rPr sz="36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enkele re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ret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 biglietto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… een kaart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per Com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enkele reis naar Co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ata e retorno all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eroport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retourtje naar de luchthav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iamo in …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 zijn met … perso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glietti prego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w kaartje, alstublie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a prossima stazion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è ….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t volgende station is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kstvak 6"/>
          <p:cNvSpPr/>
          <p:nvPr/>
        </p:nvSpPr>
        <p:spPr>
          <a:xfrm>
            <a:off x="457200" y="54687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Calibri"/>
              </a:rPr>
              <a:t> 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 un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2 du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3 tr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4 quarttr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5 cinqu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6 sei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7 sett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8 otto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9 nove  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	</a:t>
            </a:r>
            <a:r>
              <a:rPr b="1" lang="nl-NL" sz="2400" spc="-1" strike="noStrike">
                <a:solidFill>
                  <a:srgbClr val="660066"/>
                </a:solidFill>
                <a:latin typeface="Princetown LET"/>
              </a:rPr>
              <a:t>10 di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fbeelding 8" descr=""/>
          <p:cNvPicPr/>
          <p:nvPr/>
        </p:nvPicPr>
        <p:blipFill>
          <a:blip r:embed="rId1"/>
          <a:stretch/>
        </p:blipFill>
        <p:spPr>
          <a:xfrm>
            <a:off x="2346480" y="941400"/>
            <a:ext cx="2033280" cy="1089000"/>
          </a:xfrm>
          <a:prstGeom prst="rect">
            <a:avLst/>
          </a:prstGeom>
          <a:ln w="0">
            <a:noFill/>
          </a:ln>
        </p:spPr>
      </p:pic>
      <p:pic>
        <p:nvPicPr>
          <p:cNvPr id="73" name="Afbeelding 10" descr=""/>
          <p:cNvPicPr/>
          <p:nvPr/>
        </p:nvPicPr>
        <p:blipFill>
          <a:blip r:embed="rId2"/>
          <a:stretch/>
        </p:blipFill>
        <p:spPr>
          <a:xfrm>
            <a:off x="6815160" y="71280"/>
            <a:ext cx="1658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5" descr=""/>
          <p:cNvPicPr/>
          <p:nvPr/>
        </p:nvPicPr>
        <p:blipFill>
          <a:blip r:embed="rId1"/>
          <a:stretch/>
        </p:blipFill>
        <p:spPr>
          <a:xfrm>
            <a:off x="0" y="0"/>
            <a:ext cx="1978200" cy="225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tal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Pag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92320" y="1244160"/>
            <a:ext cx="74944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ar is de kassa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ov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la cass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rekening a.u.b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i porte il conto, per fav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lles bij elk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tto insie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eder betaalt afzonderlijk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l conto all aro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Wat kost het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Quanto cost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an ik met een creditkaart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otrei pagare con una car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etal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 credit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udt u het wisselgeld maa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nga il res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unt u me een bonnetje geven?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 pottrebbe dare una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icevu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at vind ik te duur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 troppo car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t klopt niet.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è une erro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kstvak 3"/>
          <p:cNvSpPr/>
          <p:nvPr/>
        </p:nvSpPr>
        <p:spPr>
          <a:xfrm>
            <a:off x="328680" y="5883120"/>
            <a:ext cx="860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café moet je vaak eerst betalen en met het bonnetje kan je de consumptie halen aan de b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ank Gothic Light"/>
              </a:rPr>
              <a:t>In een restaurant rekenen ze soms ook het gebruik van het bestek, servetten enzovoorts m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kstvak 3"/>
          <p:cNvSpPr/>
          <p:nvPr/>
        </p:nvSpPr>
        <p:spPr>
          <a:xfrm>
            <a:off x="0" y="0"/>
            <a:ext cx="914400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il menù 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Lucida Handwriting"/>
              </a:rPr>
              <a:t>de menuka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primo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warme voor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antipasto prende ...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voorgerecht neem ik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lasagne 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lasa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riso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rijst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sotto alla marinar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rijst met 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il secondo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het hoofd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come second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prende…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ls hoofdgerecht neem ik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bistecc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karb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fung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paddensto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bistecca ai funghi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karbonade met paddenstoe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melanz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ube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melanzane alla parmigian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ubergines met ka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il contorno 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ff0000"/>
                </a:solidFill>
                <a:latin typeface="Lucida Handwriting"/>
              </a:rPr>
              <a:t>het bijgere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 come contorno?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En als bijgerech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'insal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sal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a patata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aardap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fritto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gebak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le patatine fritt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de frietj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il pane 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het br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Dolce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Lucida Handwriting"/>
              </a:rPr>
              <a:t>Zoete nage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24:43Z</dcterms:created>
  <dc:creator>Govert en Yvonne Visser-Koorengevel</dc:creator>
  <dc:description/>
  <dc:language>en-US</dc:language>
  <cp:lastModifiedBy>heuvelejvanden</cp:lastModifiedBy>
  <dcterms:modified xsi:type="dcterms:W3CDTF">2012-11-29T15:30:10Z</dcterms:modified>
  <cp:revision>29</cp:revision>
  <dc:subject/>
  <dc:title>Dia 1</dc:title>
</cp:coreProperties>
</file>