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974E5-2D0D-47B8-A379-69F5663A11BA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90C2D-3239-47C2-81C1-84F9CD00DB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850D3-BA56-49F5-A5E9-511A09F9F4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82E-29A5-424A-9A79-C539FF05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01E-DB99-4051-A343-B979306F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F56-3DA7-4439-9F69-710CEDC7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3213-71D7-4F12-B3F4-E827C43A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B1C-F2F4-4659-BC5B-928C9294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1C8-9A46-4551-BBB1-891B02EF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98B-CD90-4578-9588-BF19634A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5DF-25CB-4ACA-81CA-423E7A1E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ADF7-6494-4AB9-8DA3-67730BCE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7707-3C96-4AE0-A6AD-0CC9CB0B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3E8-AC83-4436-8EAD-448507C6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C18-1B22-478F-85EC-BF57DFD2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9B261-A155-4983-BBA7-D460987528BA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E748E-14F2-4EA6-B666-E9FB75221AA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  <p:sp>
        <p:nvSpPr>
          <p:cNvPr id="51" name="Tekstvak 5"/>
          <p:cNvSpPr/>
          <p:nvPr/>
        </p:nvSpPr>
        <p:spPr>
          <a:xfrm>
            <a:off x="3098880" y="58132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utdoor Desig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3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0:10Z</dcterms:modified>
  <cp:revision>29</cp:revision>
  <dc:subject/>
  <dc:title>Dia 1</dc:title>
</cp:coreProperties>
</file>