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B50-C24E-4E3B-A45A-CF3C3F10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B4A-F358-4112-A16E-42B38BE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003-96BA-4575-8637-5F94AD62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C5B-A54F-44A1-AE91-721ED020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331-C93A-4BB7-BD08-B76FE07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F3D-FF57-4C10-9867-5E0CF953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C55-6744-4B50-91EC-F11AB2D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00E-59F9-4873-A45A-78E06776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1E4-D779-415B-A72A-BE35B7E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809-CD50-47B2-95D6-F7060CA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213-42A3-4432-A426-748019C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F74-C6E5-4E20-B8E9-C62B3DD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BCD-7190-4743-B640-4BEB6C2D62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resenteren van het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er je onderzoek met behulp van een power point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90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moet je aan denke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opmaak van de presentati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 een achtergrond die past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geen bijzondere lettertypes en kleuren van de tek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afbeeldingen toe die passen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f foutloos Nederlands en let op taalgebru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ke informatie gebruik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namen van je groe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opdrachtg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hoofdvraag en de deel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e informatie die relevant is voor je onderz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nog m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 je teksten toe d.m.v. foto’s en/of grafie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aan waar je nu 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zien wat je vanaf nu van plan bent en belangrijker nog hoe je dit gaat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ervoor dat je de presentatie hebt geoefend met de groep voordat je deze presente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ga je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ower point presentatie van maximaal 8 di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preek de presentatie met de doce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id deze presentatie voor met de gro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ze presentatie in je leer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8:08Z</dcterms:created>
  <dc:creator>Leferink</dc:creator>
  <dc:description/>
  <dc:language>en-US</dc:language>
  <cp:lastModifiedBy>Leferink</cp:lastModifiedBy>
  <dcterms:modified xsi:type="dcterms:W3CDTF">2012-11-08T10:45:28Z</dcterms:modified>
  <cp:revision>2</cp:revision>
  <dc:subject/>
  <dc:title>Het presenteren van het onderzoek</dc:title>
</cp:coreProperties>
</file>