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A76-0ADC-4CC6-BF38-0CF3CAFC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D37-FD76-4F7C-97A6-ED956D33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DE2-6843-47B7-A964-77C6FFA8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A98-9E5D-45F5-A6E7-7124B294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4E7-BD63-4FDA-A053-F72D88F8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FF0-8453-4F3E-B817-E1E87720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37B-05D8-4AB0-BA89-BDE10A26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B90-6EE7-4FEB-8170-9E3E3B97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E2B-2A94-47DE-9FE5-01A5A0B9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44F-0FBC-43A6-9D03-8E1B702D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E71-0F48-4E2E-89C1-3880188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E3F2-9659-48D3-9FE2-5892EC37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8EFB-3F74-4FCF-BA3D-B68920BE64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resenteren van het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er je onderzoek met behulp van een power point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907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moet je aan denken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opmaak van de presentatie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es een achtergrond die past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geen bijzondere lettertypes en kleuren van de tek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g afbeeldingen toe die passen bij jouw onderzoeksopd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rijf foutloos Nederlands en let op taalgebru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ke informatie gebruik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namen van je groe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eld de opdrachtg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oem de hoofdvraag en de deel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e informatie die relevant is voor je onderzo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nog me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ht je teksten toe d.m.v. foto’s en/of grafie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f aan waar je nu st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t zien wat je vanaf nu van plan bent en belangrijker nog hoe je dit gaat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 ervoor dat je de presentatie hebt geoefend met de groep voordat je deze presente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symfoia.com/assets/Uploads/_resampled/resizedimage330281-onderzoek-afb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907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ga je do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ower point presentatie van maximaal 8 dia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preek de presentatie met de doce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id deze presentatie voor met de gro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ze presentatie in je leer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9:08:08Z</dcterms:created>
  <dc:creator>Leferink</dc:creator>
  <dc:description/>
  <dc:language>en-US</dc:language>
  <cp:lastModifiedBy>Leferink</cp:lastModifiedBy>
  <dcterms:modified xsi:type="dcterms:W3CDTF">2012-11-08T10:45:28Z</dcterms:modified>
  <cp:revision>2</cp:revision>
  <dc:subject/>
  <dc:title>Het presenteren van het onderzoek</dc:title>
</cp:coreProperties>
</file>