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B26-DD11-4B57-87AE-54C4B091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8A4-10BB-4D60-9BEB-E4D0BD9B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CF4-1B7E-4C35-94CA-FC48969B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A2D-058E-4456-920C-BB6DDE8F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8D1-5E4B-419C-B981-48E87D96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CC1-E800-4663-8B93-2EDD3874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E6F-6178-413A-A65F-5AC25BCD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4F4-F73E-47F7-A95F-69191DB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398-C25E-4258-8D81-8317903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48E-1239-4A8A-B70D-6D4528E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F89-E75F-45EC-9920-674B051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B75-9A54-428B-9566-AA0D9664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808-87C6-4141-8F3E-4F19D8305C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resenteren van het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er je onderzoek met behulp van een power point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90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moet je aan denke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opmaak van de presentati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 een achtergrond die past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geen bijzondere lettertypes en kleuren van de tek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afbeeldingen toe die passen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f foutloos Nederlands en let op taalgebru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ke informatie gebruik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namen van je groe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opdrachtg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oem de hoofdvraag en de deel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e informatie die relevant is voor je onderz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nog m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 je teksten toe d.m.v. foto’s en/of grafie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aan waar je nu st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zien wat je vanaf nu van plan bent en belangrijker nog hoe je dit gaat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ervoor dat je de presentatie hebt geoefend met de groep voordat je deze presente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ga je do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ower point presentatie van maximaal 8 di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preek de presentatie met de doce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id deze presentatie voor met de gro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ze presentatie in je leer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8:08Z</dcterms:created>
  <dc:creator>Leferink</dc:creator>
  <dc:description/>
  <dc:language>en-US</dc:language>
  <cp:lastModifiedBy>Leferink</cp:lastModifiedBy>
  <dcterms:modified xsi:type="dcterms:W3CDTF">2012-11-08T10:45:28Z</dcterms:modified>
  <cp:revision>2</cp:revision>
  <dc:subject/>
  <dc:title>Het presenteren van het onderzoek</dc:title>
</cp:coreProperties>
</file>