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AA7-578F-416E-A233-1409D4B0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237-6E23-4308-A882-5EB6EE24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8A3-9781-421F-9967-F13E68BF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032-5106-4D0F-86ED-6754513B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4E9-480D-41B8-8F91-8EDE3C1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4E1-266D-48DE-BE80-6DA2B38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F2D-1B86-4DB2-9D04-7C6CD17B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A6C-59DA-4744-841C-3B3D67D5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A39-2EDB-435E-9C7D-64BC6040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55B-0ACB-42B1-AC0C-DBEC539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F75-4DDA-4BDF-B724-3C4DA474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1AF-442F-462A-98A3-7D1B0230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A9F-277B-459A-B1C5-239061AA89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resenteren van het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er je onderzoek met behulp van een power point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907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moet je aan denke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opmaak van de presentati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 een achtergrond die past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geen bijzondere lettertypes en kleuren van de tek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afbeeldingen toe die passen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jf foutloos Nederlands en let op taalgebru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ke informatie gebruik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namen van je groe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opdrachtg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oem de hoofdvraag en de deel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e informatie die relevant is voor je onderz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nog m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 je teksten toe d.m.v. foto’s en/of grafie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f aan waar je nu st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t zien wat je vanaf nu van plan bent en belangrijker nog hoe je dit gaat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ervoor dat je de presentatie hebt geoefend met de groep voordat je deze presente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ga je do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ower point presentatie van maximaal 8 di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preek de presentatie met de doce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id deze presentatie voor met de gro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ze presentatie in je leer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9:08:08Z</dcterms:created>
  <dc:creator>Leferink</dc:creator>
  <dc:description/>
  <dc:language>en-US</dc:language>
  <cp:lastModifiedBy>Leferink</cp:lastModifiedBy>
  <dcterms:modified xsi:type="dcterms:W3CDTF">2012-11-08T10:45:28Z</dcterms:modified>
  <cp:revision>2</cp:revision>
  <dc:subject/>
  <dc:title>Het presenteren van het onderzoek</dc:title>
</cp:coreProperties>
</file>