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9E1-761A-4496-B52B-75FA62E3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EE5-D721-4840-B8DC-3BDD061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0DE-1E0E-4892-AF7D-85D258A7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6DF-31FD-4EC2-9173-61A4CBF9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253-13F9-4DF3-B934-BE1BD40F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DCA-C66B-4EEA-A133-158026E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BAC-2990-455B-92C7-4622E5B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8B9-8E31-4119-8628-CE509C85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0D2-A991-453E-9DB2-AA305636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687-ACF7-45FF-9E74-0A1ABE0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300-7153-4F56-8BC7-2472F0CD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3BE-AABA-4658-8716-17CEC67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2C7-E755-460A-A124-11FEF07021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resenteren van het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er je onderzoek met behulp van een power point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90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moet je aan denke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opmaak van de presentati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 een achtergrond die past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geen bijzondere lettertypes en kleuren van de tek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afbeeldingen toe die passen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f foutloos Nederlands en let op taalgebru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ke informatie gebruik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namen van je groe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opdrachtg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hoofdvraag en de deel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e informatie die relevant is voor je onderz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nog m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 je teksten toe d.m.v. foto’s en/of grafie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aan waar je nu 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zien wat je vanaf nu van plan bent en belangrijker nog hoe je dit gaat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ervoor dat je de presentatie hebt geoefend met de groep voordat je deze presente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ga je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ower point presentatie van maximaal 8 di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preek de presentatie met de doce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id deze presentatie voor met de gro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ze presentatie in je leer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8:08Z</dcterms:created>
  <dc:creator>Leferink</dc:creator>
  <dc:description/>
  <dc:language>en-US</dc:language>
  <cp:lastModifiedBy>Leferink</cp:lastModifiedBy>
  <dcterms:modified xsi:type="dcterms:W3CDTF">2012-11-08T10:45:28Z</dcterms:modified>
  <cp:revision>2</cp:revision>
  <dc:subject/>
  <dc:title>Het presenteren van het onderzoek</dc:title>
</cp:coreProperties>
</file>