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874-10E5-432A-A90B-B99EB496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AAB-2832-426D-B6A4-58E3B98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301-17B8-43C3-BBA9-AF4DB60B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F8E-886B-4606-9727-DBE6E24F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E2A-CBBA-44E4-894F-BC4FCE3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AAF-9E42-4E5F-B46D-BC668D5D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486-3467-44F1-B45B-A0A46072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64B-2A3B-4629-9127-63E0A5A5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B4B-3F45-4D8C-A956-3058A1BD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681-4BDC-4B56-A4DF-A8413B5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815-3641-4369-A10C-39ACEC0B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780-831A-451C-B352-CD2FB0C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627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D5F3-7908-4429-BE0B-4439341B4B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gif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44" name="Line 8"/>
          <p:cNvSpPr/>
          <p:nvPr/>
        </p:nvSpPr>
        <p:spPr>
          <a:xfrm flipH="1">
            <a:off x="-36720" y="4437000"/>
            <a:ext cx="9180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H="1">
            <a:off x="-36720" y="3716280"/>
            <a:ext cx="918036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0" y="515772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-36360" y="51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6360" y="37162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Op la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506920" y="43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tropisch regenw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90920" y="39988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924360" y="4508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sav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06728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rebuchet MS"/>
              </a:rPr>
              <a:t>ste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3059280" y="3573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995640" y="50785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woest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 flipH="1">
            <a:off x="-36720" y="3357720"/>
            <a:ext cx="918036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2195640" y="32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ubtropische pla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-36360" y="3357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4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68360" y="765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A  Welke plantenzones zijn 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lobcover_MOSAIC_H"/>
          <p:cNvPicPr/>
          <p:nvPr/>
        </p:nvPicPr>
        <p:blipFill>
          <a:blip r:embed="rId1"/>
          <a:stretch/>
        </p:blipFill>
        <p:spPr>
          <a:xfrm>
            <a:off x="-46080" y="1989000"/>
            <a:ext cx="9226440" cy="482472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-36360" y="4437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06864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-34920" y="5734080"/>
            <a:ext cx="9144000" cy="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36360" y="4437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-36360" y="573408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-36360" y="306864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5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468360" y="148428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rebuchet MS"/>
              </a:rPr>
              <a:t>Op hoge breedte liggen vier plantenz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227640" y="22701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Trebuchet MS"/>
              </a:rPr>
              <a:t>toen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987640" y="2133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rebuchet MS"/>
              </a:rPr>
              <a:t>land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722920" y="2637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dcf3d"/>
                </a:solidFill>
                <a:latin typeface="Trebuchet MS"/>
              </a:rPr>
              <a:t>t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4211640" y="2708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rebuchet MS"/>
              </a:rPr>
              <a:t>loofb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0" y="25653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0"/>
          <p:cNvSpPr/>
          <p:nvPr/>
        </p:nvSpPr>
        <p:spPr>
          <a:xfrm flipH="1">
            <a:off x="0" y="6308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-71280" y="256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-36360" y="62499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africa-image"/>
          <p:cNvPicPr/>
          <p:nvPr/>
        </p:nvPicPr>
        <p:blipFill>
          <a:blip r:embed="rId1"/>
          <a:stretch/>
        </p:blipFill>
        <p:spPr>
          <a:xfrm>
            <a:off x="1203480" y="0"/>
            <a:ext cx="6753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>
            <a:off x="1189080" y="3716280"/>
            <a:ext cx="676764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50920" y="3573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1187280" y="126828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1187280" y="6237360"/>
            <a:ext cx="6840720" cy="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76360" y="112536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11280" y="6093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4" descr="africa-image"/>
          <p:cNvPicPr/>
          <p:nvPr/>
        </p:nvPicPr>
        <p:blipFill>
          <a:blip r:embed="rId1"/>
          <a:stretch/>
        </p:blipFill>
        <p:spPr>
          <a:xfrm>
            <a:off x="-36360" y="4678200"/>
            <a:ext cx="9180360" cy="2179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2349360"/>
            <a:ext cx="9144000" cy="2374920"/>
          </a:xfrm>
          <a:prstGeom prst="rect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008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244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3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rebuchet MS"/>
              </a:rPr>
              <a:t>0 </a:t>
            </a:r>
            <a:r>
              <a:rPr b="1" lang="en-US" sz="1200" spc="-1" strike="noStrike">
                <a:solidFill>
                  <a:srgbClr val="ff0000"/>
                </a:solidFill>
                <a:latin typeface="Trebuchet MS"/>
              </a:rPr>
              <a:t>Z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3851280" y="2060640"/>
            <a:ext cx="2305080" cy="576360"/>
          </a:xfrm>
          <a:prstGeom prst="ellipse">
            <a:avLst/>
          </a:prstGeom>
          <a:solidFill>
            <a:srgbClr val="00b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zon007"/>
          <p:cNvPicPr/>
          <p:nvPr/>
        </p:nvPicPr>
        <p:blipFill>
          <a:blip r:embed="rId2"/>
          <a:stretch/>
        </p:blipFill>
        <p:spPr>
          <a:xfrm>
            <a:off x="4356000" y="69228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2"/>
          <p:cNvSpPr/>
          <p:nvPr/>
        </p:nvSpPr>
        <p:spPr>
          <a:xfrm>
            <a:off x="4716360" y="3068640"/>
            <a:ext cx="505080" cy="1297080"/>
          </a:xfrm>
          <a:prstGeom prst="upArrow">
            <a:avLst>
              <a:gd name="adj1" fmla="val 50000"/>
              <a:gd name="adj2" fmla="val 64202"/>
            </a:avLst>
          </a:pr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weer004"/>
          <p:cNvPicPr/>
          <p:nvPr/>
        </p:nvPicPr>
        <p:blipFill>
          <a:blip r:embed="rId3"/>
          <a:stretch/>
        </p:blipFill>
        <p:spPr>
          <a:xfrm>
            <a:off x="4211640" y="2349360"/>
            <a:ext cx="1512720" cy="1160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14"/>
          <p:cNvSpPr/>
          <p:nvPr/>
        </p:nvSpPr>
        <p:spPr>
          <a:xfrm flipH="1" rot="16167000">
            <a:off x="1295280" y="216900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161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 flipH="1" flipV="1" rot="16166400">
            <a:off x="7560000" y="216864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f0000"/>
              </a:gs>
            </a:gsLst>
            <a:lin ang="54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 flipH="1" rot="10733400">
            <a:off x="1617840" y="3789360"/>
            <a:ext cx="1081080" cy="720720"/>
          </a:xfrm>
          <a:custGeom>
            <a:avLst/>
            <a:gdLst>
              <a:gd name="textAreaLeft" fmla="*/ 622080 w 1081080"/>
              <a:gd name="textAreaRight" fmla="*/ 960120 w 108108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 rot="10800000">
            <a:off x="7308360" y="3716280"/>
            <a:ext cx="1008360" cy="720720"/>
          </a:xfrm>
          <a:custGeom>
            <a:avLst/>
            <a:gdLst>
              <a:gd name="textAreaLeft" fmla="*/ 580320 w 1008360"/>
              <a:gd name="textAreaRight" fmla="*/ 895320 w 1008360"/>
              <a:gd name="textAreaTop" fmla="*/ 139320 h 720720"/>
              <a:gd name="textAreaBottom" fmla="*/ 2660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847" y="0"/>
                </a:lnTo>
                <a:lnTo>
                  <a:pt x="13847" y="4179"/>
                </a:lnTo>
                <a:lnTo>
                  <a:pt x="12427" y="4179"/>
                </a:lnTo>
                <a:cubicBezTo>
                  <a:pt x="5564" y="4179"/>
                  <a:pt x="0" y="7751"/>
                  <a:pt x="0" y="12158"/>
                </a:cubicBezTo>
                <a:lnTo>
                  <a:pt x="0" y="21600"/>
                </a:lnTo>
                <a:lnTo>
                  <a:pt x="3884" y="21600"/>
                </a:lnTo>
                <a:lnTo>
                  <a:pt x="3884" y="12158"/>
                </a:lnTo>
                <a:cubicBezTo>
                  <a:pt x="3884" y="9850"/>
                  <a:pt x="7709" y="7979"/>
                  <a:pt x="12427" y="7979"/>
                </a:cubicBezTo>
                <a:lnTo>
                  <a:pt x="13847" y="7979"/>
                </a:lnTo>
                <a:lnTo>
                  <a:pt x="1384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weer004"/>
          <p:cNvPicPr/>
          <p:nvPr/>
        </p:nvPicPr>
        <p:blipFill>
          <a:blip r:embed="rId4"/>
          <a:stretch/>
        </p:blipFill>
        <p:spPr>
          <a:xfrm>
            <a:off x="4932360" y="2565360"/>
            <a:ext cx="151272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weer004"/>
          <p:cNvPicPr/>
          <p:nvPr/>
        </p:nvPicPr>
        <p:blipFill>
          <a:blip r:embed="rId5"/>
          <a:stretch/>
        </p:blipFill>
        <p:spPr>
          <a:xfrm>
            <a:off x="3708360" y="2637000"/>
            <a:ext cx="1513080" cy="1160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"/>
          <p:cNvSpPr/>
          <p:nvPr/>
        </p:nvSpPr>
        <p:spPr>
          <a:xfrm flipH="1" flipV="1" rot="10800000">
            <a:off x="5076720" y="1910160"/>
            <a:ext cx="2232000" cy="576360"/>
          </a:xfrm>
          <a:custGeom>
            <a:avLst/>
            <a:gdLst>
              <a:gd name="textAreaLeft" fmla="*/ 1284120 w 2232000"/>
              <a:gd name="textAreaRight" fmla="*/ 2011320 w 2232000"/>
              <a:gd name="textAreaTop" fmla="*/ 118800 h 576360"/>
              <a:gd name="textAreaBottom" fmla="*/ 205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 flipV="1" rot="10800000">
            <a:off x="2771640" y="1916280"/>
            <a:ext cx="2160720" cy="576000"/>
          </a:xfrm>
          <a:custGeom>
            <a:avLst/>
            <a:gdLst>
              <a:gd name="textAreaLeft" fmla="*/ 1243080 w 2160720"/>
              <a:gd name="textAreaRight" fmla="*/ 1947240 w 2160720"/>
              <a:gd name="textAreaTop" fmla="*/ 118800 h 576000"/>
              <a:gd name="textAreaBottom" fmla="*/ 2052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599" y="0"/>
                </a:lnTo>
                <a:lnTo>
                  <a:pt x="13599" y="4456"/>
                </a:lnTo>
                <a:lnTo>
                  <a:pt x="12427" y="4456"/>
                </a:lnTo>
                <a:cubicBezTo>
                  <a:pt x="5564" y="4456"/>
                  <a:pt x="0" y="7904"/>
                  <a:pt x="0" y="12158"/>
                </a:cubicBezTo>
                <a:lnTo>
                  <a:pt x="0" y="21600"/>
                </a:lnTo>
                <a:lnTo>
                  <a:pt x="3318" y="21600"/>
                </a:lnTo>
                <a:lnTo>
                  <a:pt x="3318" y="12158"/>
                </a:lnTo>
                <a:cubicBezTo>
                  <a:pt x="3318" y="9697"/>
                  <a:pt x="7396" y="7702"/>
                  <a:pt x="12427" y="7702"/>
                </a:cubicBezTo>
                <a:lnTo>
                  <a:pt x="13599" y="7702"/>
                </a:lnTo>
                <a:lnTo>
                  <a:pt x="13599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zon007"/>
          <p:cNvPicPr/>
          <p:nvPr/>
        </p:nvPicPr>
        <p:blipFill>
          <a:blip r:embed="rId6"/>
          <a:stretch/>
        </p:blipFill>
        <p:spPr>
          <a:xfrm>
            <a:off x="7885080" y="2997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3" descr="zon007"/>
          <p:cNvPicPr/>
          <p:nvPr/>
        </p:nvPicPr>
        <p:blipFill>
          <a:blip r:embed="rId7"/>
          <a:stretch/>
        </p:blipFill>
        <p:spPr>
          <a:xfrm>
            <a:off x="1332000" y="306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4"/>
          <p:cNvSpPr/>
          <p:nvPr/>
        </p:nvSpPr>
        <p:spPr>
          <a:xfrm>
            <a:off x="5724360" y="31417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ijgingsre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324000" y="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1.3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  Hoe verschilt de plantenwer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395280" y="404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rebuchet MS"/>
              </a:rPr>
              <a:t>B  Waardoor veraschilt de plantengroei op a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4427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regenw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203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86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ava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94836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19564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step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1187280" y="441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774072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6513"/>
                </a:solidFill>
                <a:latin typeface="Trebuchet MS"/>
              </a:rPr>
              <a:t>woestij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356000" y="558972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Evenaar 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6" descr="savannah"/>
          <p:cNvPicPr/>
          <p:nvPr/>
        </p:nvPicPr>
        <p:blipFill>
          <a:blip r:embed="rId8"/>
          <a:stretch/>
        </p:blipFill>
        <p:spPr>
          <a:xfrm>
            <a:off x="3348000" y="4724280"/>
            <a:ext cx="1109880" cy="865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7" descr="savannah"/>
          <p:cNvPicPr/>
          <p:nvPr/>
        </p:nvPicPr>
        <p:blipFill>
          <a:blip r:embed="rId9"/>
          <a:stretch/>
        </p:blipFill>
        <p:spPr>
          <a:xfrm>
            <a:off x="5508720" y="4724280"/>
            <a:ext cx="1109520" cy="865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9" descr="jungle"/>
          <p:cNvPicPr/>
          <p:nvPr/>
        </p:nvPicPr>
        <p:blipFill>
          <a:blip r:embed="rId10"/>
          <a:stretch/>
        </p:blipFill>
        <p:spPr>
          <a:xfrm>
            <a:off x="4356000" y="4724280"/>
            <a:ext cx="1297080" cy="85428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 flipV="1">
            <a:off x="5003640" y="4752720"/>
            <a:ext cx="0" cy="220500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tj8"/>
          <p:cNvPicPr/>
          <p:nvPr/>
        </p:nvPicPr>
        <p:blipFill>
          <a:blip r:embed="rId11"/>
          <a:stretch/>
        </p:blipFill>
        <p:spPr>
          <a:xfrm>
            <a:off x="4572000" y="4724280"/>
            <a:ext cx="1143000" cy="14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0" descr="nature_795"/>
          <p:cNvPicPr/>
          <p:nvPr/>
        </p:nvPicPr>
        <p:blipFill>
          <a:blip r:embed="rId12"/>
          <a:stretch/>
        </p:blipFill>
        <p:spPr>
          <a:xfrm>
            <a:off x="1116000" y="4724280"/>
            <a:ext cx="1176480" cy="865440"/>
          </a:xfrm>
          <a:prstGeom prst="rect">
            <a:avLst/>
          </a:prstGeom>
          <a:ln w="0">
            <a:noFill/>
          </a:ln>
        </p:spPr>
      </p:pic>
      <p:sp>
        <p:nvSpPr>
          <p:cNvPr id="121" name="Line 9"/>
          <p:cNvSpPr/>
          <p:nvPr/>
        </p:nvSpPr>
        <p:spPr>
          <a:xfrm flipV="1">
            <a:off x="1692360" y="475272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1" descr="nature_795"/>
          <p:cNvPicPr/>
          <p:nvPr/>
        </p:nvPicPr>
        <p:blipFill>
          <a:blip r:embed="rId13"/>
          <a:stretch/>
        </p:blipFill>
        <p:spPr>
          <a:xfrm>
            <a:off x="7643880" y="4724280"/>
            <a:ext cx="1176120" cy="86544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8244000" y="4652640"/>
            <a:ext cx="0" cy="2205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2" descr="steppe"/>
          <p:cNvPicPr/>
          <p:nvPr/>
        </p:nvPicPr>
        <p:blipFill>
          <a:blip r:embed="rId14"/>
          <a:stretch/>
        </p:blipFill>
        <p:spPr>
          <a:xfrm>
            <a:off x="658800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3" descr="steppe"/>
          <p:cNvPicPr/>
          <p:nvPr/>
        </p:nvPicPr>
        <p:blipFill>
          <a:blip r:embed="rId15"/>
          <a:stretch/>
        </p:blipFill>
        <p:spPr>
          <a:xfrm>
            <a:off x="2268360" y="4724280"/>
            <a:ext cx="1079640" cy="865440"/>
          </a:xfrm>
          <a:prstGeom prst="rect">
            <a:avLst/>
          </a:prstGeom>
          <a:ln w="0">
            <a:noFill/>
          </a:ln>
        </p:spPr>
      </p:pic>
      <p:pic>
        <p:nvPicPr>
          <p:cNvPr id="126" name="MSj02567.wav" descr=""/>
          <p:cNvPicPr/>
          <p:nvPr/>
        </p:nvPicPr>
        <p:blipFill>
          <a:blip r:embed="rId16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99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2"/>
          <p:cNvSpPr/>
          <p:nvPr/>
        </p:nvSpPr>
        <p:spPr>
          <a:xfrm>
            <a:off x="3564000" y="342900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9:43:43Z</dcterms:created>
  <dc:creator>Rene Anjewierden</dc:creator>
  <dc:description/>
  <dc:language>en-US</dc:language>
  <cp:lastModifiedBy>Heuvelejvanden</cp:lastModifiedBy>
  <dcterms:modified xsi:type="dcterms:W3CDTF">2012-10-28T17:16:43Z</dcterms:modified>
  <cp:revision>8</cp:revision>
  <dc:subject/>
  <dc:title>Dia 1</dc:title>
</cp:coreProperties>
</file>