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FB68-A51F-482D-9870-5EDE9885E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ACC6-35E3-4A64-9FA7-288CCDAB9F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A23-A2ED-4CE1-B905-629D27B757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437-8D58-4AD2-A069-DEED827297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1C41-C2D4-4AE7-8E95-EBB0010727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588-0478-4821-BAE5-39505A5707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BA7-C2E9-430E-8473-1D6A1481DD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01D7-700A-4259-B820-EE02B39D4F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4941-0804-4A58-9D01-6E8852A346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4677-C52E-4310-9897-C22E63D147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281-3E0D-4343-BC05-344CFBB99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4768-3C9C-4246-BBC0-DF6E631E20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2A58-6CA8-4154-8DE2-42B408213C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C62-327A-475B-9151-13A1FA90B3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411-91CA-407B-AE16-722ECF0D5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AE7B-A234-49D3-AE8C-71CDC15EEB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3200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888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5760" y="3679200"/>
            <a:ext cx="2368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67920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679200"/>
            <a:ext cx="73548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17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4220640"/>
            <a:ext cx="504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Wat kun je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11280" y="321300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UROPEAN COMMISS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ffffff"/>
                </a:solidFill>
                <a:latin typeface="Times New Roman"/>
              </a:rPr>
              <a:t>Klimaatveranderi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2124000" y="1322280"/>
            <a:ext cx="5400720" cy="5235840"/>
            <a:chOff x="2124000" y="1322280"/>
            <a:chExt cx="5400720" cy="5235840"/>
          </a:xfrm>
        </p:grpSpPr>
        <p:pic>
          <p:nvPicPr>
            <p:cNvPr id="105" name="Picture 6" descr="mobility_town-roller-lo"/>
            <p:cNvPicPr/>
            <p:nvPr/>
          </p:nvPicPr>
          <p:blipFill>
            <a:blip r:embed="rId1"/>
            <a:stretch/>
          </p:blipFill>
          <p:spPr>
            <a:xfrm>
              <a:off x="5724360" y="3429000"/>
              <a:ext cx="1770120" cy="28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sx_NL_88493_3182-lo"/>
            <p:cNvPicPr/>
            <p:nvPr/>
          </p:nvPicPr>
          <p:blipFill>
            <a:blip r:embed="rId2"/>
            <a:stretch/>
          </p:blipFill>
          <p:spPr>
            <a:xfrm>
              <a:off x="5003640" y="1322280"/>
              <a:ext cx="2521080" cy="18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alstom_metro_L14_paris-lo"/>
            <p:cNvPicPr/>
            <p:nvPr/>
          </p:nvPicPr>
          <p:blipFill>
            <a:blip r:embed="rId3"/>
            <a:stretch/>
          </p:blipFill>
          <p:spPr>
            <a:xfrm>
              <a:off x="2124000" y="4221000"/>
              <a:ext cx="3351240" cy="23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UK-0091-lo"/>
            <p:cNvPicPr/>
            <p:nvPr/>
          </p:nvPicPr>
          <p:blipFill>
            <a:blip r:embed="rId4"/>
            <a:stretch/>
          </p:blipFill>
          <p:spPr>
            <a:xfrm>
              <a:off x="2124000" y="1341360"/>
              <a:ext cx="196704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lligent vervo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32000" y="1555920"/>
            <a:ext cx="7354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auto staan voor korte afstan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 lopen of neem de fiets of het openbaar vervo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met anderen mee of laat anderen met jou meerij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ijd efficië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eperk uw koolstofvoetafdru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ins-lo"/>
          <p:cNvPicPr/>
          <p:nvPr/>
        </p:nvPicPr>
        <p:blipFill>
          <a:blip r:embed="rId1"/>
          <a:stretch/>
        </p:blipFill>
        <p:spPr>
          <a:xfrm>
            <a:off x="1530360" y="1863720"/>
            <a:ext cx="60832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rgebruiken en recyc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ergebruik tassen en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ecycle glas, metaal en plast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producten met zo weinig mogelijk verpakkingsmateria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p zoveel mogelijk vullingen voor navulpakken in plaats van nieuwe produc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ecycling en hergebruik besparen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an je nog meer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142640"/>
            <a:ext cx="7355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oek naar de Europese milieukeur wanneer je huishoudtoestellen koop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voor houten producten die afkomstig zijn van duurzame bosbou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lokaal geproduceerde voedingsmiddelen die in het geschikte seizoen zijn gekweek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et meer groenten. Het kweken van dieren vergt meer energ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nt een b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int  documenten dubbelzijdig af ... wanneer je z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ch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op papier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ing op deze dingen aan bij familie en vriende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kunt u eraan do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www.climatechange.eu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at is klimaatverander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2347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assen in de atmosfeer van de aarde houden warmte v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uitstoot neemt toe als gevolg van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 toenemende concentratie van gassen leidt tot een opwarming op lange termijn =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roeikasgassen worden van nature uit in de atmosfeer uitgesto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AR de emissies nemen toe door de activiteiten van de m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dragsveranderingen kunnen de emissies vermind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ctief reageren op klimaatverandering bespaard g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at vrag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32000" y="148392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missies, wat is dat eigenlijk?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elk gedrag zou je kunnen veranderen waardoor de emissies verminder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edereen kan bijdragen aan de strijd tegen klimaatverandering.  En jij? Geef eens een voorbeel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5" descr="iStock_000002325215-lo"/>
          <p:cNvPicPr/>
          <p:nvPr/>
        </p:nvPicPr>
        <p:blipFill>
          <a:blip r:embed="rId1"/>
          <a:stretch/>
        </p:blipFill>
        <p:spPr>
          <a:xfrm>
            <a:off x="2411280" y="1989000"/>
            <a:ext cx="3807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Zet apparatuur op een lagere st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2000" y="213156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temperatuur van uw verwarming één of twee graden lager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ebruik een timer zodat de verwarming enkel aanslaat wanneer dat nodig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el de koelkast niet op de koudste stand 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oop energiezuinige produc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Wanneer u apparatuur en andere uitrusting moet vervange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loeilam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elkast, vriesk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ntrale ver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amen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ies dan voor energie-efficiënte modelle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chakel apparatuur 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2060280"/>
            <a:ext cx="7354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oe het licht uit wanneer je geen extra verlichting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toestellen niet in stand-by 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aai de kraan dicht wanneer je je tanden poet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spil  ni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treef efficiënti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2000" y="1371600"/>
            <a:ext cx="7354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Zet wasmachines en vaatwassers pas aan wanneer ze volledig gevuld zij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em een douche in plaats van een b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Kook enkel het water dat je nodig heb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de deur van de koelkast niet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aat ramen in de winter niet te lang opensta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laats isolat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erbruik minder energi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36:24Z</dcterms:created>
  <dc:creator>Admin</dc:creator>
  <dc:description/>
  <dc:language>en-US</dc:language>
  <cp:lastModifiedBy>Heuvelejvanden</cp:lastModifiedBy>
  <dcterms:modified xsi:type="dcterms:W3CDTF">2012-10-25T13:02:16Z</dcterms:modified>
  <cp:revision>17</cp:revision>
  <dc:subject/>
  <dc:title>Slide 1</dc:title>
</cp:coreProperties>
</file>