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0BE95-F873-46C9-A24C-36B929667C4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3A439-4722-4532-9424-A25A00C4C54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42B21-8517-4A05-B36D-96F17D521DF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FDCE5-25D5-4ACF-A420-F3811FC37F7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0955A-3816-421F-93EE-1F0A8CA83E9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85B1B-4558-475A-92F9-B1DA0BCEF60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51F50-13B1-4153-8D1E-E9585D575B1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D22B1-ED9E-4BFB-AB58-19D96478831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5A4F4-5631-49CF-9027-F218704DF6F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05184-B1CD-43A4-A4B3-4CB7EA9BA61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668EB-D26E-473E-A859-CAD868BF3BB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D8089-9F50-4CC0-A0A6-732BEADE253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33F0E-35A9-49C2-A665-17AC0EAFD17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9264F-F7BA-48FB-998A-330A7DC32AC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2C322-70CF-42BE-8277-8DBD5C8139C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F5882-66BD-4B5E-8937-9F3E3540715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4A45C-4D58-449A-A104-2B75DB27679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2FD59-B006-4DA6-AD38-31A35F1FF5F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7354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332000" y="3679200"/>
            <a:ext cx="7354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35888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00840" y="1196640"/>
            <a:ext cx="35888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332000" y="3679200"/>
            <a:ext cx="35888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100840" y="3679200"/>
            <a:ext cx="35888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23680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818880" y="1196640"/>
            <a:ext cx="23680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305760" y="1196640"/>
            <a:ext cx="23680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1332000" y="3679200"/>
            <a:ext cx="23680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818880" y="3679200"/>
            <a:ext cx="23680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305760" y="3679200"/>
            <a:ext cx="23680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32000" y="1196640"/>
            <a:ext cx="735480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73548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358884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00840" y="1196640"/>
            <a:ext cx="358884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2124000" y="274320"/>
            <a:ext cx="6562800" cy="36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35888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00840" y="1196640"/>
            <a:ext cx="358884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1332000" y="3679200"/>
            <a:ext cx="35888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1332000" y="1196640"/>
            <a:ext cx="735480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358884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196640"/>
            <a:ext cx="35888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100840" y="3679200"/>
            <a:ext cx="35888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35888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196640"/>
            <a:ext cx="35888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332000" y="3679200"/>
            <a:ext cx="7354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7354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1332000" y="3679200"/>
            <a:ext cx="7354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35888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00840" y="1196640"/>
            <a:ext cx="35888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332000" y="3679200"/>
            <a:ext cx="35888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5100840" y="3679200"/>
            <a:ext cx="35888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23680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818880" y="1196640"/>
            <a:ext cx="23680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305760" y="1196640"/>
            <a:ext cx="23680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1332000" y="3679200"/>
            <a:ext cx="23680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818880" y="3679200"/>
            <a:ext cx="23680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305760" y="3679200"/>
            <a:ext cx="23680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73548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358884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100840" y="1196640"/>
            <a:ext cx="358884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2124000" y="274320"/>
            <a:ext cx="6562800" cy="36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35888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00840" y="1196640"/>
            <a:ext cx="358884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1332000" y="3679200"/>
            <a:ext cx="35888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358884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00840" y="1196640"/>
            <a:ext cx="35888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00840" y="3679200"/>
            <a:ext cx="35888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35888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00840" y="1196640"/>
            <a:ext cx="35888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32000" y="3679200"/>
            <a:ext cx="7354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196640"/>
            <a:ext cx="73548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51756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1332000" y="1196640"/>
            <a:ext cx="73548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610920" y="4076280"/>
            <a:ext cx="504036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ffffff"/>
                </a:solidFill>
                <a:latin typeface="Arial"/>
              </a:rPr>
              <a:t>Het wetenschappelijk bewijs is onmiskenba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Rectangle 7"/>
          <p:cNvSpPr/>
          <p:nvPr/>
        </p:nvSpPr>
        <p:spPr>
          <a:xfrm>
            <a:off x="611280" y="3213000"/>
            <a:ext cx="4103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EUROPEAN COMMISSIO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610920" y="1267920"/>
            <a:ext cx="4537080" cy="183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900" spc="-1" strike="noStrike">
                <a:solidFill>
                  <a:srgbClr val="ffffff"/>
                </a:solidFill>
                <a:latin typeface="Times New Roman"/>
              </a:rPr>
              <a:t>Klimaatverandering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Broeikasgass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1332000" y="1335240"/>
          <a:ext cx="7354800" cy="4545000"/>
        </p:xfrm>
        <a:graphic>
          <a:graphicData uri="http://schemas.openxmlformats.org/drawingml/2006/table">
            <a:tbl>
              <a:tblPr/>
              <a:tblGrid>
                <a:gridCol w="3678120"/>
                <a:gridCol w="3676680"/>
              </a:tblGrid>
              <a:tr h="131148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ooldioxide (CO</a:t>
                      </a:r>
                      <a:r>
                        <a:rPr b="0" lang="fr-FR" sz="20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verbranding van steenkool, aardolie en aardgas voor energie, vervoer en verwarm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tikstofoxide (N</a:t>
                      </a:r>
                      <a:r>
                        <a:rPr b="0" lang="fr-FR" sz="20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stortplaatsen, landbouw en ve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904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haan (CH</a:t>
                      </a:r>
                      <a:r>
                        <a:rPr b="0" lang="fr-FR" sz="20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760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luorkoolwaterstoffen (HFK'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fluorkoolwaterstoffen (PFK'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gebruikt in koelkasten, airconditioners en zelfs schoen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868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wavelhexafluoride (SF</a:t>
                      </a:r>
                      <a:r>
                        <a:rPr b="0" lang="fr-FR" sz="20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Waar is het bewij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74880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6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De grootste wetenschappelijke autoriteit op het gebied van klimaatverandering is het Intergovernmental Panel on Climate Change (IPCC) van de Verenigde Naties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54920" indent="-262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26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Coördineert de bevindingen van 2 500 deskundigen van over heel de were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54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6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54920" indent="-262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26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4e evaluatierapport gepubliceerd in november 200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54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6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54920" indent="-262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26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Evaluatierapport vertegenwoordigt 6 jaar van onderzoek en analy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54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6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54920" indent="-262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26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Een voorzichtige en streng wetenschappelijke benadering van de conclusievorm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54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6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54920" indent="-262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26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Winnaar van de Nobelprijs voor de vrede in 200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Vaststellingen van het 4e evaluatierap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32000" y="1555920"/>
            <a:ext cx="73548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Onomstotelijk bewijs dat de opwarming van de aarde het gevolg is van de menselijke activiteit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Indien de gemiddelde temperatuur met meer dan 2 °C stijgt, kunnen de gevolgen onverhoeds toeslaan en onomkeerbaar zij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Er is nog voldoende tijd om de klimaatverandering af te remmen en ons aan de gevolgen ervan aan te pass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Er bestaan al heel wat nuttige technologieën, die economisch ook verantwoord zij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maar er moet nu meteen actie worden ondernomen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Wat doen de regeringen eraa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32000" y="1339560"/>
            <a:ext cx="73548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Regeringen werken samen in het kader van het Raamverdrag van de Verenigde Naties inzake klimaatverandering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In de huidige overeenkomst, het Protocol van Kyoto, zijn bindende emissiedoelstellingen vastgesteld voor de industrieland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Er worden momenteel onderhandelingen gevoerd over een vervolg, waarover in december 2009 in Kopenhagen een akkoord moet worden bereik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De Europese Unie neemt het voortouw in de strijd tegen klimaatverande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332000" y="1916280"/>
            <a:ext cx="73548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De EU-lidstaten hebben zichzelf voor 2020 tot doel gesteld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2080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de uitstoot met 20 % te verminderen (met 30 % in geval van een mondiaal akkoord);</a:t>
            </a:r>
            <a:br>
              <a:rPr sz="2000"/>
            </a:b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2080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de energie-efficiëntie met 20 % op te drijven;</a:t>
            </a:r>
            <a:br>
              <a:rPr sz="2000"/>
            </a:b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2080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20 % van de opgewekte energie uit hernieuwbare energiebronnen te hal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De EU dringt aan op een nieuwe, ambitieuze, wereldwijde overeenkomst om de uitstoot te beperk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Wat kunt u eraan doe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94920" y="1905120"/>
            <a:ext cx="735516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Eenvoudige handelingen in het dagelijkse leven spelen een belangrijke rol in de strijd tegen klimaatverandering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Met andere woorden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2080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recycle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20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2080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spring zuinig om met warm water door een douche te nemen in plaats van een bad (vier keer minder energie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20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2080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plant een boom op school, in uw tuin of in uw wijk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" name="Group 4"/>
          <p:cNvGrpSpPr/>
          <p:nvPr/>
        </p:nvGrpSpPr>
        <p:grpSpPr>
          <a:xfrm>
            <a:off x="1187280" y="260280"/>
            <a:ext cx="7823520" cy="6124680"/>
            <a:chOff x="1187280" y="260280"/>
            <a:chExt cx="7823520" cy="6124680"/>
          </a:xfrm>
        </p:grpSpPr>
        <p:pic>
          <p:nvPicPr>
            <p:cNvPr id="122" name="Picture 5" descr="Prospects PIC00126-lo"/>
            <p:cNvPicPr/>
            <p:nvPr/>
          </p:nvPicPr>
          <p:blipFill>
            <a:blip r:embed="rId1"/>
            <a:stretch/>
          </p:blipFill>
          <p:spPr>
            <a:xfrm>
              <a:off x="1187280" y="2406600"/>
              <a:ext cx="3121200" cy="390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" name="Picture 6" descr="Lightbulb_iStock_000001548394-lo"/>
            <p:cNvPicPr/>
            <p:nvPr/>
          </p:nvPicPr>
          <p:blipFill>
            <a:blip r:embed="rId2"/>
            <a:stretch/>
          </p:blipFill>
          <p:spPr>
            <a:xfrm>
              <a:off x="4427640" y="260280"/>
              <a:ext cx="4583160" cy="3048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" name="Picture 7" descr=""/>
            <p:cNvPicPr/>
            <p:nvPr/>
          </p:nvPicPr>
          <p:blipFill>
            <a:blip r:embed="rId3"/>
            <a:stretch/>
          </p:blipFill>
          <p:spPr>
            <a:xfrm>
              <a:off x="5076720" y="3645000"/>
              <a:ext cx="2833920" cy="273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Wat kunt u eraan doe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332000" y="2276640"/>
            <a:ext cx="73548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Neem het openbaar vervoer of de fiets of ga gewoon te voe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Laat elektrische toestellen niet in stand-by staan. Gebruik de aan/uit-functi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Laat de lader van uw mobiele telefoon niet in het stopcontact zitten wanneer u uw telefoon niet oplaad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1332000" y="836280"/>
            <a:ext cx="7354800" cy="28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Arial"/>
              </a:rPr>
              <a:t>www.climatechange.eu.co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73548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Klimaat” verwijst naar de atmosferische toestand over een langere tijd, terwijl het “weer” voortdurend varieer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Veranderingen in het klimaat zijn een natuurlijk fenomeen: zo lag de gemiddelde temperatuur na de laatste ijstijd (11 500 jaar geleden) wereldwijd 5 °C lager dan nu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MAAR: we stellen nu vast dat de temperatuur in een nooit eerder gezien tempo stij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Wetenschappers zijn van mening dat de activiteiten van de mens hiervoor verantwoordelijk zij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Feiten over klimaatverande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73548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De temperatuur is in Europa met bijna 1 °C gestegen sinds 1850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Een bijkomende stijging van 1,2 °C zou onomkeerbare, massale en mogelijk catastrofale milieuschade kunnen veroorzak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" name="Picture 4" descr="therm-sxc-499008_65787286-lo"/>
          <p:cNvPicPr/>
          <p:nvPr/>
        </p:nvPicPr>
        <p:blipFill>
          <a:blip r:embed="rId1"/>
          <a:stretch/>
        </p:blipFill>
        <p:spPr>
          <a:xfrm>
            <a:off x="3657600" y="2054160"/>
            <a:ext cx="1828800" cy="27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Feiten over klimaatverande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73548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Extreme weersomstandigheden – stormen, overstromingen, droogtes en hittegolven – komen steeds vaker voor en worden alsmaar hevig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90 % van de natuurrampen in Europa sinds 1980 waren het gevolg van het weer en het klimaa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Picture 4" descr="floods_31256-lo"/>
          <p:cNvPicPr/>
          <p:nvPr/>
        </p:nvPicPr>
        <p:blipFill>
          <a:blip r:embed="rId1"/>
          <a:stretch/>
        </p:blipFill>
        <p:spPr>
          <a:xfrm>
            <a:off x="3641760" y="3417840"/>
            <a:ext cx="185904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Feiten over klimaatverande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73548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De Europese gletsjers hebben sinds 1850 twee derden van hun omvang verloren en het afsmeltingstempo gaat in stijgende lij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De poolkappen smelten en de zeespiegel stijgt dubbel zo snel als 50 jaar geled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Miljoenen mensen over de hele wereld worden bedreigd door waterschaarste, hongersnood en armoed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" name="Group 4"/>
          <p:cNvGrpSpPr/>
          <p:nvPr/>
        </p:nvGrpSpPr>
        <p:grpSpPr>
          <a:xfrm>
            <a:off x="1766880" y="650880"/>
            <a:ext cx="6550200" cy="5514840"/>
            <a:chOff x="1766880" y="650880"/>
            <a:chExt cx="6550200" cy="5514840"/>
          </a:xfrm>
        </p:grpSpPr>
        <p:pic>
          <p:nvPicPr>
            <p:cNvPr id="98" name="Picture 5" descr="climate change_36121-lo"/>
            <p:cNvPicPr/>
            <p:nvPr/>
          </p:nvPicPr>
          <p:blipFill>
            <a:blip r:embed="rId1"/>
            <a:stretch/>
          </p:blipFill>
          <p:spPr>
            <a:xfrm>
              <a:off x="4500720" y="650880"/>
              <a:ext cx="3816360" cy="2994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Picture 6" descr="Fotolia_4301873_XL-lo"/>
            <p:cNvPicPr/>
            <p:nvPr/>
          </p:nvPicPr>
          <p:blipFill>
            <a:blip r:embed="rId2"/>
            <a:stretch/>
          </p:blipFill>
          <p:spPr>
            <a:xfrm>
              <a:off x="1766880" y="2492280"/>
              <a:ext cx="2448000" cy="36734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Group 4"/>
          <p:cNvGrpSpPr/>
          <p:nvPr/>
        </p:nvGrpSpPr>
        <p:grpSpPr>
          <a:xfrm>
            <a:off x="395280" y="404640"/>
            <a:ext cx="8666280" cy="5628960"/>
            <a:chOff x="395280" y="404640"/>
            <a:chExt cx="8666280" cy="5628960"/>
          </a:xfrm>
        </p:grpSpPr>
        <p:pic>
          <p:nvPicPr>
            <p:cNvPr id="101" name="Picture 5" descr="satellite-observations-in-arctic-sea-ice-1979-and-2003"/>
            <p:cNvPicPr/>
            <p:nvPr/>
          </p:nvPicPr>
          <p:blipFill>
            <a:blip r:embed="rId1"/>
            <a:stretch/>
          </p:blipFill>
          <p:spPr>
            <a:xfrm>
              <a:off x="5057640" y="404640"/>
              <a:ext cx="3762360" cy="51433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2" name="Group 6"/>
            <p:cNvGrpSpPr/>
            <p:nvPr/>
          </p:nvGrpSpPr>
          <p:grpSpPr>
            <a:xfrm>
              <a:off x="395280" y="3486600"/>
              <a:ext cx="8666280" cy="2547000"/>
              <a:chOff x="395280" y="3486600"/>
              <a:chExt cx="8666280" cy="2547000"/>
            </a:xfrm>
          </p:grpSpPr>
          <p:sp>
            <p:nvSpPr>
              <p:cNvPr id="103" name="Rectangle 7"/>
              <p:cNvSpPr/>
              <p:nvPr/>
            </p:nvSpPr>
            <p:spPr>
              <a:xfrm>
                <a:off x="395280" y="5726520"/>
                <a:ext cx="8424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spAutoFit/>
              </a:bodyPr>
              <a:p>
                <a:pPr algn="ctr"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400" spc="-1" strike="noStrike">
                    <a:solidFill>
                      <a:srgbClr val="ffffff"/>
                    </a:solidFill>
                    <a:latin typeface="Arial"/>
                  </a:rPr>
                  <a:t>Source: http://maps.grida.no/go/graphic/satellite-observations-in-arctic-sea-ice-1979-and-2003</a:t>
                </a:r>
                <a:r>
                  <a:rPr b="0" lang="fr-FR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Rectangle 8"/>
              <p:cNvSpPr/>
              <p:nvPr/>
            </p:nvSpPr>
            <p:spPr>
              <a:xfrm rot="16200000">
                <a:off x="7915320" y="4401720"/>
                <a:ext cx="206136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b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fr-FR" sz="900" spc="-1" strike="noStrike">
                    <a:solidFill>
                      <a:srgbClr val="ffffff"/>
                    </a:solidFill>
                    <a:latin typeface="Arial"/>
                  </a:rPr>
                  <a:t>Hugo Ahlenius, UNEP/GRID-Arendal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Wat veroorzaakt klimaatverandering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73548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De mens pompt steeds meer “broeikasgassen” in de atmosfe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De atmosfeer werkt zoals de glazen wanden van een ka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Natuurlijke broeikasgassen helpen de warmte vasthouden; zonder deze gassen zou de temperatuur 30 °C lager zij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Maar doordat de broeikasgasemissies als gevolg van de menselijke activiteit sinds 1970 met 70 % zijn toegenomen, wordt meer warmte vastgehoud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Picture 6" descr="greenhouse_effects_nl"/>
          <p:cNvPicPr/>
          <p:nvPr/>
        </p:nvPicPr>
        <p:blipFill>
          <a:blip r:embed="rId1"/>
          <a:stretch/>
        </p:blipFill>
        <p:spPr>
          <a:xfrm>
            <a:off x="2050920" y="0"/>
            <a:ext cx="4996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3T09:36:24Z</dcterms:created>
  <dc:creator>Admin</dc:creator>
  <dc:description/>
  <dc:language>en-US</dc:language>
  <cp:lastModifiedBy>Heuvelejvanden</cp:lastModifiedBy>
  <dcterms:modified xsi:type="dcterms:W3CDTF">2012-10-25T13:04:34Z</dcterms:modified>
  <cp:revision>17</cp:revision>
  <dc:subject/>
  <dc:title>Slide 1</dc:title>
</cp:coreProperties>
</file>