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9DD7-7E7B-42CA-929E-A54703C558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6509-93EF-4EE9-AD37-DE1B6FFA40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E553-3314-4B43-946D-445E39F72A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45FF-AE25-4F39-B547-B265369CEE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964B-59AD-41B5-8ECE-F7AFCEE4AD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8F1F-BFB3-46FB-92F7-3E0B618062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819B-DF83-45F7-87BE-4EA513397C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D8AA-0CFD-4E44-BC60-F5DC4411997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804C-F39E-40B4-965F-7DC544AEB2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365B-4E91-4548-A3E9-66FDBC3314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F2EF-7020-4918-BF4B-5A390B33A3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2C59-69B4-4D86-B285-125B6AF887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CC4C-DE68-4B43-A777-206F9FF54E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89C4-CC3F-43BC-B88F-17B8A9065D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85FE-AD27-4D8C-A8FD-0A7710AF25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A081-043D-40D9-B0F9-C2918EF20A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17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539280" y="422064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Wat kun je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11280" y="3213000"/>
            <a:ext cx="410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EUROPEAN COMMISS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ffffff"/>
                </a:solidFill>
                <a:latin typeface="Times New Roman"/>
              </a:rPr>
              <a:t>Klimaatverander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elligent vervo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5"/>
          <p:cNvGrpSpPr/>
          <p:nvPr/>
        </p:nvGrpSpPr>
        <p:grpSpPr>
          <a:xfrm>
            <a:off x="2124000" y="1322280"/>
            <a:ext cx="5400720" cy="5235840"/>
            <a:chOff x="2124000" y="1322280"/>
            <a:chExt cx="5400720" cy="5235840"/>
          </a:xfrm>
        </p:grpSpPr>
        <p:pic>
          <p:nvPicPr>
            <p:cNvPr id="105" name="Picture 6" descr="mobility_town-roller-lo"/>
            <p:cNvPicPr/>
            <p:nvPr/>
          </p:nvPicPr>
          <p:blipFill>
            <a:blip r:embed="rId1"/>
            <a:stretch/>
          </p:blipFill>
          <p:spPr>
            <a:xfrm>
              <a:off x="5724360" y="3429000"/>
              <a:ext cx="1770120" cy="283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7" descr="sx_NL_88493_3182-lo"/>
            <p:cNvPicPr/>
            <p:nvPr/>
          </p:nvPicPr>
          <p:blipFill>
            <a:blip r:embed="rId2"/>
            <a:stretch/>
          </p:blipFill>
          <p:spPr>
            <a:xfrm>
              <a:off x="5003640" y="1322280"/>
              <a:ext cx="2521080" cy="18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8" descr="alstom_metro_L14_paris-lo"/>
            <p:cNvPicPr/>
            <p:nvPr/>
          </p:nvPicPr>
          <p:blipFill>
            <a:blip r:embed="rId3"/>
            <a:stretch/>
          </p:blipFill>
          <p:spPr>
            <a:xfrm>
              <a:off x="2124000" y="4221000"/>
              <a:ext cx="3351240" cy="233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9" descr="UK-0091-lo"/>
            <p:cNvPicPr/>
            <p:nvPr/>
          </p:nvPicPr>
          <p:blipFill>
            <a:blip r:embed="rId4"/>
            <a:stretch/>
          </p:blipFill>
          <p:spPr>
            <a:xfrm>
              <a:off x="2124000" y="1341360"/>
              <a:ext cx="1967040" cy="257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elligent vervo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32000" y="155592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de auto staan voor korte afstan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a lopen of neem de fiets of het openbaar vervo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ijd met anderen mee of laat anderen met jou meerij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ijd efficië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Beperk uw koolstofvoetafdruk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Hergebruiken en recyc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bins-lo"/>
          <p:cNvPicPr/>
          <p:nvPr/>
        </p:nvPicPr>
        <p:blipFill>
          <a:blip r:embed="rId1"/>
          <a:stretch/>
        </p:blipFill>
        <p:spPr>
          <a:xfrm>
            <a:off x="1530360" y="1863720"/>
            <a:ext cx="60832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Hergebruiken en recyc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ergebruik tassen en verpakkingsmateria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cycle glas, metaal en plast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bruik producten met zo weinig mogelijk verpakkingsmateria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oop zoveel mogelijk vullingen voor navulpakken in plaats van nieuwe produc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Recycling en hergebruik besparen energi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an je nog meer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142640"/>
            <a:ext cx="7355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Zoek naar de Europese milieukeur wanneer je huishoudtoestellen koop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ies voor houten producten die afkomstig zijn van duurzame bosbou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t lokaal geproduceerde voedingsmiddelen die in het geschikte seizoen zijn gekweek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t meer groenten. Het kweken van dieren vergt meer energ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ant een b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int  documenten dubbelzijdig af ... wanneer je ze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ech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op papier nodig h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ing op deze dingen aan bij familie en vriend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unt u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www.climatechange.eu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is klimaatverander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32000" y="234756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assen in de atmosfeer van de aarde houden warmte va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uitstoot neemt toe als gevolg van de activiteiten van de m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toenemende concentratie van gassen leidt tot een opwarming op lange termijn =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32000" y="148392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roeikasgassen worden van nature uit in de atmosfeer uitgesto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AR de emissies nemen toe door de activiteiten van de m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dragsveranderingen kunnen de emissies verminde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edereen kan bijdragen aan de strijd tegen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ctief reageren op klimaatverandering bespaard g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at vrag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32000" y="148392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missies, wat is dat eigenlijk?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elk gedrag zou je kunnen veranderen waardoor de emissies verminder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edereen kan bijdragen aan de strijd tegen klimaatverandering.  En jij? Geef eens een voorbeel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Zet apparatuur op een lagere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5" descr="iStock_000002325215-lo"/>
          <p:cNvPicPr/>
          <p:nvPr/>
        </p:nvPicPr>
        <p:blipFill>
          <a:blip r:embed="rId1"/>
          <a:stretch/>
        </p:blipFill>
        <p:spPr>
          <a:xfrm>
            <a:off x="2411280" y="1989000"/>
            <a:ext cx="3807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Zet apparatuur op een lagere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2000" y="213156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el de temperatuur van uw verwarming één of twee graden lager 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bruik een timer zodat de verwarming enkel aanslaat wanneer dat nodig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el de koelkast niet op de koudste stand 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Koop energiezuinige produc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76360" y="184428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anneer u apparatuur en andere uitrusting moet vervange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loeilam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oelkast, vriesk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entrale verwa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amen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ies dan voor energie-efficiënte modelle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chakel apparatuur 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oe het licht uit wanneer je geen extra verlichting nodig h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toestellen niet in stand-by sta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aai de kraan dicht wanneer je je tanden poet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erspil  nie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treef efficiënti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32000" y="1371600"/>
            <a:ext cx="7354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Zet wasmachines en vaatwassers pas aan wanneer ze volledig gevuld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eem een douche in plaats van een b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ook enkel het water dat je nodig h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de deur van de koelkast niet opensta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ramen in de winter niet te lang opensta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aats isolat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erbruik minder energi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9:36:24Z</dcterms:created>
  <dc:creator>Admin</dc:creator>
  <dc:description/>
  <dc:language>en-US</dc:language>
  <cp:lastModifiedBy>Heuvelejvanden</cp:lastModifiedBy>
  <dcterms:modified xsi:type="dcterms:W3CDTF">2012-10-25T13:02:16Z</dcterms:modified>
  <cp:revision>17</cp:revision>
  <dc:subject/>
  <dc:title>Slide 1</dc:title>
</cp:coreProperties>
</file>