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media/image11.png" ContentType="image/png"/>
  <Override PartName="/ppt/media/image8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F044-5B7B-4394-993A-A9A32964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041F-2A61-4C39-96CE-2C8F3DA2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C82-45F7-4106-B950-649B2012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603A-FA1B-413F-BF64-695571AD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03D-9C10-415D-8F68-C7476147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139-C4E9-48F4-9976-6F9AF961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59B5-B1A5-4310-B8B5-6452463B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714-8A3D-49FF-B0D5-B82D9384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2188-6A98-4C65-9ECF-3A9A051F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437-C3D0-4158-9BA9-985EA301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A2E-91E0-415C-8D7E-77B55600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F49-AC74-4F55-9D69-9525AD80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627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4ACE-68E1-49EE-BEBC-E47597DABF7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gif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76500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A  Welke plantenzones zijn 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globcover_MOSAIC_H"/>
          <p:cNvPicPr/>
          <p:nvPr/>
        </p:nvPicPr>
        <p:blipFill>
          <a:blip r:embed="rId1"/>
          <a:stretch/>
        </p:blipFill>
        <p:spPr>
          <a:xfrm>
            <a:off x="-46080" y="1989000"/>
            <a:ext cx="9226440" cy="4824720"/>
          </a:xfrm>
          <a:prstGeom prst="rect">
            <a:avLst/>
          </a:prstGeom>
          <a:ln w="0">
            <a:noFill/>
          </a:ln>
        </p:spPr>
      </p:pic>
      <p:sp>
        <p:nvSpPr>
          <p:cNvPr id="44" name="Line 8"/>
          <p:cNvSpPr/>
          <p:nvPr/>
        </p:nvSpPr>
        <p:spPr>
          <a:xfrm flipH="1">
            <a:off x="-36720" y="4437000"/>
            <a:ext cx="918036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H="1">
            <a:off x="-36720" y="3716280"/>
            <a:ext cx="918036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H="1">
            <a:off x="0" y="5157720"/>
            <a:ext cx="914400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-36360" y="4437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-36360" y="5157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-36360" y="371628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68360" y="1484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rebuchet MS"/>
              </a:rPr>
              <a:t>Op lage breedte liggen vier plantenz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506920" y="43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tropisch regenw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490920" y="39988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sava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924360" y="45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sava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067280" y="47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rebuchet MS"/>
              </a:rPr>
              <a:t>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3276720" y="3789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rebuchet MS"/>
              </a:rPr>
              <a:t>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3059280" y="3573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woest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3995640" y="50785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woest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2"/>
          <p:cNvSpPr/>
          <p:nvPr/>
        </p:nvSpPr>
        <p:spPr>
          <a:xfrm flipH="1">
            <a:off x="-36720" y="3357720"/>
            <a:ext cx="91803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2195640" y="3284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subtropische pla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-36360" y="3357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4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95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rebuchet MS"/>
              </a:rPr>
              <a:t>1.3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  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68360" y="76500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A  Welke plantenzones zijn 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globcover_MOSAIC_H"/>
          <p:cNvPicPr/>
          <p:nvPr/>
        </p:nvPicPr>
        <p:blipFill>
          <a:blip r:embed="rId1"/>
          <a:stretch/>
        </p:blipFill>
        <p:spPr>
          <a:xfrm>
            <a:off x="-46080" y="1989000"/>
            <a:ext cx="9226440" cy="4824720"/>
          </a:xfrm>
          <a:prstGeom prst="rect">
            <a:avLst/>
          </a:prstGeom>
          <a:ln w="0">
            <a:noFill/>
          </a:ln>
        </p:spPr>
      </p:pic>
      <p:sp>
        <p:nvSpPr>
          <p:cNvPr id="64" name="Line 5"/>
          <p:cNvSpPr/>
          <p:nvPr/>
        </p:nvSpPr>
        <p:spPr>
          <a:xfrm flipH="1">
            <a:off x="-36360" y="4437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H="1">
            <a:off x="0" y="3068640"/>
            <a:ext cx="9144000" cy="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 flipH="1">
            <a:off x="-34920" y="5734080"/>
            <a:ext cx="9144000" cy="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-36360" y="4437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-36360" y="573408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5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-36360" y="306864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5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468360" y="1484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Trebuchet MS"/>
              </a:rPr>
              <a:t>Op hoge breedte liggen vier plantenz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6227640" y="22701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rebuchet MS"/>
              </a:rPr>
              <a:t>toen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2987640" y="2133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rebuchet MS"/>
              </a:rPr>
              <a:t>landi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5722920" y="2637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dcf3d"/>
                </a:solidFill>
                <a:latin typeface="Trebuchet MS"/>
              </a:rPr>
              <a:t>ta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4211640" y="2708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loofb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>
            <a:off x="0" y="256536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-71280" y="2565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-36360" y="62499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africa-image"/>
          <p:cNvPicPr/>
          <p:nvPr/>
        </p:nvPicPr>
        <p:blipFill>
          <a:blip r:embed="rId1"/>
          <a:stretch/>
        </p:blipFill>
        <p:spPr>
          <a:xfrm>
            <a:off x="1203480" y="0"/>
            <a:ext cx="67532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Line 6"/>
          <p:cNvSpPr/>
          <p:nvPr/>
        </p:nvSpPr>
        <p:spPr>
          <a:xfrm>
            <a:off x="1189080" y="3716280"/>
            <a:ext cx="67676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50920" y="3573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1187280" y="1268280"/>
            <a:ext cx="684072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1187280" y="6237360"/>
            <a:ext cx="684072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76360" y="1125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611280" y="6093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4" descr="africa-image"/>
          <p:cNvPicPr/>
          <p:nvPr/>
        </p:nvPicPr>
        <p:blipFill>
          <a:blip r:embed="rId1"/>
          <a:stretch/>
        </p:blipFill>
        <p:spPr>
          <a:xfrm>
            <a:off x="-36360" y="4678200"/>
            <a:ext cx="9180360" cy="2179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0" y="2349360"/>
            <a:ext cx="9144000" cy="2374920"/>
          </a:xfrm>
          <a:prstGeom prst="rect">
            <a:avLst/>
          </a:prstGeom>
          <a:solidFill>
            <a:srgbClr val="00b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008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0000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244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0000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3851280" y="2060640"/>
            <a:ext cx="2305080" cy="576360"/>
          </a:xfrm>
          <a:prstGeom prst="ellipse">
            <a:avLst/>
          </a:prstGeom>
          <a:solidFill>
            <a:srgbClr val="00b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zon007"/>
          <p:cNvPicPr/>
          <p:nvPr/>
        </p:nvPicPr>
        <p:blipFill>
          <a:blip r:embed="rId2"/>
          <a:stretch/>
        </p:blipFill>
        <p:spPr>
          <a:xfrm>
            <a:off x="4356000" y="69228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2"/>
          <p:cNvSpPr/>
          <p:nvPr/>
        </p:nvSpPr>
        <p:spPr>
          <a:xfrm>
            <a:off x="4716360" y="3068640"/>
            <a:ext cx="505080" cy="1297080"/>
          </a:xfrm>
          <a:prstGeom prst="upArrow">
            <a:avLst>
              <a:gd name="adj1" fmla="val 50000"/>
              <a:gd name="adj2" fmla="val 64202"/>
            </a:avLst>
          </a:pr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weer004"/>
          <p:cNvPicPr/>
          <p:nvPr/>
        </p:nvPicPr>
        <p:blipFill>
          <a:blip r:embed="rId3"/>
          <a:stretch/>
        </p:blipFill>
        <p:spPr>
          <a:xfrm>
            <a:off x="4211640" y="2349360"/>
            <a:ext cx="1512720" cy="116064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4"/>
          <p:cNvSpPr/>
          <p:nvPr/>
        </p:nvSpPr>
        <p:spPr>
          <a:xfrm flipH="1" rot="16167000">
            <a:off x="1295280" y="216900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161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 flipH="1" flipV="1" rot="16166400">
            <a:off x="7560000" y="216864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54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 flipH="1" rot="10733400">
            <a:off x="1617840" y="378936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 rot="10800000">
            <a:off x="7308360" y="3716280"/>
            <a:ext cx="1008360" cy="720720"/>
          </a:xfrm>
          <a:custGeom>
            <a:avLst/>
            <a:gdLst>
              <a:gd name="textAreaLeft" fmla="*/ 580320 w 1008360"/>
              <a:gd name="textAreaRight" fmla="*/ 895320 w 100836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8" descr="weer004"/>
          <p:cNvPicPr/>
          <p:nvPr/>
        </p:nvPicPr>
        <p:blipFill>
          <a:blip r:embed="rId4"/>
          <a:stretch/>
        </p:blipFill>
        <p:spPr>
          <a:xfrm>
            <a:off x="4932360" y="2565360"/>
            <a:ext cx="1512720" cy="116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weer004"/>
          <p:cNvPicPr/>
          <p:nvPr/>
        </p:nvPicPr>
        <p:blipFill>
          <a:blip r:embed="rId5"/>
          <a:stretch/>
        </p:blipFill>
        <p:spPr>
          <a:xfrm>
            <a:off x="3708360" y="2637000"/>
            <a:ext cx="1513080" cy="11602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0"/>
          <p:cNvSpPr/>
          <p:nvPr/>
        </p:nvSpPr>
        <p:spPr>
          <a:xfrm flipH="1" flipV="1" rot="10800000">
            <a:off x="5076720" y="1910160"/>
            <a:ext cx="2232000" cy="576360"/>
          </a:xfrm>
          <a:custGeom>
            <a:avLst/>
            <a:gdLst>
              <a:gd name="textAreaLeft" fmla="*/ 1284120 w 2232000"/>
              <a:gd name="textAreaRight" fmla="*/ 2011320 w 2232000"/>
              <a:gd name="textAreaTop" fmla="*/ 118800 h 576360"/>
              <a:gd name="textAreaBottom" fmla="*/ 2055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599" y="0"/>
                </a:lnTo>
                <a:lnTo>
                  <a:pt x="13599" y="4456"/>
                </a:lnTo>
                <a:lnTo>
                  <a:pt x="12427" y="4456"/>
                </a:lnTo>
                <a:cubicBezTo>
                  <a:pt x="5564" y="4456"/>
                  <a:pt x="0" y="7904"/>
                  <a:pt x="0" y="12158"/>
                </a:cubicBezTo>
                <a:lnTo>
                  <a:pt x="0" y="21600"/>
                </a:lnTo>
                <a:lnTo>
                  <a:pt x="3318" y="21600"/>
                </a:lnTo>
                <a:lnTo>
                  <a:pt x="3318" y="12158"/>
                </a:lnTo>
                <a:cubicBezTo>
                  <a:pt x="3318" y="9697"/>
                  <a:pt x="7396" y="7702"/>
                  <a:pt x="12427" y="7702"/>
                </a:cubicBezTo>
                <a:lnTo>
                  <a:pt x="13599" y="7702"/>
                </a:lnTo>
                <a:lnTo>
                  <a:pt x="1359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 flipV="1" rot="10800000">
            <a:off x="2771640" y="1916280"/>
            <a:ext cx="2160720" cy="576000"/>
          </a:xfrm>
          <a:custGeom>
            <a:avLst/>
            <a:gdLst>
              <a:gd name="textAreaLeft" fmla="*/ 1243080 w 2160720"/>
              <a:gd name="textAreaRight" fmla="*/ 1947240 w 2160720"/>
              <a:gd name="textAreaTop" fmla="*/ 118800 h 576000"/>
              <a:gd name="textAreaBottom" fmla="*/ 2052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599" y="0"/>
                </a:lnTo>
                <a:lnTo>
                  <a:pt x="13599" y="4456"/>
                </a:lnTo>
                <a:lnTo>
                  <a:pt x="12427" y="4456"/>
                </a:lnTo>
                <a:cubicBezTo>
                  <a:pt x="5564" y="4456"/>
                  <a:pt x="0" y="7904"/>
                  <a:pt x="0" y="12158"/>
                </a:cubicBezTo>
                <a:lnTo>
                  <a:pt x="0" y="21600"/>
                </a:lnTo>
                <a:lnTo>
                  <a:pt x="3318" y="21600"/>
                </a:lnTo>
                <a:lnTo>
                  <a:pt x="3318" y="12158"/>
                </a:lnTo>
                <a:cubicBezTo>
                  <a:pt x="3318" y="9697"/>
                  <a:pt x="7396" y="7702"/>
                  <a:pt x="12427" y="7702"/>
                </a:cubicBezTo>
                <a:lnTo>
                  <a:pt x="13599" y="7702"/>
                </a:lnTo>
                <a:lnTo>
                  <a:pt x="1359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2" descr="zon007"/>
          <p:cNvPicPr/>
          <p:nvPr/>
        </p:nvPicPr>
        <p:blipFill>
          <a:blip r:embed="rId6"/>
          <a:stretch/>
        </p:blipFill>
        <p:spPr>
          <a:xfrm>
            <a:off x="7885080" y="2997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3" descr="zon007"/>
          <p:cNvPicPr/>
          <p:nvPr/>
        </p:nvPicPr>
        <p:blipFill>
          <a:blip r:embed="rId7"/>
          <a:stretch/>
        </p:blipFill>
        <p:spPr>
          <a:xfrm>
            <a:off x="1332000" y="3068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4"/>
          <p:cNvSpPr/>
          <p:nvPr/>
        </p:nvSpPr>
        <p:spPr>
          <a:xfrm>
            <a:off x="5724360" y="314172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ijgingsre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324000" y="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rebuchet MS"/>
              </a:rPr>
              <a:t>1.3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  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395280" y="40464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B  Waardoor veraschilt de plantengroei op aar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4427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regenw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3203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ava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586728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ava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694836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tep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2195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tep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118728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woestij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774072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woestij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356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6" descr="savannah"/>
          <p:cNvPicPr/>
          <p:nvPr/>
        </p:nvPicPr>
        <p:blipFill>
          <a:blip r:embed="rId8"/>
          <a:stretch/>
        </p:blipFill>
        <p:spPr>
          <a:xfrm>
            <a:off x="3348000" y="4724280"/>
            <a:ext cx="1109880" cy="865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7" descr="savannah"/>
          <p:cNvPicPr/>
          <p:nvPr/>
        </p:nvPicPr>
        <p:blipFill>
          <a:blip r:embed="rId9"/>
          <a:stretch/>
        </p:blipFill>
        <p:spPr>
          <a:xfrm>
            <a:off x="5508720" y="4724280"/>
            <a:ext cx="1109520" cy="865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9" descr="jungle"/>
          <p:cNvPicPr/>
          <p:nvPr/>
        </p:nvPicPr>
        <p:blipFill>
          <a:blip r:embed="rId10"/>
          <a:stretch/>
        </p:blipFill>
        <p:spPr>
          <a:xfrm>
            <a:off x="4356000" y="4724280"/>
            <a:ext cx="1297080" cy="854280"/>
          </a:xfrm>
          <a:prstGeom prst="rect">
            <a:avLst/>
          </a:prstGeom>
          <a:ln w="0">
            <a:noFill/>
          </a:ln>
        </p:spPr>
      </p:pic>
      <p:sp>
        <p:nvSpPr>
          <p:cNvPr id="118" name="Line 7"/>
          <p:cNvSpPr/>
          <p:nvPr/>
        </p:nvSpPr>
        <p:spPr>
          <a:xfrm flipV="1">
            <a:off x="5003640" y="4752720"/>
            <a:ext cx="0" cy="22050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8" descr="tj8"/>
          <p:cNvPicPr/>
          <p:nvPr/>
        </p:nvPicPr>
        <p:blipFill>
          <a:blip r:embed="rId11"/>
          <a:stretch/>
        </p:blipFill>
        <p:spPr>
          <a:xfrm>
            <a:off x="4572000" y="4724280"/>
            <a:ext cx="1143000" cy="1486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0" descr="nature_795"/>
          <p:cNvPicPr/>
          <p:nvPr/>
        </p:nvPicPr>
        <p:blipFill>
          <a:blip r:embed="rId12"/>
          <a:stretch/>
        </p:blipFill>
        <p:spPr>
          <a:xfrm>
            <a:off x="1116000" y="4724280"/>
            <a:ext cx="1176480" cy="865440"/>
          </a:xfrm>
          <a:prstGeom prst="rect">
            <a:avLst/>
          </a:prstGeom>
          <a:ln w="0">
            <a:noFill/>
          </a:ln>
        </p:spPr>
      </p:pic>
      <p:sp>
        <p:nvSpPr>
          <p:cNvPr id="121" name="Line 9"/>
          <p:cNvSpPr/>
          <p:nvPr/>
        </p:nvSpPr>
        <p:spPr>
          <a:xfrm flipV="1">
            <a:off x="1692360" y="4752720"/>
            <a:ext cx="0" cy="2205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1" descr="nature_795"/>
          <p:cNvPicPr/>
          <p:nvPr/>
        </p:nvPicPr>
        <p:blipFill>
          <a:blip r:embed="rId13"/>
          <a:stretch/>
        </p:blipFill>
        <p:spPr>
          <a:xfrm>
            <a:off x="7643880" y="4724280"/>
            <a:ext cx="1176120" cy="86544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 flipV="1">
            <a:off x="8244000" y="4652640"/>
            <a:ext cx="0" cy="2205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2" descr="steppe"/>
          <p:cNvPicPr/>
          <p:nvPr/>
        </p:nvPicPr>
        <p:blipFill>
          <a:blip r:embed="rId14"/>
          <a:stretch/>
        </p:blipFill>
        <p:spPr>
          <a:xfrm>
            <a:off x="6588000" y="4724280"/>
            <a:ext cx="1079640" cy="865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3" descr="steppe"/>
          <p:cNvPicPr/>
          <p:nvPr/>
        </p:nvPicPr>
        <p:blipFill>
          <a:blip r:embed="rId15"/>
          <a:stretch/>
        </p:blipFill>
        <p:spPr>
          <a:xfrm>
            <a:off x="2268360" y="4724280"/>
            <a:ext cx="1079640" cy="865440"/>
          </a:xfrm>
          <a:prstGeom prst="rect">
            <a:avLst/>
          </a:prstGeom>
          <a:ln w="0">
            <a:noFill/>
          </a:ln>
        </p:spPr>
      </p:pic>
      <p:pic>
        <p:nvPicPr>
          <p:cNvPr id="126" name="MSj02567.wav" descr=""/>
          <p:cNvPicPr/>
          <p:nvPr/>
        </p:nvPicPr>
        <p:blipFill>
          <a:blip r:embed="rId16"/>
          <a:stretch/>
        </p:blipFill>
        <p:spPr>
          <a:xfrm>
            <a:off x="5076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99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2"/>
          <p:cNvSpPr/>
          <p:nvPr/>
        </p:nvSpPr>
        <p:spPr>
          <a:xfrm>
            <a:off x="3564000" y="3429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9:43:43Z</dcterms:created>
  <dc:creator>Rene Anjewierden</dc:creator>
  <dc:description/>
  <dc:language>en-US</dc:language>
  <cp:lastModifiedBy>Heuvelejvanden</cp:lastModifiedBy>
  <dcterms:modified xsi:type="dcterms:W3CDTF">2012-10-28T17:16:43Z</dcterms:modified>
  <cp:revision>8</cp:revision>
  <dc:subject/>
  <dc:title>Dia 1</dc:title>
</cp:coreProperties>
</file>