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8CF9-591A-40C9-8F17-69E954CEB5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577A-9D94-44C1-A0E9-ED5B94EC4C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52A0-AEC1-4042-B77A-AF05474589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A89-C431-4C34-9B02-CA8BB7B768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683A-0C98-4AB9-B2ED-F2FD9E45C4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74E9-DEFA-44C7-AA1E-A2F873D30D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0710-4DA0-4BB3-89F5-60827CEF26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C70-C42B-4083-895A-35DD63A51E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361C-B26F-48CA-96CF-D6D3E832C4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92DE-7FD0-4A8A-9756-2C2E5DA6E6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82C6-8FD8-4818-8D69-6647E3E53B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63F8-D283-47FA-A322-20116D7601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9ED-BBDF-4526-AE83-7C493C4AD6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E9B6-E8DB-4096-822A-64B98A2CE0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B5D-AD67-4424-85E3-B0E55BF2FE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9922-C546-4284-B271-E0BC39A027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Wat kun je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24000" y="1322280"/>
            <a:ext cx="5400720" cy="5235840"/>
            <a:chOff x="2124000" y="1322280"/>
            <a:chExt cx="5400720" cy="5235840"/>
          </a:xfrm>
        </p:grpSpPr>
        <p:pic>
          <p:nvPicPr>
            <p:cNvPr id="105" name="Picture 6" descr="mobility_town-roller-lo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177012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sx_NL_88493_3182-lo"/>
            <p:cNvPicPr/>
            <p:nvPr/>
          </p:nvPicPr>
          <p:blipFill>
            <a:blip r:embed="rId2"/>
            <a:stretch/>
          </p:blipFill>
          <p:spPr>
            <a:xfrm>
              <a:off x="5003640" y="1322280"/>
              <a:ext cx="252108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alstom_metro_L14_paris-lo"/>
            <p:cNvPicPr/>
            <p:nvPr/>
          </p:nvPicPr>
          <p:blipFill>
            <a:blip r:embed="rId3"/>
            <a:stretch/>
          </p:blipFill>
          <p:spPr>
            <a:xfrm>
              <a:off x="2124000" y="4221000"/>
              <a:ext cx="3351240" cy="23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UK-0091-lo"/>
            <p:cNvPicPr/>
            <p:nvPr/>
          </p:nvPicPr>
          <p:blipFill>
            <a:blip r:embed="rId4"/>
            <a:stretch/>
          </p:blipFill>
          <p:spPr>
            <a:xfrm>
              <a:off x="2124000" y="1341360"/>
              <a:ext cx="196704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auto staan voor korte afst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 lopen of neem de fiets of het openbaar vervo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met anderen mee of laat anderen met jou meerij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efficië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perk uw koolstofvoetafdru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ins-lo"/>
          <p:cNvPicPr/>
          <p:nvPr/>
        </p:nvPicPr>
        <p:blipFill>
          <a:blip r:embed="rId1"/>
          <a:stretch/>
        </p:blipFill>
        <p:spPr>
          <a:xfrm>
            <a:off x="1530360" y="1863720"/>
            <a:ext cx="60832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ergebruik tassen en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 glas, metaal en plas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producten met zo weinig mogelijk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p zoveel mogelijk vullingen voor navulpakken in plaats van nieuwe produc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cycling en hergebruik besparen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an je nog meer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35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oek naar de Europese milieukeur wanneer je huishoudtoestellen koo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voor houten producten die afkomstig zijn van duurzame bosbou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lokaal geproduceerde voedingsmiddelen die in het geschikte seizoen zijn gekwee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meer groenten. Het kweken van dieren vergt meer energ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t  documenten dubbelzijdig af ... wanneer je z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ch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p papier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ing op deze dingen aan bij familie en vriend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is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2347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ssen in de atmosfeer van de aarde houden warmte v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neemt toe als gevolg van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oenemende concentratie van gassen leidt tot een opwarming op lange termijn =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oeikasgassen worden van nature uit in de atmosfeer uitgesto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e emissies nemen toe door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dragsveranderingen kunnen de emissies vermind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ief reageren op klimaatverandering bespaard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vrag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issies, wat is dat eigenlijk?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lk gedrag zou je kunnen veranderen waardoor de emissies verminder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  En jij? Geef eens een voorbeel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iStock_000002325215-lo"/>
          <p:cNvPicPr/>
          <p:nvPr/>
        </p:nvPicPr>
        <p:blipFill>
          <a:blip r:embed="rId1"/>
          <a:stretch/>
        </p:blipFill>
        <p:spPr>
          <a:xfrm>
            <a:off x="2411280" y="1989000"/>
            <a:ext cx="3807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2131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temperatuur van uw verwarming één of twee graden lager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een timer zodat de verwarming enkel aanslaat wanneer dat nodig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koelkast niet op de koudste stan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oop energiezuinige produc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anneer u apparatuur en andere uitrusting moet vervang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loeilam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elkast, vriesk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ntrale ver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ame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dan voor energie-efficiënte mode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chakel apparatuur 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e het licht uit wanneer je geen extra verlichting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toestellen niet in stand-by 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aai de kraan dicht wanneer je je tanden poet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pil  ni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ef efficiënti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371600"/>
            <a:ext cx="7354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et wasmachines en vaatwassers pas aan wanneer ze volledig gevuld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een douche in plaats van een b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k enkel het water dat je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deur van de koelkast niet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ramen in de winter niet te lang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ats isola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bruik minder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2:16Z</dcterms:modified>
  <cp:revision>17</cp:revision>
  <dc:subject/>
  <dc:title>Slide 1</dc:title>
</cp:coreProperties>
</file>